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0130-A153-46F0-80B4-EA554B1F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55CB-A0A9-441E-8936-0E42DFFF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6FF9-55B0-4B56-9E8E-4B4F3673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C6E3-C385-4151-8C14-11914916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3497-7BF7-4439-8575-075287D1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D5B7-3A6A-4904-BBB1-565352A7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F951-2818-4AAB-B296-B7F041F8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8659-16B9-4BE9-ACEF-9EC2A90B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3FB8-0254-48E8-B730-EEB8F5B2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6943-250C-433C-9F3F-7510A800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C12B-7801-4983-88FE-C4554790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D537-3FBF-4754-8649-23E35095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EC3C-29AE-407F-AB98-7BC5D7F2C9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5348" t="0" r="2086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Arial"/>
                <a:ea typeface="黑体"/>
              </a:rPr>
              <a:t>肚子为什么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32320" y="189000"/>
            <a:ext cx="16434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00"/>
                </a:solidFill>
                <a:latin typeface="Arial"/>
                <a:ea typeface="黑体"/>
              </a:rPr>
              <a:t>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67640" y="0"/>
            <a:ext cx="93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00"/>
                </a:solidFill>
                <a:latin typeface="Arial"/>
                <a:ea typeface="黑体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23229" t="0" r="0" b="1413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11540" r="30759" b="17068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07:42:40Z</dcterms:created>
  <dc:creator>island</dc:creator>
  <dc:description/>
  <dc:language>en-US</dc:language>
  <cp:lastModifiedBy>island</cp:lastModifiedBy>
  <dcterms:modified xsi:type="dcterms:W3CDTF">2012-10-21T09:23:07Z</dcterms:modified>
  <cp:revision>7</cp:revision>
  <dc:subject/>
  <dc:title>幻灯片 1</dc:title>
</cp:coreProperties>
</file>