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681B-A8C8-4729-A522-1092323C5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57D6-DA1F-4597-AF23-43CC52355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6A34-7304-41BD-8D26-85A2700A6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5359-D6E3-4E84-816A-A1274E426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1FD4-2D13-483F-B12D-95A98D8A7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EA85-ECB8-402E-941A-B7279476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E548-9FBE-4304-A061-BBACD2F76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CE71-F3BF-4079-9AA6-B6D182DF1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00BD-3732-4870-997F-C7D05BE3C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3A3E-B0C9-4AF0-B50A-76D8E388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B445-1066-4C78-853F-F0BEDB6A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7770-DFD7-47AB-8355-AD619100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17809-1BC4-4107-9A93-621EFEE3F6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5348" t="0" r="20868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720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00"/>
                </a:solidFill>
                <a:latin typeface="Arial"/>
                <a:ea typeface="黑体"/>
              </a:rPr>
              <a:t>肚子为什么会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232320" y="189000"/>
            <a:ext cx="16434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3300"/>
                </a:solidFill>
                <a:latin typeface="Arial"/>
                <a:ea typeface="黑体"/>
              </a:rPr>
              <a:t>疼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67640" y="0"/>
            <a:ext cx="93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00"/>
                </a:solidFill>
                <a:latin typeface="Arial"/>
                <a:ea typeface="黑体"/>
              </a:rPr>
              <a:t>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23229" t="0" r="0" b="1413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62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" dur="2000" fill="hold"/>
                                        <p:tgtEl>
                                          <p:spTgt spid="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11540" r="30759" b="17068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1T07:42:40Z</dcterms:created>
  <dc:creator>island</dc:creator>
  <dc:description/>
  <dc:language>en-US</dc:language>
  <cp:lastModifiedBy>island</cp:lastModifiedBy>
  <dcterms:modified xsi:type="dcterms:W3CDTF">2012-10-21T09:23:07Z</dcterms:modified>
  <cp:revision>7</cp:revision>
  <dc:subject/>
  <dc:title>幻灯片 1</dc:title>
</cp:coreProperties>
</file>