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7F1-EA53-494B-8E85-FB08A6C2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D90-F433-488C-B9F3-27AF30E0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D4A-0D4B-4B75-B82F-512510A1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D610-347E-415A-9F39-969E4928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816-36FA-4360-8575-D30983BB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BE2E-D90D-4CF3-B594-D41DD5A9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B4C-4359-4010-A236-1D8915CD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77F4-A04F-439F-A114-D7C7547A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868-4075-4463-80A5-6C28E8F7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60C-1F97-4F90-9DC9-66A0EFF8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C85-549B-43C4-9BF2-7ACEB66B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20DF-B4EF-4C8E-BF20-C144105C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9C6A-3798-47D5-BFBE-656FA713B2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5348" t="0" r="2086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黑体"/>
              </a:rPr>
              <a:t>肚子为什么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32320" y="189000"/>
            <a:ext cx="16434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Arial"/>
                <a:ea typeface="黑体"/>
              </a:rPr>
              <a:t>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67640" y="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Arial"/>
                <a:ea typeface="黑体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3229" t="0" r="0" b="141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11540" r="30759" b="17068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7:42:40Z</dcterms:created>
  <dc:creator>island</dc:creator>
  <dc:description/>
  <dc:language>en-US</dc:language>
  <cp:lastModifiedBy>island</cp:lastModifiedBy>
  <dcterms:modified xsi:type="dcterms:W3CDTF">2012-10-21T09:23:07Z</dcterms:modified>
  <cp:revision>7</cp:revision>
  <dc:subject/>
  <dc:title>幻灯片 1</dc:title>
</cp:coreProperties>
</file>