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7D3-BA8B-4C6C-BDC4-FD7BF9C5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B1B-5A30-49D5-9F51-4C504276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567-6407-47B8-ABA6-0E00C0AF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F8C-2879-4B6A-9D9D-638A32F2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846-3EE8-44AC-9ABA-643D7D02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112-17E0-4FC1-ABBA-23A36B88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FCB-A9BA-45A3-ABE9-ECD43334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94C-E275-4843-841E-2F7FAC79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B0B-23BC-4C63-91BB-2615C20A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0FF-6E61-4AC9-8BE1-D0B4700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DE3-CABA-4AD2-BEA8-219A0421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A33-08B1-482C-8DA5-1BE1F09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F10B-1D2B-46F2-83CE-C8B5C0B350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348" t="0" r="2086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肚子为什么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32320" y="189000"/>
            <a:ext cx="1643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黑体"/>
              </a:rPr>
              <a:t>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3229" t="0" r="0" b="14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1540" r="30759" b="17068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42:40Z</dcterms:created>
  <dc:creator>island</dc:creator>
  <dc:description/>
  <dc:language>en-US</dc:language>
  <cp:lastModifiedBy>island</cp:lastModifiedBy>
  <dcterms:modified xsi:type="dcterms:W3CDTF">2012-10-21T09:23:07Z</dcterms:modified>
  <cp:revision>7</cp:revision>
  <dc:subject/>
  <dc:title>幻灯片 1</dc:title>
</cp:coreProperties>
</file>