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E75-A527-45A4-9278-72E7E14B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D15-16A0-47B0-9810-6EBBEF4F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4CC-B3F6-468B-98C7-9A57B5C5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19D-B034-4DCB-94E0-341DF869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B5B-EF0F-4EA6-ABC3-E5A6B941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9F1-54D8-4EC5-9376-9FA04205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115-D98A-4AB5-A3CC-83798318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D8C-1FF6-4934-A2DC-77C9A685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A85-FAA5-43E4-AD6F-7FE7C5D5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0B0B-1C84-4D3B-8B08-401F02F6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4C9B-3F36-4119-B5D7-0CD59523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D01-C02F-443D-A4D9-94AF1F92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EBB8-1C73-46FA-A712-0C50B7ACAE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5348" t="0" r="2086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黑体"/>
              </a:rPr>
              <a:t>肚子为什么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32320" y="189000"/>
            <a:ext cx="16434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Arial"/>
                <a:ea typeface="黑体"/>
              </a:rPr>
              <a:t>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67640" y="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Arial"/>
                <a:ea typeface="黑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3229" t="0" r="0" b="141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11540" r="30759" b="17068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7:42:40Z</dcterms:created>
  <dc:creator>island</dc:creator>
  <dc:description/>
  <dc:language>en-US</dc:language>
  <cp:lastModifiedBy>island</cp:lastModifiedBy>
  <dcterms:modified xsi:type="dcterms:W3CDTF">2012-10-21T09:23:07Z</dcterms:modified>
  <cp:revision>7</cp:revision>
  <dc:subject/>
  <dc:title>幻灯片 1</dc:title>
</cp:coreProperties>
</file>