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0BA8-E0DC-419D-9D06-1A8ED3E3B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375D-8C53-4204-910E-B4EA2588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5C46-366D-4785-B656-116801A7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105F-03BC-466F-8198-A171A7355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3357-E84E-4149-BFF0-CF5D76379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BD3A-725F-45E1-A1F7-C8373FA5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2262-1BEA-4288-A7F9-20C3CCBC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B446-5C84-4674-8460-73371CB3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16CD-16DA-40BC-8903-6A6344DB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8685-91A3-4719-926F-D46244D2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AB5E-944A-489A-ABA1-9A1E3356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6DF3-CFD7-43BF-AA36-02D4C675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B684-ACFD-4AF7-9BCA-ADD9F958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9A4B-B551-43B8-AF5F-094F1C27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1ACF-5123-440A-BC59-4A145C15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31FA-738F-4C85-A4C9-751B26F71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17F0-B7F9-4307-9E9C-E427EF86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BADE-55F9-4A15-95A5-3AB1955F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2B9E-BB93-4256-8F3E-B4F3872F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2F16-03F4-48E4-9821-02844598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1E01-F8D8-40D1-A503-0C7E7038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50D5-7DF3-4D10-8927-2751E4B6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D7AA-E829-4F62-8BD6-58C2D298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C9F9-6E71-4400-8355-C48F55DD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A7E9-2D9A-44A0-8F1C-6C96EB9F5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111D-5D4A-412E-9A97-FF07F4151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8"/>
          <p:cNvSpPr/>
          <p:nvPr/>
        </p:nvSpPr>
        <p:spPr>
          <a:xfrm>
            <a:off x="2743200" y="287640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辩人：冯博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专   业：中医学七年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导   师：王玉玺教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3874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内页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首页直接选择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3198960" y="2419200"/>
            <a:ext cx="320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谢谢观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PPT模板 </cp:keywords>
  <dc:language>en-US</dc:language>
  <cp:lastModifiedBy>Administrator</cp:lastModifiedBy>
  <dcterms:modified xsi:type="dcterms:W3CDTF">2015-06-26T11:16:52Z</dcterms:modified>
  <cp:revision>21</cp:revision>
  <dc:subject/>
  <dc:title>中国风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