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E6D-DAD2-417E-B64D-19480C10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417-FB3F-4B37-BD09-7FD586B7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347-EAE8-4B04-9F62-0D095814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9F3-1553-48F3-8FDC-0A94731B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8065-A815-4927-8EF5-51C69BC6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E99B-A3AC-4B25-80CC-724E427C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3CE7-CB1D-4CCE-969A-09215FA4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0824-B4EB-4E73-853B-6D52A0D3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71EB-633C-4423-895F-2D4232BB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F1E1-846C-4029-B57E-EBB58790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798E-992D-4805-B8A5-90ACF2A3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1C0-E102-47F9-A820-9C0960BD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2B65-B02E-4F6D-8247-418C0E30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FC8D-8AA2-4B49-9B56-BE9CD99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5962-17FC-4813-901E-3FFD40F8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5367-139C-4F8B-9D3D-B350A4DA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4B1F-C647-4FF7-A35C-C4921402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1E0-BD14-45BB-A314-F79D550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4D1-4288-46A2-B9A4-092B063E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843-F288-45B3-983C-F7590343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B0C-6360-4BB0-B5CA-D87B76FD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F1A-F599-4B58-8BB8-E72C8B4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C2D-5BBC-4702-A186-8983D9E1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8FE-09CC-4BAA-82D2-9804BD7F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5607-D8B5-42AE-AC3E-E0403DDA3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2311-450A-4612-8074-919D91DB0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2743200" y="28764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辩人：冯博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   业：中医学七年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导   师：王玉玺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874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198960" y="241920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Administrator</cp:lastModifiedBy>
  <dcterms:modified xsi:type="dcterms:W3CDTF">2015-06-26T11:16:52Z</dcterms:modified>
  <cp:revision>2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