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050-E869-4B72-8503-A228FC17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79A-6B5C-49DA-A7AC-F4CE3D2D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325-4CF5-4E56-B379-8A61B832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3D6-1B49-456A-8A16-8FBB73BC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6334-8AB4-4C3F-BDB4-4E1E6A46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693C-29EC-4DC2-B129-567BD912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E143-27CD-4ED2-8528-A7C54B29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8F62-9405-424D-B7D2-E7010E4A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8D95-3C3C-48EE-A9A0-47B0C1C1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A30C-CC21-4714-843B-6721CD7D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B49C-8094-477E-958E-42C3994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150-34AC-4FAA-943C-A2A5535A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444B-EB97-48F8-B383-89F6095A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C47B-C20C-4A83-BC82-86D9DC3D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3244-CFC2-4318-9A8C-355520C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F7CC-7589-45CB-9592-B8AA867D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A2E8-DC27-494B-AC03-B1AF71E2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197-1901-4CBA-ABD4-80B53C3E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E6A-5C0E-4D48-9442-3462A3EF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7D9-9F81-4F41-9311-E82BC703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4DB-4AC1-4E2E-A64D-7ED7DC87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B03-E6B7-4B7C-94CE-D56458C3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716-E453-4C9C-A8AD-972C1AC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263-B6B8-44C8-A2D7-41DB2EC5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B73C-3C8B-4074-8936-CC7F7242E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E96E-3BF6-40E0-B9F6-CE449BD61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743200" y="28764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辩人：冯博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   业：中医学七年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   师：王玉玺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Administrator</cp:lastModifiedBy>
  <dcterms:modified xsi:type="dcterms:W3CDTF">2015-06-26T11:16:52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