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E11A-3082-4441-89A2-FDAC30512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7128-BFCB-4533-82D2-04696DC8B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1D14-4A9F-4E7E-B6EF-BC62020BD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7665-66D9-49A9-8AAF-1E47AC406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CF336-27A0-4784-87C3-83125C849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9A04D-26D8-40A5-BB41-F8967B96C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63726-D6FA-4063-85BE-91226DA5C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D383F-935E-4974-89ED-B6CA6819E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A927D-D211-44CF-A155-1A4D2D7A5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8E739-E830-489B-9772-D4820D8B2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D3338-13ED-4555-98CC-051A0D6EF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4FF8-0D43-4278-93F2-FF9BE3101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BDD2C-0C9F-4017-A77F-218371359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4A055-9395-421F-B96A-85CB07EBC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F021E-F22D-48F3-A1AC-B03F37FDD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74B9A-D4B4-449A-AA5C-D86D3DE97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A0742-9ED3-42FD-87B6-285705CD0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33E5-84B5-4CEB-BFAC-C1262701E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0122-618F-4B70-BC81-C5AF27D5D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18FD-C831-48F9-8DF4-90F3E6738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52B1-95E2-48A8-BC8A-26FEF48F1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7C63-139A-4066-9A60-F5DEEFF0F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0826-B346-4795-85AA-AF21275FC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70F8-0FCB-4D46-A3B5-F8EE571D6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行楷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华文行楷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华文行楷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华文行楷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华文行楷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华文行楷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68172-0949-4BA3-8490-8B5E9E0FB5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行楷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华文行楷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华文行楷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华文行楷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华文行楷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华文行楷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EF1B5-F66E-40DD-A0E8-9B84B09AD0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8"/>
          <p:cNvSpPr/>
          <p:nvPr/>
        </p:nvSpPr>
        <p:spPr>
          <a:xfrm>
            <a:off x="2743200" y="2876400"/>
            <a:ext cx="2895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答辩人：冯博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专   业：中医学七年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导   师：王玉玺教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3874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行楷"/>
              </a:rPr>
              <a:t>配色方案修改：</a:t>
            </a:r>
            <a:endParaRPr b="0" lang="en-US" sz="2000" spc="-1" strike="noStrike">
              <a:solidFill>
                <a:srgbClr val="000000"/>
              </a:solidFill>
              <a:latin typeface="华文行楷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华文行楷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配色方案在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格式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幻灯片设计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配色方案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编辑配色方案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下调整。</a:t>
            </a:r>
            <a:endParaRPr b="0" lang="en-US" sz="1800" spc="-1" strike="noStrike">
              <a:solidFill>
                <a:srgbClr val="000000"/>
              </a:solidFill>
              <a:latin typeface="华文行楷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行楷"/>
              </a:rPr>
              <a:t>LOGO</a:t>
            </a:r>
            <a:r>
              <a:rPr b="0" lang="zh-CN" sz="2000" spc="-1" strike="noStrike">
                <a:solidFill>
                  <a:srgbClr val="000000"/>
                </a:solidFill>
                <a:latin typeface="华文行楷"/>
              </a:rPr>
              <a:t>的添加：</a:t>
            </a:r>
            <a:endParaRPr b="0" lang="en-US" sz="2000" spc="-1" strike="noStrike">
              <a:solidFill>
                <a:srgbClr val="000000"/>
              </a:solidFill>
              <a:latin typeface="华文行楷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华文行楷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内页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添加修改在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视图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母版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幻灯片母版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下调整。首页直接选择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图片删除或修改。</a:t>
            </a:r>
            <a:endParaRPr b="0" lang="en-US" sz="1800" spc="-1" strike="noStrike">
              <a:solidFill>
                <a:srgbClr val="000000"/>
              </a:solidFill>
              <a:latin typeface="华文行楷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行楷"/>
              </a:rPr>
              <a:t>字体格式的设置：</a:t>
            </a:r>
            <a:endParaRPr b="0" lang="en-US" sz="2000" spc="-1" strike="noStrike">
              <a:solidFill>
                <a:srgbClr val="000000"/>
              </a:solidFill>
              <a:latin typeface="华文行楷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华文行楷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括标题和文本格式的设置在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视图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母版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幻灯片母版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下调整。</a:t>
            </a:r>
            <a:endParaRPr b="0" lang="en-US" sz="1800" spc="-1" strike="noStrike">
              <a:solidFill>
                <a:srgbClr val="000000"/>
              </a:solidFill>
              <a:latin typeface="华文行楷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Box 3"/>
          <p:cNvSpPr/>
          <p:nvPr/>
        </p:nvSpPr>
        <p:spPr>
          <a:xfrm>
            <a:off x="3198960" y="2419200"/>
            <a:ext cx="3201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行楷"/>
                <a:ea typeface="华文行楷"/>
              </a:rPr>
              <a:t>谢谢观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PPT模板 </cp:keywords>
  <dc:language>en-US</dc:language>
  <cp:lastModifiedBy>Administrator</cp:lastModifiedBy>
  <dcterms:modified xsi:type="dcterms:W3CDTF">2015-06-26T11:16:52Z</dcterms:modified>
  <cp:revision>21</cp:revision>
  <dc:subject/>
  <dc:title>中国风PPT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