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DB91-095B-423D-A634-F842FB44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49B4-B6C6-4BAB-B342-13973972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6E42-0ADE-4D46-B9E4-1F7E5611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9080-6278-4E0D-945B-D2ADE67B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F25C-A477-4A4B-9C1B-AE2FDFE0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6451-1BB2-4377-AB27-43886D3A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801F-DDC0-4723-99F5-BAF309DB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2E13-ABB8-4F65-8AB4-735D7BE3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F0AF-2AB6-47F4-A10F-E484DC6C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A033-C162-40CC-BE43-C3767B45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DF61-4ADB-494C-9758-C4D7098F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384-3666-484B-BB4F-E1160318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93A0-91B2-4A0D-AB8C-03B3DB0D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4860-8BA6-461E-A194-9728562C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67F5-CF0A-4B4D-8E7B-B13C93DE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785F-107B-40B9-9A45-E28CA6A0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6EAC-6A95-4265-91A0-787EF68F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40F5-EDA4-4D38-8706-325F9E42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6017-2ACC-4834-ABAE-2D456195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319-37E6-4286-999E-958F0701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F8F-C930-4AF8-AD96-6879C3A8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F9CA-414C-4253-A73B-2DFF312E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552D-6DD6-42AF-B29D-EF5BF237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44A1-967E-441C-AC7E-0038325E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37FC-D765-4C4A-94B6-23E3A2542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92A5-9B62-4F42-B0BD-3DFC381E5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2743200" y="28764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辩人：冯博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   业：中医学七年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导   师：王玉玺教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874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内页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首页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3198960" y="2419200"/>
            <a:ext cx="32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PPT模板 </cp:keywords>
  <dc:language>en-US</dc:language>
  <cp:lastModifiedBy>Administrator</cp:lastModifiedBy>
  <dcterms:modified xsi:type="dcterms:W3CDTF">2015-06-26T11:16:52Z</dcterms:modified>
  <cp:revision>21</cp:revision>
  <dc:subject/>
  <dc:title>中国风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