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1EF-57A5-4BB2-8E8B-DECF1504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3A8-FAD2-4946-8645-7976D685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AD5-104A-4159-AE90-8226948A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F76-BB65-4583-B09A-441E2C1A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C67A-6A4F-4A37-9DCB-0770D6CC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F786-525E-45B9-AA65-0164C08F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2D9C-4C4A-4B5B-9236-C8B6166A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D301-4950-4163-B7B9-9993FB89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190A-FE13-4DCE-B6C3-94299BA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2BCD-6B8E-4595-8BF1-539DA7FD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3C3B-DAEA-45C7-80EE-852A2C1E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CC3-9621-47BB-BCDC-DF82EA01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F65F-B703-46DC-B85B-DF7A212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29CE-9ED9-410A-A9A5-F70EA5A9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548F-49AD-42C8-A175-B5DD0E9D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1E7E-7181-4BF8-A90E-1D9D1935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2CEB-6706-4078-B5CC-93D96852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03C-2859-4455-997C-59BDE49F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095-2C55-4563-879B-B9523291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B34-1D01-4566-8AAA-6024EDC0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25B-A703-4662-B756-D43D7023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E0FD-3F7F-41CE-B3C4-32170A4C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FBF-3384-46DB-89D1-9B4A54B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1DB-2D4D-4BF3-9BE0-FE046FB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920E-D048-4491-B39B-F04B62756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4B3E-F2C3-480C-9834-AD2CFA082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743200" y="28764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辩人：冯博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   业：中医学七年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   师：王玉玺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Administrator</cp:lastModifiedBy>
  <dcterms:modified xsi:type="dcterms:W3CDTF">2015-06-26T11:16:52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