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CCB-A509-4D62-9ABC-AFDF7819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DF3-8700-4124-BEE1-32FEE96A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EAA-E178-4D17-A5E6-9188BD3D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07A-8F61-4E02-93C7-68ED5776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BAB8-EC20-4CF0-AE0D-B9E91A22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4269-CD22-4500-80F8-5325CCD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2182-01A1-46EF-A459-510A6AA2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E53A-FD4E-4B55-BB03-22908994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C4D4-543C-4450-BDFA-314159A4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650F-43E3-41C0-B79A-FBEDB597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94E0-336C-4EC8-8D14-5590692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32D-D096-4AFD-A0B2-33B5F4FC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8410-F1C8-45C7-B51F-F1D5EA7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149E-6697-4D36-B43E-B94B022E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3038-D5CE-4478-A534-077A936F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951F-02E9-4257-A11D-069D4CAC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4BA7-6273-4117-9C12-0E9B3189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680-5EAC-47F2-B760-9CE6D6B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89B-8B9E-4E4D-BE32-A3D5D1D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410-E3F5-492E-9F29-16E7AC33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E32-5FA8-4BA2-A900-99D9A77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A76-D3F6-4257-859B-3C858D5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E29-F416-4A61-AD29-873756A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5BF-CEC6-4F86-8BAC-62860D33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F73B-4B2D-47CC-9728-EFFC48D52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4EBF-8CDC-4627-A1AC-A1252E7E8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743200" y="28764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人：冯博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   业：中医学七年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   师：王玉玺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Administrator</cp:lastModifiedBy>
  <dcterms:modified xsi:type="dcterms:W3CDTF">2015-06-26T11:16:52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