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A81E-B502-49C0-894F-30A569D46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AFC4-2207-4FAC-A57F-51547D39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F193-BDF2-455C-AC83-B46B380CF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B683-302E-44E3-A823-DA3952089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65C7-E736-42BE-9AD3-99A4EA381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BFBC-83F0-412C-925C-6796F5CB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B914-5F0A-447F-9C36-2579C89D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DB18-51AB-4FDC-ABE5-7D83340F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D542-A590-4C32-B66C-B4051D9D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0E9E-B7D3-4F34-8C6A-6FC322C9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E0A7-E1FD-46E0-BEA3-4A14E310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396C-DF64-4FC3-8B2D-BBF01F27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E3E9-B387-479C-A295-AE133B22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508B-01E0-4D9D-A9CF-0F586F1E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AA9A-7E35-41BF-9575-DCB5E3E5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33EA-D1BE-47BD-BA66-1D21CDC2D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79D5-8B39-4A7C-BF7D-74AC05329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3E88-8829-4687-8545-05CF0542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03A7-C803-45EC-918C-68D4C1EB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C492-C1FF-47E3-985C-DA67ECB9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AD20-8C52-4294-94B6-D50C90C5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2D9B-DE32-4ABE-999C-9BB2C056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8128-0E36-4340-A4C1-F6CE6B36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BD83-330D-4B04-97B6-4F63ECD2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4B99-B4EF-4E91-8262-364B14841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F189-00BE-4F75-BEE8-E31F48012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8"/>
          <p:cNvSpPr/>
          <p:nvPr/>
        </p:nvSpPr>
        <p:spPr>
          <a:xfrm>
            <a:off x="2743200" y="287640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辩人：冯博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专   业：中医学七年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导   师：王玉玺教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3874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内页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首页直接选择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3198960" y="2419200"/>
            <a:ext cx="320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谢谢观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PPT模板 </cp:keywords>
  <dc:language>en-US</dc:language>
  <cp:lastModifiedBy>Administrator</cp:lastModifiedBy>
  <dcterms:modified xsi:type="dcterms:W3CDTF">2015-06-26T11:16:52Z</dcterms:modified>
  <cp:revision>21</cp:revision>
  <dc:subject/>
  <dc:title>中国风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