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3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26.png" ContentType="image/png"/>
  <Override PartName="/ppt/media/image17.jpeg" ContentType="image/jpeg"/>
  <Override PartName="/ppt/media/image16.jpeg" ContentType="image/jpeg"/>
  <Override PartName="/ppt/media/image39.gif" ContentType="image/gif"/>
  <Override PartName="/ppt/media/image15.jpeg" ContentType="image/jpeg"/>
  <Override PartName="/ppt/media/image12.jpeg" ContentType="image/jpeg"/>
  <Override PartName="/ppt/media/image13.png" ContentType="image/pn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2.jpeg" ContentType="image/jpeg"/>
  <Override PartName="/ppt/media/image5.jpeg" ContentType="image/jpeg"/>
  <Override PartName="/ppt/media/image34.jpeg" ContentType="image/jpeg"/>
  <Override PartName="/ppt/media/image37.png" ContentType="image/png"/>
  <Override PartName="/ppt/media/image31.jpeg" ContentType="image/jpeg"/>
  <Override PartName="/ppt/media/image4.jpeg" ContentType="image/jpeg"/>
  <Override PartName="/ppt/media/image25.jpeg" ContentType="image/jpeg"/>
  <Override PartName="/ppt/media/image38.gif" ContentType="image/gif"/>
  <Override PartName="/ppt/media/image40.gif" ContentType="image/gif"/>
  <Override PartName="/ppt/media/image6.png" ContentType="image/png"/>
  <Override PartName="/ppt/media/image10.jpeg" ContentType="image/jpeg"/>
  <Override PartName="/ppt/media/image7.jpeg" ContentType="image/jpeg"/>
  <Override PartName="/ppt/media/image28.png" ContentType="image/png"/>
  <Override PartName="/ppt/media/image29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D342F-1ECE-410D-A3E9-F2515FF75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01C82-DEF0-4891-AE8B-DD0AB2E4F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316FD-0CD6-43A2-8BF4-CBC001706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5199B-E1BC-4DB3-8ED8-5B72B4A81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F3379-7F6A-418E-83D3-D090D16DA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C6E32-E9BA-4FE7-BB59-9C1AB4DDB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041FE-0E1D-4C83-96A7-EB07ECC44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BECE1-C585-4DDD-B3F3-3D0617CC2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A44FD-96F4-44F2-86C8-543609053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FD07D-DDB1-4E31-9C4F-7D1E314BB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2EAC7-86FA-40CA-A269-EDC27CAE0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09F87-7AFE-43D9-9C91-377AD172E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387F5-8A61-4F5C-9D02-E540A9B5B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C8970-32E0-4924-8D93-B9B74DD13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CDCA1-BE8D-4AC5-8942-E90C3C2E8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54871-2560-4F38-BA7D-DC98CAF4A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D8C1A-C1B6-428A-9CA4-313AA0816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F2AA0-81B0-438A-8079-0B887F367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FDFF3-B46F-444A-8A99-BF4BEA502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86C2A-6911-43C1-A5E6-7D301F261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862BE-95D3-4D83-8303-DB676A8E7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C47F7-086F-4FE7-AF42-9FB6F23E4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6661F-961A-4F69-90FA-67C42C251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BCF09-48F3-4230-9B6A-491A5294E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936A4-78FF-4644-B75D-A4C7996B96A4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E2165-FC98-4A31-85D8-0FAE0ABDF906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5.jpe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image" Target="../media/image37.png"/><Relationship Id="rId6" Type="http://schemas.openxmlformats.org/officeDocument/2006/relationships/slideLayout" Target="../slideLayouts/slideLayout1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image" Target="../media/image38.gif"/><Relationship Id="rId4" Type="http://schemas.openxmlformats.org/officeDocument/2006/relationships/image" Target="../media/image39.gif"/><Relationship Id="rId5" Type="http://schemas.openxmlformats.org/officeDocument/2006/relationships/image" Target="../media/image40.gif"/><Relationship Id="rId6" Type="http://schemas.openxmlformats.org/officeDocument/2006/relationships/slideLayout" Target="../slideLayouts/slideLayout2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3774960" y="3659040"/>
            <a:ext cx="200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执教：后西小学  黄志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0" y="1700280"/>
            <a:ext cx="9144000" cy="396072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 txBox="1"/>
          <p:nvPr/>
        </p:nvSpPr>
        <p:spPr>
          <a:xfrm>
            <a:off x="971640" y="692280"/>
            <a:ext cx="761976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0000ff"/>
                </a:solidFill>
                <a:effectLst>
                  <a:outerShdw dist="28496" dir="17774481" blurRad="0" rotWithShape="0">
                    <a:srgbClr val="ffff66">
                      <a:alpha val="80000"/>
                    </a:srgbClr>
                  </a:outerShdw>
                </a:effectLst>
                <a:latin typeface="黑体"/>
              </a:rPr>
              <a:t>自己的花是让别人看的</a:t>
            </a:r>
            <a:endParaRPr b="1" lang="en-US" sz="6000" spc="1" strike="noStrike">
              <a:ln w="9360">
                <a:solidFill>
                  <a:srgbClr val="ffff00"/>
                </a:solidFill>
                <a:miter/>
              </a:ln>
              <a:solidFill>
                <a:srgbClr val="0000ff"/>
              </a:solidFill>
              <a:effectLst>
                <a:outerShdw dist="28496" dir="17774481" blurRad="0" rotWithShape="0">
                  <a:srgbClr val="ffff66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85" name=""/>
          <p:cNvSpPr/>
          <p:nvPr/>
        </p:nvSpPr>
        <p:spPr>
          <a:xfrm>
            <a:off x="1763640" y="5851440"/>
            <a:ext cx="3605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 u="sng">
                <a:solidFill>
                  <a:srgbClr val="0000ff"/>
                </a:solidFill>
                <a:uFillTx/>
                <a:latin typeface="Arial"/>
                <a:ea typeface="宋体"/>
              </a:rPr>
              <a:t>第一课时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92720" y="981000"/>
            <a:ext cx="34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福临大教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newsflash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1403280" y="0"/>
            <a:ext cx="572472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7299000" y="907920"/>
            <a:ext cx="72900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科隆大教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8000" y="0"/>
            <a:ext cx="9036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50920" y="0"/>
            <a:ext cx="374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99"/>
                </a:solidFill>
                <a:latin typeface="Arial"/>
                <a:ea typeface="宋体"/>
              </a:rPr>
              <a:t>山中的天鹅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0" y="115920"/>
            <a:ext cx="9252000" cy="674208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468360" y="1125360"/>
            <a:ext cx="361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66"/>
                </a:solidFill>
                <a:latin typeface="Arial"/>
                <a:ea typeface="宋体"/>
              </a:rPr>
              <a:t>山中的天鹅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1979640" y="981000"/>
            <a:ext cx="51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莱茵河边的小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611280" y="765000"/>
            <a:ext cx="33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德国的慕尼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">
    <p:plus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2484360" y="836640"/>
            <a:ext cx="36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德国的莱茵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000">
    <p:wheel spokes="8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3132000" y="404640"/>
            <a:ext cx="352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蓝色多瑙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250920" y="1197000"/>
            <a:ext cx="57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楷体_GB2312"/>
              </a:rPr>
              <a:t>这是德国的一所城市哥廷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newsflash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340000" y="0"/>
            <a:ext cx="5184720" cy="685800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826920" y="1341360"/>
            <a:ext cx="649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楷体_GB2312"/>
              </a:rPr>
              <a:t>哥</a:t>
            </a: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楷体_GB2312"/>
              </a:rPr>
              <a:t>廷</a:t>
            </a: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楷体_GB2312"/>
              </a:rPr>
              <a:t>根</a:t>
            </a: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楷体_GB2312"/>
              </a:rPr>
              <a:t>大</a:t>
            </a: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楷体_GB2312"/>
              </a:rPr>
              <a:t>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4859280" y="0"/>
            <a:ext cx="4284720" cy="68580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250920" y="2242080"/>
            <a:ext cx="3816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ff"/>
                </a:solidFill>
                <a:latin typeface="Arial"/>
                <a:ea typeface="宋体"/>
              </a:rPr>
              <a:t>             </a:t>
            </a:r>
            <a:r>
              <a:rPr b="0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这所大学已孕育了</a:t>
            </a:r>
            <a:r>
              <a:rPr b="0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30</a:t>
            </a:r>
            <a:r>
              <a:rPr b="0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位诺贝尔奖得主。我国著名的语言学家季羡林先生曾求学于哥廷根大学。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3"/>
          <a:stretch/>
        </p:blipFill>
        <p:spPr>
          <a:xfrm>
            <a:off x="4067280" y="0"/>
            <a:ext cx="5076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8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2050920" y="189000"/>
            <a:ext cx="4843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学习目标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1'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028240" y="1125360"/>
            <a:ext cx="530136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、认识生字词，正确读写“天性、宇宙、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切、脊梁、家家户户、莞尔一笑、花团锦族、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紫嫣红、应接不暇、耐人寻味”等词语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、有感情的朗读课文，背诵课文第三自然段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积累课文中的优美语言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、了解作者所介绍的德国风景与风俗特点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结合上下文与生活实际体会含义深刻的语句，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中受到启示与教育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108000" y="836280"/>
            <a:ext cx="35272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楷体_GB2312"/>
              </a:rPr>
              <a:t>季羡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我国著名的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国学大师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学贯中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西，融汇古今，精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国语言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年轻时曾留学德国十年，后著有留学回忆录《留德十年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140360" y="0"/>
            <a:ext cx="5003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-252360" y="-1713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1604520" y="1413000"/>
            <a:ext cx="59461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、读课文，自学生字词，读准字音，读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句子，把你喜欢的句子和词语分别用“—”和“～～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划下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、边读边想课文的主要内容是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03480" y="17640"/>
            <a:ext cx="5132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自主学习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20'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3500280"/>
            <a:ext cx="8675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、说说为什么自己的花是让别人看的？作  者从中领悟到了什么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2484360" y="1989000"/>
            <a:ext cx="3959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3300"/>
                </a:solidFill>
                <a:latin typeface="Arial"/>
                <a:ea typeface="宋体"/>
              </a:rPr>
              <a:t>脊   莞    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835280" y="3357720"/>
            <a:ext cx="604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3300"/>
                </a:solidFill>
                <a:latin typeface="Arial"/>
                <a:ea typeface="宋体"/>
              </a:rPr>
              <a:t>姹   嫣   暇    颇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023840" y="620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85800" y="609480"/>
            <a:ext cx="327672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生   字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284720" y="333360"/>
            <a:ext cx="5183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隶书"/>
              </a:rPr>
              <a:t>检查交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10'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1859040" y="1268280"/>
            <a:ext cx="599616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宋体"/>
              </a:rPr>
              <a:t>天性      宇宙      真切     脊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宋体"/>
              </a:rPr>
              <a:t>家家户户    莞尔一笑     花团锦簇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宋体"/>
              </a:rPr>
              <a:t>姹紫嫣红    应接不暇     耐人寻味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宋体"/>
              </a:rPr>
              <a:t>家家户户    耐人寻味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826920" y="333360"/>
            <a:ext cx="2880000" cy="792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词   语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587160" y="836640"/>
            <a:ext cx="14000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房东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莞尔一笑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花团锦簇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姹紫嫣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521800" y="907920"/>
            <a:ext cx="4989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出租或出借房屋的人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相对“房客”而言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)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928960" y="1816200"/>
            <a:ext cx="372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形容微笑的样子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多指女性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)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124000" y="2852640"/>
            <a:ext cx="669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形容五彩缤纷、十分华丽的景象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369040" y="3789360"/>
            <a:ext cx="577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嫣：娇艳。形容各种好看的花娇艳绚丽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950760" y="331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11280" y="0"/>
            <a:ext cx="2736720" cy="69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104840" y="2376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理 解 词 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2319480" y="162000"/>
            <a:ext cx="5276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当堂检测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5'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142440" y="28526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Arial"/>
                <a:ea typeface="宋体"/>
              </a:rPr>
              <a:t>听写词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3774960" y="3659040"/>
            <a:ext cx="200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执教：后西小学  黄志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0" y="1700280"/>
            <a:ext cx="9144000" cy="396072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 txBox="1"/>
          <p:nvPr/>
        </p:nvSpPr>
        <p:spPr>
          <a:xfrm>
            <a:off x="971640" y="692280"/>
            <a:ext cx="761976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0000ff"/>
                </a:solidFill>
                <a:effectLst>
                  <a:outerShdw dist="28496" dir="17774481" blurRad="0" rotWithShape="0">
                    <a:srgbClr val="ffff66">
                      <a:alpha val="80000"/>
                    </a:srgbClr>
                  </a:outerShdw>
                </a:effectLst>
                <a:latin typeface="黑体"/>
              </a:rPr>
              <a:t>自己的花是让别人看的</a:t>
            </a:r>
            <a:endParaRPr b="1" lang="en-US" sz="6000" spc="1" strike="noStrike">
              <a:ln w="9360">
                <a:solidFill>
                  <a:srgbClr val="ffff00"/>
                </a:solidFill>
                <a:miter/>
              </a:ln>
              <a:solidFill>
                <a:srgbClr val="0000ff"/>
              </a:solidFill>
              <a:effectLst>
                <a:outerShdw dist="28496" dir="17774481" blurRad="0" rotWithShape="0">
                  <a:srgbClr val="ffff66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184" name=""/>
          <p:cNvSpPr/>
          <p:nvPr/>
        </p:nvSpPr>
        <p:spPr>
          <a:xfrm>
            <a:off x="2741760" y="5851440"/>
            <a:ext cx="2009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 u="sng">
                <a:solidFill>
                  <a:srgbClr val="0000ff"/>
                </a:solidFill>
                <a:uFillTx/>
                <a:latin typeface="Arial"/>
                <a:ea typeface="宋体"/>
              </a:rPr>
              <a:t>第二课时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1166760" y="69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50920" y="115920"/>
            <a:ext cx="4897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  <a:ea typeface="隶书"/>
              </a:rPr>
              <a:t>双基回顾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2'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24000" y="125568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000"/>
              </a:spcBef>
              <a:spcAft>
                <a:spcPts val="50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1268280"/>
            <a:ext cx="184579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3200" spc="-1" strike="noStrike">
                <a:solidFill>
                  <a:srgbClr val="cc3300"/>
                </a:solidFill>
                <a:latin typeface="Arial"/>
                <a:ea typeface="宋体"/>
              </a:rPr>
              <a:t>桃红    粉红      雪白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Arial"/>
                <a:ea typeface="宋体"/>
              </a:rPr>
              <a:t>   </a:t>
            </a:r>
            <a:r>
              <a:rPr b="1" lang="zh-CN" sz="3200" spc="-1" strike="noStrike">
                <a:solidFill>
                  <a:srgbClr val="cc3300"/>
                </a:solidFill>
                <a:latin typeface="Arial"/>
                <a:ea typeface="宋体"/>
              </a:rPr>
              <a:t>色彩斑斓     五彩缤纷      色彩缤纷     多姿多彩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Arial"/>
                <a:ea typeface="宋体"/>
              </a:rPr>
              <a:t>   </a:t>
            </a:r>
            <a:r>
              <a:rPr b="1" lang="zh-CN" sz="3200" spc="-1" strike="noStrike">
                <a:solidFill>
                  <a:srgbClr val="cc3300"/>
                </a:solidFill>
                <a:latin typeface="Arial"/>
                <a:ea typeface="宋体"/>
              </a:rPr>
              <a:t>争奇斗艳      竞相开放     绚丽多姿     绚丽多彩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Arial"/>
                <a:ea typeface="宋体"/>
              </a:rPr>
              <a:t>   </a:t>
            </a:r>
            <a:r>
              <a:rPr b="1" lang="zh-CN" sz="3200" spc="-1" strike="noStrike">
                <a:solidFill>
                  <a:srgbClr val="cc3300"/>
                </a:solidFill>
                <a:latin typeface="Arial"/>
                <a:ea typeface="宋体"/>
              </a:rPr>
              <a:t>婀娜多姿     亭亭玉立     芳香四溢      万紫千红</a:t>
            </a:r>
            <a:r>
              <a:rPr b="0" lang="zh-CN" sz="3200" spc="-1" strike="noStrike">
                <a:solidFill>
                  <a:srgbClr val="cc3300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Arial"/>
                <a:ea typeface="宋体"/>
              </a:rPr>
              <a:t>   </a:t>
            </a:r>
            <a:r>
              <a:rPr b="1" lang="zh-CN" sz="3200" spc="-1" strike="noStrike">
                <a:solidFill>
                  <a:srgbClr val="cc3300"/>
                </a:solidFill>
                <a:latin typeface="Arial"/>
                <a:ea typeface="宋体"/>
              </a:rPr>
              <a:t>姹紫嫣红     花团锦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8" descr="051008korea03"/>
          <p:cNvPicPr/>
          <p:nvPr/>
        </p:nvPicPr>
        <p:blipFill>
          <a:blip r:embed="rId2"/>
          <a:stretch/>
        </p:blipFill>
        <p:spPr>
          <a:xfrm>
            <a:off x="0" y="0"/>
            <a:ext cx="9360000" cy="7074000"/>
          </a:xfrm>
          <a:prstGeom prst="rect">
            <a:avLst/>
          </a:prstGeom>
          <a:ln w="0">
            <a:noFill/>
          </a:ln>
        </p:spPr>
      </p:pic>
      <p:sp>
        <p:nvSpPr>
          <p:cNvPr id="191" name="Rectangle 10"/>
          <p:cNvSpPr/>
          <p:nvPr/>
        </p:nvSpPr>
        <p:spPr>
          <a:xfrm>
            <a:off x="900000" y="765000"/>
            <a:ext cx="7704360" cy="28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6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多么奇丽的景色！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</a:t>
            </a:r>
            <a:r>
              <a:rPr b="1" lang="zh-CN" sz="6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多么奇特的民族！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1671480" y="338040"/>
            <a:ext cx="6716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合作学习一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8+7+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651040" y="136044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朗读课文，想一想作者在德国看到了一种怎样奇丽的景色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课文是怎样描写的？为什么说是奇特的民族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68360" y="2781360"/>
            <a:ext cx="8431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温馨提示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99"/>
                </a:solidFill>
                <a:latin typeface="Arial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1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、找出文中描写奇丽景色的句子，画出句子中体现奇丽景色的词语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2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、找出文中描写民族奇特的句子，说说让你感到奇特的理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239840" y="404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395280" y="260280"/>
            <a:ext cx="2079720" cy="56052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2080080" y="836640"/>
            <a:ext cx="5124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能歌善舞的民族        烤羊肉串    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葡萄干                      哈密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195640" y="2060640"/>
            <a:ext cx="3384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Arial"/>
                <a:ea typeface="隶书"/>
              </a:rPr>
              <a:t>维吾尔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708360" y="4253040"/>
            <a:ext cx="2158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Arial"/>
                <a:ea typeface="隶书"/>
              </a:rPr>
              <a:t>藏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45320" y="3284640"/>
            <a:ext cx="5164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酥油茶    哈达   布达拉宫   雪顿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194720" y="108000"/>
            <a:ext cx="50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3'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3236760" y="907920"/>
            <a:ext cx="3341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家家户户都在养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宋体"/>
              </a:rPr>
              <a:t>花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。他们的花不像在中国那样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养在屋子里，他们是把花栽种在临街窗户的外面。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宋体"/>
              </a:rPr>
              <a:t>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宋体"/>
              </a:rPr>
              <a:t>朵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都朝外开，在屋子里只能看到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宋体"/>
              </a:rPr>
              <a:t>花的脊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7" descr=""/>
          <p:cNvPicPr/>
          <p:nvPr/>
        </p:nvPicPr>
        <p:blipFill>
          <a:blip r:embed="rId3"/>
          <a:stretch/>
        </p:blipFill>
        <p:spPr>
          <a:xfrm>
            <a:off x="611280" y="3357720"/>
            <a:ext cx="3851280" cy="288900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8" descr=""/>
          <p:cNvPicPr/>
          <p:nvPr/>
        </p:nvPicPr>
        <p:blipFill>
          <a:blip r:embed="rId4"/>
          <a:stretch/>
        </p:blipFill>
        <p:spPr>
          <a:xfrm>
            <a:off x="4716360" y="3357720"/>
            <a:ext cx="3888000" cy="29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879480" y="547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468360" y="333360"/>
            <a:ext cx="2079720" cy="56052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4407120" y="1413000"/>
            <a:ext cx="791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宋体"/>
              </a:rPr>
              <a:t>花朵都朝外开，在屋子里只能看到花的脊梁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0" y="2060640"/>
            <a:ext cx="93042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宋体"/>
              </a:rPr>
              <a:t>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宋体"/>
              </a:rPr>
              <a:t>这句话承接上一句，进一步点明了德国人养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宋体"/>
              </a:rPr>
              <a:t>的与众不同之处。因为花朵都朝外开，那么在屋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宋体"/>
              </a:rPr>
              <a:t>看到的“花的脊梁”就是花朵的背面。显然，德国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宋体"/>
              </a:rPr>
              <a:t>养花是给别人看的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453680" y="692280"/>
            <a:ext cx="131076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buClr>
                <a:srgbClr val="00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品 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971640" y="1197000"/>
            <a:ext cx="74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66"/>
                </a:solidFill>
                <a:latin typeface="黑体"/>
                <a:ea typeface="黑体"/>
              </a:rPr>
              <a:t>     </a:t>
            </a:r>
            <a:r>
              <a:rPr b="1" lang="zh-CN" sz="3600" spc="-1" strike="noStrike">
                <a:solidFill>
                  <a:srgbClr val="cc0066"/>
                </a:solidFill>
                <a:latin typeface="黑体"/>
                <a:ea typeface="黑体"/>
              </a:rPr>
              <a:t>走过任何一条街，抬头向上看，家家户户的窗子前都是花团锦簇、姹紫嫣红。许多窗子连接在一起，汇成了一个花的海洋，让我们看的人如入山阴道上，应接不暇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971640" y="1197000"/>
            <a:ext cx="741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66"/>
                </a:solidFill>
                <a:latin typeface="黑体"/>
                <a:ea typeface="黑体"/>
              </a:rPr>
              <a:t>     </a:t>
            </a:r>
            <a:r>
              <a:rPr b="1" lang="zh-CN" sz="3600" spc="-1" strike="noStrike">
                <a:solidFill>
                  <a:srgbClr val="cc0066"/>
                </a:solidFill>
                <a:latin typeface="黑体"/>
                <a:ea typeface="黑体"/>
              </a:rPr>
              <a:t>走过任何一条街，抬头向上看，家家户户的窗子前都是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花团锦簇、姹紫嫣红</a:t>
            </a:r>
            <a:r>
              <a:rPr b="1" lang="zh-CN" sz="3600" spc="-1" strike="noStrike">
                <a:solidFill>
                  <a:srgbClr val="cc0066"/>
                </a:solidFill>
                <a:latin typeface="黑体"/>
                <a:ea typeface="黑体"/>
              </a:rPr>
              <a:t>。许多窗子连接在一起，汇成了一个花的海洋，让我们看的人如入山阴道上，应接不暇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73408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3132000" y="5805360"/>
            <a:ext cx="410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  <a:ea typeface="宋体"/>
              </a:rPr>
              <a:t>花团锦簇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0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6610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2843280" y="5734080"/>
            <a:ext cx="396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  <a:ea typeface="宋体"/>
              </a:rPr>
              <a:t>姹紫嫣红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0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4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755640" y="1052280"/>
            <a:ext cx="763272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ff"/>
                </a:solidFill>
                <a:latin typeface="Arial"/>
              </a:rPr>
              <a:t>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走过</a:t>
            </a:r>
            <a:r>
              <a:rPr b="1" lang="zh-CN" sz="3600" spc="-1" strike="noStrike">
                <a:solidFill>
                  <a:srgbClr val="cc0066"/>
                </a:solidFill>
                <a:latin typeface="Arial"/>
              </a:rPr>
              <a:t>任何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一条街，抬头向上看，</a:t>
            </a:r>
            <a:r>
              <a:rPr b="1" lang="zh-CN" sz="3600" spc="-1" strike="noStrike">
                <a:solidFill>
                  <a:srgbClr val="cc0066"/>
                </a:solidFill>
                <a:latin typeface="Arial"/>
              </a:rPr>
              <a:t>家家户户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的窗子前都是</a:t>
            </a:r>
            <a:r>
              <a:rPr b="1" lang="zh-CN" sz="3600" spc="-1" strike="noStrike">
                <a:solidFill>
                  <a:srgbClr val="cc0066"/>
                </a:solidFill>
                <a:latin typeface="Arial"/>
              </a:rPr>
              <a:t>花团锦簇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600" spc="-1" strike="noStrike">
                <a:solidFill>
                  <a:srgbClr val="cc0066"/>
                </a:solidFill>
                <a:latin typeface="Arial"/>
              </a:rPr>
              <a:t>姹紫嫣红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。许多窗子连接在一起，汇成了一个</a:t>
            </a:r>
            <a:r>
              <a:rPr b="1" lang="zh-CN" sz="3600" spc="-1" strike="noStrike">
                <a:solidFill>
                  <a:srgbClr val="cc0066"/>
                </a:solidFill>
                <a:latin typeface="Arial"/>
              </a:rPr>
              <a:t>花的海洋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让我们看的人如入</a:t>
            </a:r>
            <a:r>
              <a:rPr b="1" lang="zh-CN" sz="3600" spc="-1" strike="noStrike">
                <a:solidFill>
                  <a:srgbClr val="cc0066"/>
                </a:solidFill>
                <a:latin typeface="Arial"/>
              </a:rPr>
              <a:t>山阴道上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3600" spc="-1" strike="noStrike">
                <a:solidFill>
                  <a:srgbClr val="cc0066"/>
                </a:solidFill>
                <a:latin typeface="Arial"/>
              </a:rPr>
              <a:t>应接不暇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395280" y="907920"/>
            <a:ext cx="36003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楷体_GB2312"/>
              </a:rPr>
              <a:t>走过任何一条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楷体_GB2312"/>
              </a:rPr>
              <a:t>抬头向上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楷体_GB2312"/>
              </a:rPr>
              <a:t>家家户户的窗子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楷体_GB2312"/>
              </a:rPr>
              <a:t>都是花团锦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楷体_GB2312"/>
              </a:rPr>
              <a:t>姹紫嫣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楷体_GB2312"/>
              </a:rPr>
              <a:t>许多窗子连接在一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楷体_GB2312"/>
              </a:rPr>
              <a:t>汇成了一个花的海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楷体_GB2312"/>
              </a:rPr>
              <a:t>让我们看的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楷体_GB2312"/>
              </a:rPr>
              <a:t>如入山阴道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楷体_GB2312"/>
              </a:rPr>
              <a:t>应接不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3851280" y="836640"/>
            <a:ext cx="5040360" cy="471816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8388360" y="6021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5" dur="indefinite" restart="never" nodeType="tmRoot">
          <p:childTnLst>
            <p:seq>
              <p:cTn id="256" restart="whenNotActive" nodeType="interactiveSeq" fill="hold">
                <p:stCondLst>
                  <p:cond evt="onClick">
                    <p:tgtEl>
                      <p:spTgt spid="220"/>
                    </p:tgtEl>
                  </p:cond>
                </p:stCondLst>
                <p:childTnLst>
                  <p:par>
                    <p:cTn id="257" fill="hold">
                      <p:stCondLst>
                        <p:cond evt="onClick">
                          <p:tgtEl>
                            <p:spTgt spid="220"/>
                          </p:tgtEl>
                        </p:cond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0" dur="202485" fill="hold"/>
                                        <p:tgtEl>
                                          <p:spTgt spid="2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1891800" y="468360"/>
            <a:ext cx="53013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每一家都是这样，在屋子里的时候，自己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花是让别人看的；走在街上的时候，自己又看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人的花。人人为我，我为人人。我觉得这一种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界是颇耐人寻味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0" y="2924280"/>
            <a:ext cx="190152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每一家都是这样，</a:t>
            </a:r>
            <a:r>
              <a:rPr b="1" i="1" lang="zh-CN" sz="3200" spc="-1" strike="noStrike">
                <a:solidFill>
                  <a:srgbClr val="cc0066"/>
                </a:solidFill>
                <a:latin typeface="Arial"/>
                <a:ea typeface="宋体"/>
              </a:rPr>
              <a:t>在屋子里的时候，自己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cc0066"/>
                </a:solidFill>
                <a:latin typeface="Arial"/>
                <a:ea typeface="宋体"/>
              </a:rPr>
              <a:t>花是让别人看的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；走在街上的时候，自己又看别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的花。人人为我，</a:t>
            </a:r>
            <a:r>
              <a:rPr b="1" i="1" lang="zh-CN" sz="3200" spc="-1" strike="noStrike" u="sng">
                <a:solidFill>
                  <a:srgbClr val="cc0066"/>
                </a:solidFill>
                <a:uFillTx/>
                <a:latin typeface="Arial"/>
                <a:ea typeface="宋体"/>
              </a:rPr>
              <a:t>我为人人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。我觉得这一种境界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颇耐人寻味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179280" y="692280"/>
            <a:ext cx="8642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宋体"/>
              </a:rPr>
              <a:t>       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宋体"/>
              </a:rPr>
              <a:t>人人为我，我为人人。我觉得这一种境界是颇耐人寻味的。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854000" y="1925640"/>
            <a:ext cx="5514840" cy="37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宋体"/>
              </a:rPr>
              <a:t>“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宋体"/>
              </a:rPr>
              <a:t>这一种境界”在这里指“人人为我，我为人人”。“颇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宋体"/>
              </a:rPr>
              <a:t>是“很、非常”的意思。“耐人寻味”指意味深长，值得仔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宋体"/>
              </a:rPr>
              <a:t>体会琢磨。“我为人人”是说每个人心中要有他人，要有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宋体"/>
              </a:rPr>
              <a:t>会责任感，要用实际行动为大众着想，为社会尽到自己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宋体"/>
              </a:rPr>
              <a:t>义务。如果大家都这么想这么做就必然会换来“人人为我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宋体"/>
              </a:rPr>
              <a:t>的结果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179280" y="0"/>
            <a:ext cx="2079720" cy="5605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991080" y="404640"/>
            <a:ext cx="102924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buClr>
                <a:srgbClr val="00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品 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0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5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2592720" y="493560"/>
            <a:ext cx="4766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马背民族  奶茶   马头琴  那达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522960" y="1268280"/>
            <a:ext cx="1552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Arial"/>
                <a:ea typeface="隶书"/>
              </a:rPr>
              <a:t>蒙古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515320" y="2637000"/>
            <a:ext cx="4633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孔雀舞  凤尾竹  泼水节  竹筒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089600" y="3716280"/>
            <a:ext cx="109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Arial"/>
                <a:ea typeface="隶书"/>
              </a:rPr>
              <a:t>傣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527120" y="2924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826920" y="1197000"/>
            <a:ext cx="678528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宋体"/>
              </a:rPr>
              <a:t>变化是有的，但是美丽并没有改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716480" y="1916280"/>
            <a:ext cx="5916960" cy="31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宋体"/>
              </a:rPr>
              <a:t>结合上下文我们可以知道，作者是说德国沿街的奇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宋体"/>
              </a:rPr>
              <a:t>风景没有改变，依然是“家家户户的窗子前都是花团锦簇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宋体"/>
              </a:rPr>
              <a:t>姹紫 嫣红。许多窗子连接在一起，汇成了一个花的海洋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宋体"/>
              </a:rPr>
              <a:t>同时，也许作者言下之意还在赞扬德国人民那“人人为我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宋体"/>
              </a:rPr>
              <a:t>我为人人”的美好境界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3"/>
          <a:stretch/>
        </p:blipFill>
        <p:spPr>
          <a:xfrm>
            <a:off x="250920" y="189000"/>
            <a:ext cx="2079360" cy="56016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991080" y="692280"/>
            <a:ext cx="1029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buClr>
                <a:srgbClr val="00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品 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395280" y="981000"/>
            <a:ext cx="8317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宋体"/>
              </a:rPr>
              <a:t>我仿佛又回到了四五十年前，我做了一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宋体"/>
              </a:rPr>
              <a:t>花的梦，做了一个思乡的梦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24000" y="2133720"/>
            <a:ext cx="882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宋体"/>
              </a:rPr>
              <a:t>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宋体"/>
              </a:rPr>
              <a:t>作者曾在德国留学十多年，在留学期间时常思念家乡、思念亲人、思念祖国。现在时隔四五十年作者又来到德国，见到那家家户户窗口上的鲜花，不由得触景生情，仿佛进入了梦乡，回到了四五十年前的留学生活时代，他陶醉在鲜花艳丽之中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3"/>
          <a:stretch/>
        </p:blipFill>
        <p:spPr>
          <a:xfrm>
            <a:off x="250920" y="189000"/>
            <a:ext cx="2079360" cy="56016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1135440" y="620640"/>
            <a:ext cx="102924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buClr>
                <a:srgbClr val="00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品 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0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1537560" y="784080"/>
            <a:ext cx="163440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25000"/>
              </a:lnSpc>
              <a:buClr>
                <a:srgbClr val="00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探 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131560" y="1700280"/>
            <a:ext cx="53013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作者在德国看到了一种怎样的奇丽的景色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这种景色与我们国家有什么不同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说说你对“人人为我，我为人人。”这种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界是怎样理解的，在生活中你有没有感受过这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境界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079720" cy="56052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4266000" y="755640"/>
            <a:ext cx="13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4+4+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0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6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8915400" cy="668664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539640" y="2647080"/>
            <a:ext cx="7920000" cy="16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5400" spc="-1" strike="noStrike">
                <a:solidFill>
                  <a:srgbClr val="ff3300"/>
                </a:solidFill>
                <a:latin typeface="Arial"/>
                <a:ea typeface="楷体_GB2312"/>
              </a:rPr>
              <a:t>人人为我，我为人人。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我觉得这一种境界是颇耐人寻味的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539640" y="260280"/>
            <a:ext cx="7632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ff"/>
                </a:solidFill>
                <a:latin typeface="Arial"/>
                <a:ea typeface="宋体"/>
              </a:rPr>
              <a:t>       </a:t>
            </a:r>
            <a:r>
              <a:rPr b="1" lang="zh-CN" sz="6000" spc="-1" strike="noStrike">
                <a:solidFill>
                  <a:srgbClr val="ff00ff"/>
                </a:solidFill>
                <a:latin typeface="Arial"/>
                <a:ea typeface="宋体"/>
              </a:rPr>
              <a:t>变化是有的，但是</a:t>
            </a:r>
            <a:r>
              <a:rPr b="1" lang="zh-CN" sz="6000" spc="-1" strike="noStrike">
                <a:solidFill>
                  <a:srgbClr val="3333ff"/>
                </a:solidFill>
                <a:latin typeface="Arial"/>
                <a:ea typeface="宋体"/>
              </a:rPr>
              <a:t>美丽</a:t>
            </a:r>
            <a:r>
              <a:rPr b="1" lang="zh-CN" sz="6000" spc="-1" strike="noStrike">
                <a:solidFill>
                  <a:srgbClr val="ff00ff"/>
                </a:solidFill>
                <a:latin typeface="Arial"/>
                <a:ea typeface="宋体"/>
              </a:rPr>
              <a:t>并没有改变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975680" y="2492280"/>
            <a:ext cx="42192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cc"/>
                </a:solidFill>
                <a:latin typeface="Arial"/>
                <a:ea typeface="宋体"/>
              </a:rPr>
              <a:t>多么</a:t>
            </a:r>
            <a:r>
              <a:rPr b="1" lang="zh-CN" sz="6000" spc="-1" strike="noStrike">
                <a:solidFill>
                  <a:srgbClr val="cc0066"/>
                </a:solidFill>
                <a:latin typeface="Arial"/>
                <a:ea typeface="宋体"/>
              </a:rPr>
              <a:t>奇丽</a:t>
            </a:r>
            <a:r>
              <a:rPr b="1" lang="zh-CN" sz="6000" spc="-1" strike="noStrike">
                <a:solidFill>
                  <a:srgbClr val="0000cc"/>
                </a:solidFill>
                <a:latin typeface="Arial"/>
                <a:ea typeface="宋体"/>
              </a:rPr>
              <a:t>的景色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cc"/>
                </a:solidFill>
                <a:latin typeface="Arial"/>
                <a:ea typeface="宋体"/>
              </a:rPr>
              <a:t> </a:t>
            </a:r>
            <a:r>
              <a:rPr b="1" lang="zh-CN" sz="6000" spc="-1" strike="noStrike">
                <a:solidFill>
                  <a:srgbClr val="0000cc"/>
                </a:solidFill>
                <a:latin typeface="Arial"/>
                <a:ea typeface="宋体"/>
              </a:rPr>
              <a:t>多么</a:t>
            </a:r>
            <a:r>
              <a:rPr b="1" lang="zh-CN" sz="6000" spc="-1" strike="noStrike">
                <a:solidFill>
                  <a:srgbClr val="cc0066"/>
                </a:solidFill>
                <a:latin typeface="Arial"/>
                <a:ea typeface="宋体"/>
              </a:rPr>
              <a:t>奇特</a:t>
            </a:r>
            <a:r>
              <a:rPr b="1" lang="zh-CN" sz="6000" spc="-1" strike="noStrike">
                <a:solidFill>
                  <a:srgbClr val="0000cc"/>
                </a:solidFill>
                <a:latin typeface="Arial"/>
                <a:ea typeface="宋体"/>
              </a:rPr>
              <a:t>的民族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3132000" cy="285588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4"/>
          <a:stretch/>
        </p:blipFill>
        <p:spPr>
          <a:xfrm>
            <a:off x="3132000" y="0"/>
            <a:ext cx="2916360" cy="285264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6" descr=""/>
          <p:cNvPicPr/>
          <p:nvPr/>
        </p:nvPicPr>
        <p:blipFill>
          <a:blip r:embed="rId5"/>
          <a:stretch/>
        </p:blipFill>
        <p:spPr>
          <a:xfrm>
            <a:off x="6012000" y="0"/>
            <a:ext cx="3132000" cy="285264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179280" y="3141720"/>
            <a:ext cx="878544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宋体"/>
              </a:rPr>
              <a:t>    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宋体"/>
              </a:rPr>
              <a:t>我走在街上，抬头一看，</a:t>
            </a:r>
            <a:r>
              <a:rPr b="1" lang="zh-CN" sz="3600" spc="-1" strike="noStrike">
                <a:solidFill>
                  <a:srgbClr val="cc0066"/>
                </a:solidFill>
                <a:latin typeface="Arial"/>
                <a:ea typeface="宋体"/>
              </a:rPr>
              <a:t>又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宋体"/>
              </a:rPr>
              <a:t>是家家户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宋体"/>
              </a:rPr>
              <a:t>的窗口上</a:t>
            </a:r>
            <a:r>
              <a:rPr b="1" lang="zh-CN" sz="3600" spc="-1" strike="noStrike">
                <a:solidFill>
                  <a:srgbClr val="cc0066"/>
                </a:solidFill>
                <a:latin typeface="Arial"/>
                <a:ea typeface="宋体"/>
              </a:rPr>
              <a:t>都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宋体"/>
              </a:rPr>
              <a:t>开满了鲜花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>
            <a:off x="1884240" y="2421000"/>
            <a:ext cx="59598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花团（  ）（  ）      （  ）（  ）一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（  ）紫（  ）红       应接（  ）（  ）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（  ）（  ）寻味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363480" y="134136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把词语补充完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671480" y="162000"/>
            <a:ext cx="5853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宋体"/>
              </a:rPr>
              <a:t>当堂检测      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宋体"/>
              </a:rPr>
              <a:t>2'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17928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332000" cy="1332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4"/>
          <a:stretch/>
        </p:blipFill>
        <p:spPr>
          <a:xfrm>
            <a:off x="6783480" y="5033880"/>
            <a:ext cx="268200" cy="51768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/>
          <p:nvPr/>
        </p:nvSpPr>
        <p:spPr>
          <a:xfrm>
            <a:off x="395280" y="1989000"/>
            <a:ext cx="8424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Arial"/>
                <a:ea typeface="华文行楷"/>
              </a:rPr>
              <a:t>        </a:t>
            </a:r>
            <a:r>
              <a:rPr b="1" lang="zh-CN" sz="40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人人为我，因为（                            ）；我为人人（                  ）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5"/>
          <a:stretch/>
        </p:blipFill>
        <p:spPr>
          <a:xfrm>
            <a:off x="7020000" y="549360"/>
            <a:ext cx="1728720" cy="144144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/>
          <p:nvPr/>
        </p:nvSpPr>
        <p:spPr>
          <a:xfrm>
            <a:off x="2364840" y="263700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0099"/>
                </a:solidFill>
                <a:latin typeface="Arial"/>
                <a:ea typeface="宋体"/>
              </a:rPr>
              <a:t>走在街上的时候，自己又看别人的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264200" y="3284640"/>
            <a:ext cx="292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0099"/>
                </a:solidFill>
                <a:latin typeface="Arial"/>
                <a:ea typeface="宋体"/>
              </a:rPr>
              <a:t>自己的花是让别人看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1" dur="1000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/>
          <p:nvPr/>
        </p:nvSpPr>
        <p:spPr>
          <a:xfrm>
            <a:off x="2483280" y="1413000"/>
            <a:ext cx="49899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课外作业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）摘抄文中描写花美的句子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）用花团锦簇、姹紫嫣红各说一句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）课外阅读季羡林的作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1188360" y="765000"/>
            <a:ext cx="28188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宋体"/>
              </a:rPr>
              <a:t>四五十年过去了</a:t>
            </a:r>
            <a:br>
              <a:rPr sz="2400"/>
            </a:b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宋体"/>
              </a:rPr>
              <a:t>美丽</a:t>
            </a:r>
            <a:br>
              <a:rPr sz="2400"/>
            </a:b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宋体"/>
              </a:rPr>
              <a:t>依然没有改变</a:t>
            </a:r>
            <a:br>
              <a:rPr sz="2400"/>
            </a:b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家家户户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依然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____________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迎接我们的主人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依然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____________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满街的窗子前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依然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____________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这境界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依然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_____________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那就是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1332000" y="115920"/>
            <a:ext cx="489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ff"/>
                </a:solidFill>
                <a:latin typeface="Arial"/>
                <a:ea typeface="宋体"/>
              </a:rPr>
              <a:t>德国风光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8028000" y="5734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fade/>
  </p:transition>
  <p:timing>
    <p:tnLst>
      <p:par>
        <p:cTn id="67" dur="indefinite" restart="never" nodeType="tmRoot">
          <p:childTnLst>
            <p:seq>
              <p:cTn id="68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69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1" fill="hold"/>
                                        <p:tgtEl>
                                          <p:spTgt spid="1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663480" y="115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954080" y="495360"/>
            <a:ext cx="233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Arial"/>
                <a:ea typeface="宋体"/>
              </a:rPr>
              <a:t>德国的国花——矢车菊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wheel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randomBa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3T14:36:58Z</dcterms:created>
  <dc:creator>Administrator</dc:creator>
  <dc:description/>
  <dc:language>en-US</dc:language>
  <cp:lastModifiedBy>Lenovo User</cp:lastModifiedBy>
  <dcterms:modified xsi:type="dcterms:W3CDTF">2013-06-04T09:03:21Z</dcterms:modified>
  <cp:revision>213</cp:revision>
  <dc:subject/>
  <dc:title>幻灯片 1</dc:title>
</cp:coreProperties>
</file>