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12.jpeg" ContentType="image/jpeg"/>
  <Override PartName="/ppt/media/image13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34.jpeg" ContentType="image/jpeg"/>
  <Override PartName="/ppt/media/image37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38.gif" ContentType="image/gif"/>
  <Override PartName="/ppt/media/image40.gif" ContentType="image/gif"/>
  <Override PartName="/ppt/media/image6.png" ContentType="image/png"/>
  <Override PartName="/ppt/media/image10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E8D4-B2D0-469B-B20C-053B708CA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5E3A-8F2B-4F9C-9958-1C4873EB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3BE0-1EED-452E-9BEF-6D4A5B0C9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6E1A-DDCF-4F6F-9BBB-5E838FE93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9E6D-CDE0-447C-BBB7-96B52D9BC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85E3-0D95-4F43-B86F-5059E2D2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251E-B103-42C6-BF38-0D53D842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1B9F-8898-4A58-9BA7-740AFE3E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42457-006E-4F1F-827D-B492107B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370C7-2A71-4536-A83D-CE1F94DC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676F-7D08-4355-99F6-7127176F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A7D6-0129-4FD1-B3D8-827D24BC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163E-5E1F-47AC-97DE-A0DCF5A0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F38AA-941A-4915-9950-A3BCD5CA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5EF76-0E5A-419E-90AD-2CD33637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23C6-8867-48AC-B3A7-C1299387E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48C2-BB32-448B-91E8-AA044AF21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F455-72E1-495D-92C1-8686AFCD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8E3E-3562-423E-9ABE-ED9F2336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A1E3-6760-4CAC-BF3B-2D54881C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0A2F-A3EF-49E4-8256-E6EC3636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7EF4-6B87-401B-82C7-623C8756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8930-B1AD-48EE-83F5-C201A2B6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4668-058C-43B8-AD88-DBF4917F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7038-0AA0-4015-A2CB-F1B95E4348F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BA65-417F-4ACA-8024-496958DEDFC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38.gif"/><Relationship Id="rId4" Type="http://schemas.openxmlformats.org/officeDocument/2006/relationships/image" Target="../media/image39.gif"/><Relationship Id="rId5" Type="http://schemas.openxmlformats.org/officeDocument/2006/relationships/image" Target="../media/image40.gif"/><Relationship Id="rId6" Type="http://schemas.openxmlformats.org/officeDocument/2006/relationships/slideLayout" Target="../slideLayouts/slideLayout2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774960" y="365904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执教：后西小学  黄志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9144000" cy="3960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971640" y="692280"/>
            <a:ext cx="76197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ffff66">
                      <a:alpha val="80000"/>
                    </a:srgbClr>
                  </a:outerShdw>
                </a:effectLst>
                <a:latin typeface="黑体"/>
              </a:rPr>
              <a:t>自己的花是让别人看的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ffff66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5" name=""/>
          <p:cNvSpPr/>
          <p:nvPr/>
        </p:nvSpPr>
        <p:spPr>
          <a:xfrm>
            <a:off x="1763640" y="5851440"/>
            <a:ext cx="3605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第一课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92720" y="9810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福临大教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403280" y="0"/>
            <a:ext cx="572472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299000" y="907920"/>
            <a:ext cx="729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科隆大教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0"/>
            <a:ext cx="374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宋体"/>
              </a:rPr>
              <a:t>山中的天鹅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9252000" cy="6742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68360" y="1125360"/>
            <a:ext cx="361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Arial"/>
                <a:ea typeface="宋体"/>
              </a:rPr>
              <a:t>山中的天鹅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979640" y="98100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莱茵河边的小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11280" y="7650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德国的慕尼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484360" y="83664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德国的莱茵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132000" y="404640"/>
            <a:ext cx="35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蓝色多瑙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50920" y="119700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这是德国的一所城市哥廷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340000" y="0"/>
            <a:ext cx="518472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826920" y="1341360"/>
            <a:ext cx="64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哥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廷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根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大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859280" y="0"/>
            <a:ext cx="428472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50920" y="2242080"/>
            <a:ext cx="38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             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所大学已孕育了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0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位诺贝尔奖得主。我国著名的语言学家季羡林先生曾求学于哥廷根大学。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4067280" y="0"/>
            <a:ext cx="507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050920" y="189000"/>
            <a:ext cx="484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学习目标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28240" y="1125360"/>
            <a:ext cx="5301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认识生字词，正确读写“天性、宇宙、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切、脊梁、家家户户、莞尔一笑、花团锦族、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紫嫣红、应接不暇、耐人寻味”等词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有感情的朗读课文，背诵课文第三自然段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积累课文中的优美语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了解作者所介绍的德国风景与风俗特点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结合上下文与生活实际体会含义深刻的语句，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中受到启示与教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08000" y="836280"/>
            <a:ext cx="3527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季羡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国著名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国学大师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贯中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西，融汇古今，精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国语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轻时曾留学德国十年，后著有留学回忆录《留德十年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140360" y="0"/>
            <a:ext cx="500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-25236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604520" y="1413000"/>
            <a:ext cx="5946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读课文，自学生字词，读准字音，读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句子，把你喜欢的句子和词语分别用“—”和“～～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划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边读边想课文的主要内容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03480" y="17640"/>
            <a:ext cx="513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自主学习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0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500280"/>
            <a:ext cx="86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说说为什么自己的花是让别人看的？作  者从中领悟到了什么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484360" y="1989000"/>
            <a:ext cx="39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宋体"/>
              </a:rPr>
              <a:t>脊   莞    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5280" y="335772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宋体"/>
              </a:rPr>
              <a:t>姹   嫣   暇    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23840" y="62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609480"/>
            <a:ext cx="327672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   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84720" y="333360"/>
            <a:ext cx="518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检查交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10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859040" y="1268280"/>
            <a:ext cx="59961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天性      宇宙      真切     脊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家家户户    莞尔一笑     花团锦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姹紫嫣红    应接不暇     耐人寻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家家户户    耐人寻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26920" y="333360"/>
            <a:ext cx="288000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词   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87160" y="836640"/>
            <a:ext cx="14000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房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莞尔一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花团锦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姹紫嫣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21800" y="907920"/>
            <a:ext cx="498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出租或出借房屋的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相对“房客”而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28960" y="1816200"/>
            <a:ext cx="372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形容微笑的样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多指女性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24000" y="2852640"/>
            <a:ext cx="66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形容五彩缤纷、十分华丽的景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69040" y="3789360"/>
            <a:ext cx="5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嫣：娇艳。形容各种好看的花娇艳绚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50760" y="331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1280" y="0"/>
            <a:ext cx="2736720" cy="69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04840" y="237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理 解 词 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319480" y="162000"/>
            <a:ext cx="527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当堂检测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5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42440" y="2852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宋体"/>
              </a:rPr>
              <a:t>听写词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774960" y="365904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执教：后西小学  黄志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9144000" cy="39607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971640" y="692280"/>
            <a:ext cx="76197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ffff66">
                      <a:alpha val="80000"/>
                    </a:srgbClr>
                  </a:outerShdw>
                </a:effectLst>
                <a:latin typeface="黑体"/>
              </a:rPr>
              <a:t>自己的花是让别人看的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ffff66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84" name=""/>
          <p:cNvSpPr/>
          <p:nvPr/>
        </p:nvSpPr>
        <p:spPr>
          <a:xfrm>
            <a:off x="2741760" y="585144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第二课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166760" y="69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115920"/>
            <a:ext cx="489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双基回顾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2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12556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268280"/>
            <a:ext cx="18457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桃红    粉红      雪白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色彩斑斓     五彩缤纷      色彩缤纷     多姿多彩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争奇斗艳      竞相开放     绚丽多姿     绚丽多彩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婀娜多姿     亭亭玉立     芳香四溢      万紫千红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姹紫嫣红     花团锦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8" descr="051008korea03"/>
          <p:cNvPicPr/>
          <p:nvPr/>
        </p:nvPicPr>
        <p:blipFill>
          <a:blip r:embed="rId2"/>
          <a:stretch/>
        </p:blipFill>
        <p:spPr>
          <a:xfrm>
            <a:off x="0" y="0"/>
            <a:ext cx="9360000" cy="707400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10"/>
          <p:cNvSpPr/>
          <p:nvPr/>
        </p:nvSpPr>
        <p:spPr>
          <a:xfrm>
            <a:off x="900000" y="765000"/>
            <a:ext cx="770436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多么奇丽的景色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多么奇特的民族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671480" y="338040"/>
            <a:ext cx="671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合作学习一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8+7+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651040" y="136044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朗读课文，想一想作者在德国看到了一种怎样奇丽的景色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课文是怎样描写的？为什么说是奇特的民族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2781360"/>
            <a:ext cx="843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温馨提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、找出文中描写奇丽景色的句子，画出句子中体现奇丽景色的词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、找出文中描写民族奇特的句子，说说让你感到奇特的理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23984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95280" y="26028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080080" y="836640"/>
            <a:ext cx="512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能歌善舞的民族        烤羊肉串    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葡萄干                      哈密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95640" y="206064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维吾尔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4253040"/>
            <a:ext cx="215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藏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45320" y="3284640"/>
            <a:ext cx="5164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酥油茶    哈达   布达拉宫   雪顿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94720" y="108000"/>
            <a:ext cx="5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36760" y="907920"/>
            <a:ext cx="334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家家户户都在养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他们的花不像在中国那样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养在屋子里，他们是把花栽种在临街窗户的外面。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都朝外开，在屋子里只能看到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花的脊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"/>
          <p:cNvPicPr/>
          <p:nvPr/>
        </p:nvPicPr>
        <p:blipFill>
          <a:blip r:embed="rId3"/>
          <a:stretch/>
        </p:blipFill>
        <p:spPr>
          <a:xfrm>
            <a:off x="611280" y="3357720"/>
            <a:ext cx="3851280" cy="2889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"/>
          <p:cNvPicPr/>
          <p:nvPr/>
        </p:nvPicPr>
        <p:blipFill>
          <a:blip r:embed="rId4"/>
          <a:stretch/>
        </p:blipFill>
        <p:spPr>
          <a:xfrm>
            <a:off x="4716360" y="3357720"/>
            <a:ext cx="388800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879480" y="547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68360" y="33336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407120" y="1413000"/>
            <a:ext cx="79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花朵都朝外开，在屋子里只能看到花的脊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2060640"/>
            <a:ext cx="9304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这句话承接上一句，进一步点明了德国人养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的与众不同之处。因为花朵都朝外开，那么在屋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看到的“花的脊梁”就是花朵的背面。显然，德国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养花是给别人看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53680" y="692280"/>
            <a:ext cx="13107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品 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971640" y="1197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走过任何一条街，抬头向上看，家家户户的窗子前都是花团锦簇、姹紫嫣红。许多窗子连接在一起，汇成了一个花的海洋，让我们看的人如入山阴道上，应接不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971640" y="119700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走过任何一条街，抬头向上看，家家户户的窗子前都是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花团锦簇、姹紫嫣红</a:t>
            </a: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。许多窗子连接在一起，汇成了一个花的海洋，让我们看的人如入山阴道上，应接不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132000" y="5805360"/>
            <a:ext cx="41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宋体"/>
              </a:rPr>
              <a:t>花团锦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843280" y="573408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宋体"/>
              </a:rPr>
              <a:t>姹紫嫣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755640" y="1052280"/>
            <a:ext cx="763272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走过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任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条街，抬头向上看，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家家户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窗子前都是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花团锦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姹紫嫣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许多窗子连接在一起，汇成了一个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花的海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让我们看的人如入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山阴道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应接不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95280" y="907920"/>
            <a:ext cx="3600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走过任何一条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抬头向上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家家户户的窗子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都是花团锦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姹紫嫣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许多窗子连接在一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汇成了一个花的海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让我们看的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如入山阴道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应接不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851280" y="836640"/>
            <a:ext cx="5040360" cy="47181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8388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" dur="indefinite" restart="never" nodeType="tmRoot">
          <p:childTnLst>
            <p:seq>
              <p:cTn id="256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0" dur="202485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891800" y="468360"/>
            <a:ext cx="5301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每一家都是这样，在屋子里的时候，自己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花是让别人看的；走在街上的时候，自己又看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人的花。人人为我，我为人人。我觉得这一种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界是颇耐人寻味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2924280"/>
            <a:ext cx="19015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每一家都是这样，</a:t>
            </a:r>
            <a:r>
              <a:rPr b="1" i="1" lang="zh-CN" sz="3200" spc="-1" strike="noStrike">
                <a:solidFill>
                  <a:srgbClr val="cc0066"/>
                </a:solidFill>
                <a:latin typeface="Arial"/>
                <a:ea typeface="宋体"/>
              </a:rPr>
              <a:t>在屋子里的时候，自己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cc0066"/>
                </a:solidFill>
                <a:latin typeface="Arial"/>
                <a:ea typeface="宋体"/>
              </a:rPr>
              <a:t>花是让别人看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；走在街上的时候，自己又看别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花。人人为我，</a:t>
            </a:r>
            <a:r>
              <a:rPr b="1" i="1" lang="zh-CN" sz="3200" spc="-1" strike="noStrike" u="sng">
                <a:solidFill>
                  <a:srgbClr val="cc0066"/>
                </a:solidFill>
                <a:uFillTx/>
                <a:latin typeface="Arial"/>
                <a:ea typeface="宋体"/>
              </a:rPr>
              <a:t>我为人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我觉得这一种境界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颇耐人寻味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79280" y="69228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人人为我，我为人人。我觉得这一种境界是颇耐人寻味的。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854000" y="1925640"/>
            <a:ext cx="551484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这一种境界”在这里指“人人为我，我为人人”。“颇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是“很、非常”的意思。“耐人寻味”指意味深长，值得仔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体会琢磨。“我为人人”是说每个人心中要有他人，要有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会责任感，要用实际行动为大众着想，为社会尽到自己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义务。如果大家都这么想这么做就必然会换来“人人为我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的结果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179280" y="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991080" y="404640"/>
            <a:ext cx="10292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品 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92720" y="493560"/>
            <a:ext cx="476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马背民族  奶茶   马头琴  那达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22960" y="126828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蒙古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15320" y="2637000"/>
            <a:ext cx="46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孔雀舞  凤尾竹  泼水节  竹筒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89600" y="37162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傣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7120" y="29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826920" y="1197000"/>
            <a:ext cx="67852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变化是有的，但是美丽并没有改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716480" y="1916280"/>
            <a:ext cx="5916960" cy="31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结合上下文我们可以知道，作者是说德国沿街的奇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风景没有改变，依然是“家家户户的窗子前都是花团锦簇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姹紫 嫣红。许多窗子连接在一起，汇成了一个花的海洋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同时，也许作者言下之意还在赞扬德国人民那“人人为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我为人人”的美好境界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2079360" cy="5601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991080" y="692280"/>
            <a:ext cx="102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品 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95280" y="981000"/>
            <a:ext cx="83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我仿佛又回到了四五十年前，我做了一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花的梦，做了一个思乡的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4000" y="213372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作者曾在德国留学十多年，在留学期间时常思念家乡、思念亲人、思念祖国。现在时隔四五十年作者又来到德国，见到那家家户户窗口上的鲜花，不由得触景生情，仿佛进入了梦乡，回到了四五十年前的留学生活时代，他陶醉在鲜花艳丽之中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2079360" cy="5601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135440" y="620640"/>
            <a:ext cx="10292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品 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537560" y="784080"/>
            <a:ext cx="16344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探 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31560" y="1700280"/>
            <a:ext cx="5301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作者在德国看到了一种怎样的奇丽的景色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这种景色与我们国家有什么不同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说说你对“人人为我，我为人人。”这种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界是怎样理解的，在生活中你有没有感受过这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境界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4266000" y="755640"/>
            <a:ext cx="13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+4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915400" cy="66866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539640" y="2647080"/>
            <a:ext cx="79200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人人为我，我为人人。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我觉得这一种境界是颇耐人寻味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539640" y="260280"/>
            <a:ext cx="76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宋体"/>
              </a:rPr>
              <a:t>       </a:t>
            </a: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宋体"/>
              </a:rPr>
              <a:t>变化是有的，但是</a:t>
            </a:r>
            <a:r>
              <a:rPr b="1" lang="zh-CN" sz="6000" spc="-1" strike="noStrike">
                <a:solidFill>
                  <a:srgbClr val="3333ff"/>
                </a:solidFill>
                <a:latin typeface="Arial"/>
                <a:ea typeface="宋体"/>
              </a:rPr>
              <a:t>美丽</a:t>
            </a: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宋体"/>
              </a:rPr>
              <a:t>并没有改变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975680" y="2492280"/>
            <a:ext cx="4219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宋体"/>
              </a:rPr>
              <a:t>多么</a:t>
            </a:r>
            <a:r>
              <a:rPr b="1" lang="zh-CN" sz="6000" spc="-1" strike="noStrike">
                <a:solidFill>
                  <a:srgbClr val="cc0066"/>
                </a:solidFill>
                <a:latin typeface="Arial"/>
                <a:ea typeface="宋体"/>
              </a:rPr>
              <a:t>奇丽</a:t>
            </a: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宋体"/>
              </a:rPr>
              <a:t>的景色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宋体"/>
              </a:rPr>
              <a:t> </a:t>
            </a: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宋体"/>
              </a:rPr>
              <a:t>多么</a:t>
            </a:r>
            <a:r>
              <a:rPr b="1" lang="zh-CN" sz="6000" spc="-1" strike="noStrike">
                <a:solidFill>
                  <a:srgbClr val="cc0066"/>
                </a:solidFill>
                <a:latin typeface="Arial"/>
                <a:ea typeface="宋体"/>
              </a:rPr>
              <a:t>奇特</a:t>
            </a: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宋体"/>
              </a:rPr>
              <a:t>的民族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132000" cy="28558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3132000" y="0"/>
            <a:ext cx="2916360" cy="2852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"/>
          <p:cNvPicPr/>
          <p:nvPr/>
        </p:nvPicPr>
        <p:blipFill>
          <a:blip r:embed="rId5"/>
          <a:stretch/>
        </p:blipFill>
        <p:spPr>
          <a:xfrm>
            <a:off x="6012000" y="0"/>
            <a:ext cx="3132000" cy="28526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79280" y="3141720"/>
            <a:ext cx="8785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我走在街上，抬头一看，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宋体"/>
              </a:rPr>
              <a:t>又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是家家户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的窗口上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宋体"/>
              </a:rPr>
              <a:t>都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开满了鲜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884240" y="2421000"/>
            <a:ext cx="5959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花团（  ）（  ）      （  ）（  ）一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（  ）紫（  ）红       应接（  ）（  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（  ）（  ）寻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363480" y="13413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把词语补充完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71480" y="162000"/>
            <a:ext cx="585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当堂检测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2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32000" cy="1332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6783480" y="5033880"/>
            <a:ext cx="268200" cy="5176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395280" y="198900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Arial"/>
                <a:ea typeface="华文行楷"/>
              </a:rPr>
              <a:t>        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人人为我，因为（                            ）；我为人人（        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5"/>
          <a:stretch/>
        </p:blipFill>
        <p:spPr>
          <a:xfrm>
            <a:off x="7020000" y="549360"/>
            <a:ext cx="1728720" cy="14414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364840" y="263700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99"/>
                </a:solidFill>
                <a:latin typeface="Arial"/>
                <a:ea typeface="宋体"/>
              </a:rPr>
              <a:t>走在街上的时候，自己又看别人的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64200" y="32846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99"/>
                </a:solidFill>
                <a:latin typeface="Arial"/>
                <a:ea typeface="宋体"/>
              </a:rPr>
              <a:t>自己的花是让别人看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2483280" y="1413000"/>
            <a:ext cx="4989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课外作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摘抄文中描写花美的句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用花团锦簇、姹紫嫣红各说一句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课外阅读季羡林的作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188360" y="765000"/>
            <a:ext cx="2818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四五十年过去了</a:t>
            </a:r>
            <a:br>
              <a:rPr sz="2400"/>
            </a:b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美丽</a:t>
            </a:r>
            <a:br>
              <a:rPr sz="2400"/>
            </a:b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依然没有改变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家家户户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依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_____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迎接我们的主人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依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_____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满街的窗子前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依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_____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这境界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依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______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那就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332000" y="115920"/>
            <a:ext cx="48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Arial"/>
                <a:ea typeface="宋体"/>
              </a:rPr>
              <a:t>德国风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802800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63480" y="115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54080" y="495360"/>
            <a:ext cx="23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德国的国花——矢车菊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4:36:58Z</dcterms:created>
  <dc:creator>Administrator</dc:creator>
  <dc:description/>
  <dc:language>en-US</dc:language>
  <cp:lastModifiedBy>Lenovo User</cp:lastModifiedBy>
  <dcterms:modified xsi:type="dcterms:W3CDTF">2013-06-04T09:03:21Z</dcterms:modified>
  <cp:revision>213</cp:revision>
  <dc:subject/>
  <dc:title>幻灯片 1</dc:title>
</cp:coreProperties>
</file>