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6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7DE-CFAF-4D01-96D0-D31F7396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DD6-32CC-44AF-97BD-275BC51F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1A0-975C-459E-BDDC-5A4FB6F7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E1B-0AE1-488F-BB1C-16E327BC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B374-A06D-41CF-8E3B-9D903672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07F0-9AEF-45DA-A255-8F7A8931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1176-CE10-4F58-A2BD-22D3CF03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EE7A-1BB8-442E-AC30-CD528649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B464-7B99-478F-9E22-5BBABC8D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E59F-6546-4CAA-BD5B-A3EB619F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A8D9-080D-4579-8047-65451F15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FE8-E25F-47B2-A2EB-29F98DEA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E8F3-278C-44D3-8FE3-8299D0B4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B3A6-AA5D-4DA7-A54E-06245E81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FC9C-F30D-4799-88E6-F7D0F334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6486-CA3F-4AFD-A62C-69EA1986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AC6C-1F4F-4F05-A79B-52B72585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842-D008-4F04-A3CA-2D3BCD5F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7C6-40AA-4858-A83E-C88226B8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F5B-1B63-4DFD-9526-B4B952E7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725-B2F9-4D7E-B683-40CEB36F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5E0-3062-4ECD-A84C-6A32C91C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016-9086-41B9-9801-01FDCED7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22C-E930-4D63-8345-A4804FB1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50F5-8ECB-468A-B2BD-8BAD4EB38A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C4AE-BF12-4772-AFB9-2C08A9DECE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5851440"/>
            <a:ext cx="360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92720" y="98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福临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24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99000" y="90792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科隆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山中的天鹅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252000" cy="674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1125360"/>
            <a:ext cx="36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山中的天鹅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79640" y="981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莱茵河边的小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76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德国的慕尼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84360" y="83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德国的莱茵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404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蓝色多瑙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197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这是德国的一所城市哥廷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6920" y="1341360"/>
            <a:ext cx="64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哥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廷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根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大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2420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所大学已孕育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位诺贝尔奖得主。我国著名的语言学家季羡林先生曾求学于哥廷根大学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189000"/>
            <a:ext cx="48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学习目标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28240" y="1125360"/>
            <a:ext cx="5301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认识生字词，正确读写“天性、宇宙、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切、脊梁、家家户户、莞尔一笑、花团锦族、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紫嫣红、应接不暇、耐人寻味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有感情的朗读课文，背诵课文第三自然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积累课文中的优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了解作者所介绍的德国风景与风俗特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合上下文与生活实际体会含义深刻的语句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受到启示与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352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著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学大师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贯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，融汇古今，精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轻时曾留学德国十年，后著有留学回忆录《留德十年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25236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4520" y="1413000"/>
            <a:ext cx="594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读课文，自学生字词，读准字音，读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句子，把你喜欢的句子和词语分别用“—”和“～～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划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边读边想课文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3480" y="17640"/>
            <a:ext cx="51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自主学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00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说为什么自己的花是让别人看的？作  者从中领悟到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484360" y="198900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脊   莞    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35772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姹   嫣   暇    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2384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3276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 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333360"/>
            <a:ext cx="51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检查交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59040" y="1268280"/>
            <a:ext cx="599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天性      宇宙      真切     脊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家家户户    莞尔一笑     花团锦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姹紫嫣红    应接不暇 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家家户户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33360"/>
            <a:ext cx="288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词   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87160" y="836640"/>
            <a:ext cx="140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房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莞尔一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团锦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姹紫嫣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21800" y="907920"/>
            <a:ext cx="49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租或出借房屋的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对“房客”而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28960" y="181620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微笑的样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多指女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285264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五彩缤纷、十分华丽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9040" y="3789360"/>
            <a:ext cx="5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嫣：娇艳。形容各种好看的花娇艳绚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076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0"/>
            <a:ext cx="2736720" cy="69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23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理 解 词 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19480" y="16200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当堂检测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2440" y="28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听写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4" name=""/>
          <p:cNvSpPr/>
          <p:nvPr/>
        </p:nvSpPr>
        <p:spPr>
          <a:xfrm>
            <a:off x="2741760" y="5851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6676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159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双基回顾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255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68280"/>
            <a:ext cx="184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桃红    粉红      雪白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色彩斑斓     五彩缤纷      色彩缤纷     多姿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争奇斗艳      竞相开放     绚丽多姿     绚丽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婀娜多姿     亭亭玉立     芳香四溢      万紫千红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姹紫嫣红     花团锦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051008korea03"/>
          <p:cNvPicPr/>
          <p:nvPr/>
        </p:nvPicPr>
        <p:blipFill>
          <a:blip r:embed="rId2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0"/>
          <p:cNvSpPr/>
          <p:nvPr/>
        </p:nvSpPr>
        <p:spPr>
          <a:xfrm>
            <a:off x="900000" y="765000"/>
            <a:ext cx="7704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丽的景色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特的民族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1480" y="338040"/>
            <a:ext cx="67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合作学习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+7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51040" y="136044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朗读课文，想一想作者在德国看到了一种怎样奇丽的景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文是怎样描写的？为什么说是奇特的民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781360"/>
            <a:ext cx="84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温馨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奇丽景色的句子，画出句子中体现奇丽景色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民族奇特的句子，说说让你感到奇特的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984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80080" y="836640"/>
            <a:ext cx="51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能歌善舞的民族        烤羊肉串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葡萄干                      哈密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06064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维吾尔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25304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藏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5320" y="3284640"/>
            <a:ext cx="516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酥油茶    哈达   布达拉宫   雪顿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4720" y="10800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6760" y="907920"/>
            <a:ext cx="334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家户户都在养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他们的花不像在中国那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养在屋子里，他们是把花栽种在临街窗户的外面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都朝外开，在屋子里只能看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的脊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3851280" cy="288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3888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7948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407120" y="1413000"/>
            <a:ext cx="7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朵都朝外开，在屋子里只能看到花的脊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060640"/>
            <a:ext cx="930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这句话承接上一句，进一步点明了德国人养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的与众不同之处。因为花朵都朝外开，那么在屋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看到的“花的脊梁”就是花朵的背面。显然，德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养花是给别人看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53680" y="692280"/>
            <a:ext cx="131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71640" y="119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花团锦簇、姹紫嫣红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1197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花团锦簇、姹紫嫣红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32000" y="5805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花团锦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843280" y="57340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姹紫嫣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632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任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条街，抬头向上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家家户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窗子前都是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团锦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姹紫嫣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许多窗子连接在一起，汇成了一个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的海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让我们看的人如入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山阴道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应接不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907920"/>
            <a:ext cx="360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走过任何一条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抬头向上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家家户户的窗子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是花团锦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许多窗子连接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汇成了一个花的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看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如入山阴道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应接不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5040360" cy="4718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0248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800" y="46836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是让别人看的；走在街上的时候，自己又看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的花。人人为我，我为人人。我觉得这一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924280"/>
            <a:ext cx="190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</a:t>
            </a: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花是让别人看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走在街上的时候，自己又看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花。人人为我，</a:t>
            </a:r>
            <a:r>
              <a:rPr b="1" i="1" lang="zh-CN" sz="32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我为人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我觉得这一种境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92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人人为我，我为人人。我觉得这一种境界是颇耐人寻味的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54000" y="1925640"/>
            <a:ext cx="551484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这一种境界”在这里指“人人为我，我为人人”。“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是“很、非常”的意思。“耐人寻味”指意味深长，值得仔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体会琢磨。“我为人人”是说每个人心中要有他人，要有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会责任感，要用实际行动为大众着想，为社会尽到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义务。如果大家都这么想这么做就必然会换来“人人为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91080" y="404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720" y="493560"/>
            <a:ext cx="47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背民族  奶茶   马头琴  那达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2960" y="1268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蒙古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5320" y="2637000"/>
            <a:ext cx="46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孔雀舞  凤尾竹  泼水节  竹筒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9600" y="371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傣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71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26920" y="1197000"/>
            <a:ext cx="6785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变化是有的，但是美丽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16480" y="1916280"/>
            <a:ext cx="591696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结合上下文我们可以知道，作者是说德国沿街的奇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风景没有改变，依然是“家家户户的窗子前都是花团锦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姹紫 嫣红。许多窗子连接在一起，汇成了一个花的海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同时，也许作者言下之意还在赞扬德国人民那“人人为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我为人人”的美好境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1080" y="692280"/>
            <a:ext cx="10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5280" y="98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我仿佛又回到了四五十年前，我做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的梦，做了一个思乡的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21337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作者曾在德国留学十多年，在留学期间时常思念家乡、思念亲人、思念祖国。现在时隔四五十年作者又来到德国，见到那家家户户窗口上的鲜花，不由得触景生情，仿佛进入了梦乡，回到了四五十年前的留学生活时代，他陶醉在鲜花艳丽之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35440" y="620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37560" y="784080"/>
            <a:ext cx="1634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探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31560" y="170028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在德国看到了一种怎样的奇丽的景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种景色与我们国家有什么不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说你对“人人为我，我为人人。”这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怎样理解的，在生活中你有没有感受过这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境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266000" y="75564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+4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9640" y="2647080"/>
            <a:ext cx="7920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人人为我，我为人人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觉得这一种境界是颇耐人寻味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9640" y="260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   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变化是有的，但是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宋体"/>
              </a:rPr>
              <a:t>美丽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并没有改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5680" y="2492280"/>
            <a:ext cx="421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丽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景色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特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民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32000" cy="2855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2916360" cy="285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9280" y="3141720"/>
            <a:ext cx="878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我走在街上，抬头一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是家家户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的窗口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开满了鲜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84240" y="2421000"/>
            <a:ext cx="595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团（  ）（  ）      （  ）（  ）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紫（  ）红       应接（  ）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（  ）寻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63480" y="134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词语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1480" y="162000"/>
            <a:ext cx="58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当堂检测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6783480" y="5033880"/>
            <a:ext cx="268200" cy="517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95280" y="19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人为我，因为（                            ）；我为人人（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020000" y="549360"/>
            <a:ext cx="1728720" cy="1441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364840" y="2637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走在街上的时候，自己又看别人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4200" y="32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自己的花是让别人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483280" y="1413000"/>
            <a:ext cx="498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外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摘抄文中描写花美的句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用花团锦簇、姹紫嫣红各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课外阅读季羡林的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88360" y="765000"/>
            <a:ext cx="281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四五十年过去了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美丽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依然没有改变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家家户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迎接我们的主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满街的窗子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境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那就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0" y="11592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宋体"/>
              </a:rPr>
              <a:t>德国风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6348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54080" y="49536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德国的国花——矢车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36:58Z</dcterms:created>
  <dc:creator>Administrator</dc:creator>
  <dc:description/>
  <dc:language>en-US</dc:language>
  <cp:lastModifiedBy>Lenovo User</cp:lastModifiedBy>
  <dcterms:modified xsi:type="dcterms:W3CDTF">2013-06-04T09:03:21Z</dcterms:modified>
  <cp:revision>213</cp:revision>
  <dc:subject/>
  <dc:title>幻灯片 1</dc:title>
</cp:coreProperties>
</file>