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2.jpeg" ContentType="image/jpeg"/>
  <Override PartName="/ppt/media/image13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7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image40.gif" ContentType="image/gif"/>
  <Override PartName="/ppt/media/image6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5DD3-B6FD-4B76-95A9-3E90083C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3B9-E330-4B02-8DFD-EF854B9B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DD2-7EBC-43EA-AAC5-D83B7968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CCF-2DD9-4E23-AA15-4394A26B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55A1-F511-4317-93FE-BAD20842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50B7-7980-455C-B0A4-EA084A4C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5AC7-EC4F-465C-9099-00CD5136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EAA9-F5F5-46F5-81CB-A50DC0AF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F506-91BD-455A-884A-2587099D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87C5-5CDC-4484-8751-F73A25E5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8379-195E-417D-A770-18BD8F21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D4C-7778-4CEC-B9EE-4EA1A583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13E5-A1F0-49EE-B99D-7CAC3732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8040-6B9F-4071-94AB-B4C00CAD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5AA2-C9AB-4FD3-BE71-B5D3B833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B22F-DEA5-4D43-863E-01AF99FC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64A5-C5BD-4927-B2AE-707D1497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1FD3-7FA5-4FBE-8A00-76915840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D75-93FD-4B33-A280-11576D38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709-F785-414A-B936-C9761379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FC3A-C1D3-4483-A2E0-3610F0E8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19DB-087C-4421-89E8-7D7473EF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02C-84FB-4734-BD7A-0841E035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B3A-A644-4121-A2D5-A4CD2F43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0081-3D12-4E41-9481-232C8E88CB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6459-9627-4ADC-8164-6732B2B1E10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slideLayout" Target="../slideLayouts/slideLayout2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774960" y="36590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执教：后西小学  黄志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396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971640" y="692280"/>
            <a:ext cx="7619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ffff66">
                      <a:alpha val="80000"/>
                    </a:srgbClr>
                  </a:outerShdw>
                </a:effectLst>
                <a:latin typeface="黑体"/>
              </a:rPr>
              <a:t>自己的花是让别人看的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ffff66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5851440"/>
            <a:ext cx="360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第一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92720" y="981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福临大教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57247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299000" y="907920"/>
            <a:ext cx="729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科隆大教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0"/>
            <a:ext cx="37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山中的天鹅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9252000" cy="6742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8360" y="1125360"/>
            <a:ext cx="36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宋体"/>
              </a:rPr>
              <a:t>山中的天鹅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979640" y="9810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莱茵河边的小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1280" y="765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德国的慕尼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84360" y="836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德国的莱茵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40464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蓝色多瑙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0920" y="1197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这是德国的一所城市哥廷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51847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26920" y="1341360"/>
            <a:ext cx="64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哥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廷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根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大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920" y="224208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         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所大学已孕育了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位诺贝尔奖得主。我国著名的语言学家季羡林先生曾求学于哥廷根大学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50920" y="189000"/>
            <a:ext cx="48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学习目标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28240" y="1125360"/>
            <a:ext cx="5301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认识生字词，正确读写“天性、宇宙、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切、脊梁、家家户户、莞尔一笑、花团锦族、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紫嫣红、应接不暇、耐人寻味”等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有感情的朗读课文，背诵课文第三自然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积累课文中的优美语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了解作者所介绍的德国风景与风俗特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合上下文与生活实际体会含义深刻的语句，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受到启示与教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8000" y="836280"/>
            <a:ext cx="3527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季羡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国著名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学大师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贯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，融汇古今，精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语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轻时曾留学德国十年，后著有留学回忆录《留德十年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-25236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04520" y="1413000"/>
            <a:ext cx="5946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读课文，自学生字词，读准字音，读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句子，把你喜欢的句子和词语分别用“—”和“～～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划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边读边想课文的主要内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03480" y="17640"/>
            <a:ext cx="513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自主学习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0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50028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说说为什么自己的花是让别人看的？作  者从中领悟到了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484360" y="1989000"/>
            <a:ext cx="39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脊   莞    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335772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姹   嫣   暇    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23840" y="62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609480"/>
            <a:ext cx="3276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   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333360"/>
            <a:ext cx="518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检查交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10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59040" y="1268280"/>
            <a:ext cx="5996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天性      宇宙      真切     脊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家家户户    莞尔一笑     花团锦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姹紫嫣红    应接不暇     耐人寻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家家户户    耐人寻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333360"/>
            <a:ext cx="2880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词   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87160" y="836640"/>
            <a:ext cx="1400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房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莞尔一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团锦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姹紫嫣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21800" y="907920"/>
            <a:ext cx="498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租或出借房屋的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相对“房客”而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28960" y="181620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形容微笑的样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多指女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24000" y="285264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形容五彩缤纷、十分华丽的景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9040" y="3789360"/>
            <a:ext cx="5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嫣：娇艳。形容各种好看的花娇艳绚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50760" y="3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0"/>
            <a:ext cx="2736720" cy="69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237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理 解 词 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319480" y="162000"/>
            <a:ext cx="527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当堂检测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5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42440" y="285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听写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774960" y="36590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执教：后西小学  黄志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3960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971640" y="692280"/>
            <a:ext cx="7619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ffff66">
                      <a:alpha val="80000"/>
                    </a:srgbClr>
                  </a:outerShdw>
                </a:effectLst>
                <a:latin typeface="黑体"/>
              </a:rPr>
              <a:t>自己的花是让别人看的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ffff66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4" name=""/>
          <p:cNvSpPr/>
          <p:nvPr/>
        </p:nvSpPr>
        <p:spPr>
          <a:xfrm>
            <a:off x="2741760" y="58514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第二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166760" y="69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115920"/>
            <a:ext cx="489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双基回顾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2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255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268280"/>
            <a:ext cx="18457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桃红    粉红      雪白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色彩斑斓     五彩缤纷      色彩缤纷     多姿多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争奇斗艳      竞相开放     绚丽多姿     绚丽多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婀娜多姿     亭亭玉立     芳香四溢      万紫千红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姹紫嫣红     花团锦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8" descr="051008korea03"/>
          <p:cNvPicPr/>
          <p:nvPr/>
        </p:nvPicPr>
        <p:blipFill>
          <a:blip r:embed="rId2"/>
          <a:stretch/>
        </p:blipFill>
        <p:spPr>
          <a:xfrm>
            <a:off x="0" y="0"/>
            <a:ext cx="9360000" cy="7074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0"/>
          <p:cNvSpPr/>
          <p:nvPr/>
        </p:nvSpPr>
        <p:spPr>
          <a:xfrm>
            <a:off x="900000" y="765000"/>
            <a:ext cx="77043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么奇丽的景色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么奇特的民族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71480" y="338040"/>
            <a:ext cx="671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合作学习一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8+7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51040" y="136044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朗读课文，想一想作者在德国看到了一种怎样奇丽的景色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课文是怎样描写的？为什么说是奇特的民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781360"/>
            <a:ext cx="843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温馨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、找出文中描写奇丽景色的句子，画出句子中体现奇丽景色的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、找出文中描写民族奇特的句子，说说让你感到奇特的理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3984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080080" y="836640"/>
            <a:ext cx="512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能歌善舞的民族        烤羊肉串 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葡萄干                      哈密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206064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维吾尔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4253040"/>
            <a:ext cx="21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藏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45320" y="3284640"/>
            <a:ext cx="516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酥油茶    哈达   布达拉宫   雪顿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4720" y="10800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36760" y="907920"/>
            <a:ext cx="334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家户户都在养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他们的花不像在中国那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养在屋子里，他们是把花栽种在临街窗户的外面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都朝外开，在屋子里只能看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的脊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3851280" cy="288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4"/>
          <a:stretch/>
        </p:blipFill>
        <p:spPr>
          <a:xfrm>
            <a:off x="4716360" y="3357720"/>
            <a:ext cx="3888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79480" y="54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407120" y="1413000"/>
            <a:ext cx="7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花朵都朝外开，在屋子里只能看到花的脊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060640"/>
            <a:ext cx="9304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这句话承接上一句，进一步点明了德国人养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的与众不同之处。因为花朵都朝外开，那么在屋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看到的“花的脊梁”就是花朵的背面。显然，德国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养花是给别人看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53680" y="692280"/>
            <a:ext cx="1310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971640" y="1197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走过任何一条街，抬头向上看，家家户户的窗子前都是花团锦簇、姹紫嫣红。许多窗子连接在一起，汇成了一个花的海洋，让我们看的人如入山阴道上，应接不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971640" y="11970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走过任何一条街，抬头向上看，家家户户的窗子前都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花团锦簇、姹紫嫣红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。许多窗子连接在一起，汇成了一个花的海洋，让我们看的人如入山阴道上，应接不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132000" y="580536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花团锦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843280" y="573408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姹紫嫣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763272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走过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任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条街，抬头向上看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家家户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窗子前都是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花团锦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姹紫嫣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许多窗子连接在一起，汇成了一个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花的海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让我们看的人如入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山阴道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应接不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907920"/>
            <a:ext cx="360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走过任何一条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抬头向上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家家户户的窗子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都是花团锦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姹紫嫣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许多窗子连接在一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汇成了一个花的海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让我们看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如入山阴道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应接不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851280" y="836640"/>
            <a:ext cx="5040360" cy="4718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202485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1800" y="46836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每一家都是这样，在屋子里的时候，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是让别人看的；走在街上的时候，自己又看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的花。人人为我，我为人人。我觉得这一种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界是颇耐人寻味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924280"/>
            <a:ext cx="190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每一家都是这样，</a:t>
            </a:r>
            <a:r>
              <a:rPr b="1" i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在屋子里的时候，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花是让别人看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；走在街上的时候，自己又看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花。人人为我，</a:t>
            </a:r>
            <a:r>
              <a:rPr b="1" i="1" lang="zh-CN" sz="3200" spc="-1" strike="noStrike" u="sng">
                <a:solidFill>
                  <a:srgbClr val="cc0066"/>
                </a:solidFill>
                <a:uFillTx/>
                <a:latin typeface="Arial"/>
                <a:ea typeface="宋体"/>
              </a:rPr>
              <a:t>我为人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我觉得这一种境界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颇耐人寻味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692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人人为我，我为人人。我觉得这一种境界是颇耐人寻味的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54000" y="1925640"/>
            <a:ext cx="551484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这一种境界”在这里指“人人为我，我为人人”。“颇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是“很、非常”的意思。“耐人寻味”指意味深长，值得仔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体会琢磨。“我为人人”是说每个人心中要有他人，要有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会责任感，要用实际行动为大众着想，为社会尽到自己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义务。如果大家都这么想这么做就必然会换来“人人为我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的结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91080" y="404640"/>
            <a:ext cx="1029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92720" y="493560"/>
            <a:ext cx="47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马背民族  奶茶   马头琴  那达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22960" y="12682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蒙古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5320" y="2637000"/>
            <a:ext cx="46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孔雀舞  凤尾竹  泼水节  竹筒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89600" y="371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傣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7120" y="29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826920" y="1197000"/>
            <a:ext cx="6785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变化是有的，但是美丽并没有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16480" y="1916280"/>
            <a:ext cx="591696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结合上下文我们可以知道，作者是说德国沿街的奇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风景没有改变，依然是“家家户户的窗子前都是花团锦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姹紫 嫣红。许多窗子连接在一起，汇成了一个花的海洋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同时，也许作者言下之意还在赞扬德国人民那“人人为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我为人人”的美好境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1080" y="692280"/>
            <a:ext cx="10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95280" y="98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我仿佛又回到了四五十年前，我做了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花的梦，做了一个思乡的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213372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作者曾在德国留学十多年，在留学期间时常思念家乡、思念亲人、思念祖国。现在时隔四五十年作者又来到德国，见到那家家户户窗口上的鲜花，不由得触景生情，仿佛进入了梦乡，回到了四五十年前的留学生活时代，他陶醉在鲜花艳丽之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35440" y="620640"/>
            <a:ext cx="1029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37560" y="784080"/>
            <a:ext cx="1634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探 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31560" y="170028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者在德国看到了一种怎样的奇丽的景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种景色与我们国家有什么不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说说你对“人人为我，我为人人。”这种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界是怎样理解的，在生活中你有没有感受过这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境界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266000" y="75564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+4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39640" y="2647080"/>
            <a:ext cx="7920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人人为我，我为人人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觉得这一种境界是颇耐人寻味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9640" y="26028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       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变化是有的，但是</a:t>
            </a: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宋体"/>
              </a:rPr>
              <a:t>美丽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并没有改变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75680" y="2492280"/>
            <a:ext cx="421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多么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宋体"/>
              </a:rPr>
              <a:t>奇丽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的景色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多么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宋体"/>
              </a:rPr>
              <a:t>奇特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的民族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132000" cy="28558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3132000" y="0"/>
            <a:ext cx="2916360" cy="2852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5"/>
          <a:stretch/>
        </p:blipFill>
        <p:spPr>
          <a:xfrm>
            <a:off x="6012000" y="0"/>
            <a:ext cx="3132000" cy="28526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79280" y="3141720"/>
            <a:ext cx="8785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我走在街上，抬头一看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是家家户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的窗口上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开满了鲜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84240" y="2421000"/>
            <a:ext cx="595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花团（  ）（  ）      （  ）（  ）一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  ）紫（  ）红       应接（  ）（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  ）（  ）寻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63480" y="1341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把词语补充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71480" y="162000"/>
            <a:ext cx="58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当堂检测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2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6783480" y="5033880"/>
            <a:ext cx="268200" cy="5176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95280" y="198900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人人为我，因为（                            ）；我为人人（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7020000" y="549360"/>
            <a:ext cx="1728720" cy="1441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364840" y="263700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  <a:ea typeface="宋体"/>
              </a:rPr>
              <a:t>走在街上的时候，自己又看别人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64200" y="3284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  <a:ea typeface="宋体"/>
              </a:rPr>
              <a:t>自己的花是让别人看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483280" y="1413000"/>
            <a:ext cx="4989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外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摘抄文中描写花美的句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用花团锦簇、姹紫嫣红各说一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课外阅读季羡林的作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188360" y="765000"/>
            <a:ext cx="281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四五十年过去了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美丽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依然没有改变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家家户户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迎接我们的主人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满街的窗子前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境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那就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32000" y="11592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宋体"/>
              </a:rPr>
              <a:t>德国风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63480" y="115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54080" y="49536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德国的国花——矢车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36:58Z</dcterms:created>
  <dc:creator>Administrator</dc:creator>
  <dc:description/>
  <dc:language>en-US</dc:language>
  <cp:lastModifiedBy>Lenovo User</cp:lastModifiedBy>
  <dcterms:modified xsi:type="dcterms:W3CDTF">2013-06-04T09:03:21Z</dcterms:modified>
  <cp:revision>213</cp:revision>
  <dc:subject/>
  <dc:title>幻灯片 1</dc:title>
</cp:coreProperties>
</file>