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F2D-FB3C-4595-9D42-26AFF117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636-7AC3-4A2B-854A-697C63B8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64D-E267-49EE-BE10-91CD60BC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5BF-909B-4E4E-8890-0FF7A327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DB6-6CCF-4CAF-896E-63148CD6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9EE-4A5E-4287-A55A-42C8930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662-8305-4857-A0B7-CA41734A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199-B8B6-4D07-B963-C4947E4F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E79-C4E8-43E9-BD75-76C86D92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D4A-9CF6-48B6-B092-57E3B672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CAB-4419-4B15-BD05-7A92D621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93E-06C4-4D71-AA92-1298347D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2634-0D23-4E9D-AD80-012033AADB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304920" y="0"/>
            <a:ext cx="9448920" cy="6937200"/>
          </a:xfrm>
          <a:prstGeom prst="rect">
            <a:avLst/>
          </a:prstGeom>
          <a:ln w="0">
            <a:noFill/>
          </a:ln>
        </p:spPr>
      </p:pic>
      <p:pic>
        <p:nvPicPr>
          <p:cNvPr id="42" name="1111gif" descr=""/>
          <p:cNvPicPr/>
          <p:nvPr/>
        </p:nvPicPr>
        <p:blipFill>
          <a:blip r:embed="rId2"/>
          <a:stretch/>
        </p:blipFill>
        <p:spPr>
          <a:xfrm rot="19458600">
            <a:off x="2971800" y="518112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828800"/>
            <a:ext cx="8077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船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和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057400"/>
            <a:ext cx="1371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未标题-1 拷贝" descr=""/>
          <p:cNvPicPr/>
          <p:nvPr/>
        </p:nvPicPr>
        <p:blipFill>
          <a:blip r:embed="rId3"/>
          <a:stretch/>
        </p:blipFill>
        <p:spPr>
          <a:xfrm rot="19260000">
            <a:off x="5181120" y="0"/>
            <a:ext cx="168588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56160" y="4649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5640" y="0"/>
            <a:ext cx="806940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3733920"/>
            <a:ext cx="83818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小熊乐坏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36576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531720"/>
            <a:ext cx="77724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松鼠乐坏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228600"/>
            <a:ext cx="3962520" cy="335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4191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965320"/>
            <a:ext cx="3962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祝你快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657600" cy="304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3280" y="2924280"/>
            <a:ext cx="411480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“</a:t>
            </a:r>
            <a:r>
              <a:rPr b="1" lang="zh-CN" sz="3000" spc="-1" strike="noStrike">
                <a:solidFill>
                  <a:srgbClr val="ff0066"/>
                </a:solidFill>
                <a:latin typeface="Times New Roman"/>
              </a:rPr>
              <a:t>祝你幸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！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4936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488360" y="52578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8092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有一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们俩为了一点小事吵了一架。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顶上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飘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荡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风筝，小溪里再也看不到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漂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纸船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9074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33" descr=""/>
          <p:cNvPicPr/>
          <p:nvPr/>
        </p:nvPicPr>
        <p:blipFill>
          <a:blip r:embed="rId1"/>
          <a:stretch/>
        </p:blipFill>
        <p:spPr>
          <a:xfrm>
            <a:off x="-69840" y="0"/>
            <a:ext cx="9213840" cy="6912000"/>
          </a:xfrm>
          <a:prstGeom prst="rect">
            <a:avLst/>
          </a:prstGeom>
          <a:ln w="0">
            <a:noFill/>
          </a:ln>
        </p:spPr>
      </p:pic>
      <p:pic>
        <p:nvPicPr>
          <p:cNvPr id="141" name="未标题-1 拷贝" descr=""/>
          <p:cNvPicPr/>
          <p:nvPr/>
        </p:nvPicPr>
        <p:blipFill>
          <a:blip r:embed="rId2"/>
          <a:stretch/>
        </p:blipFill>
        <p:spPr>
          <a:xfrm rot="871200">
            <a:off x="6934320" y="457200"/>
            <a:ext cx="1831680" cy="1905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19520" y="28195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飘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572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山顶上再也看不到     的风筝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中宋"/>
              </a:rPr>
              <a:t>小溪里再也看不到        的纸船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1111gif" descr=""/>
          <p:cNvPicPr/>
          <p:nvPr/>
        </p:nvPicPr>
        <p:blipFill>
          <a:blip r:embed="rId3"/>
          <a:stretch/>
        </p:blipFill>
        <p:spPr>
          <a:xfrm rot="18630000">
            <a:off x="5837760" y="5667840"/>
            <a:ext cx="1143000" cy="474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19520" y="3657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漂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4879 L 0.33455 -0.33734 E">
                                      <p:cBhvr>
                                        <p:cTn id="8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89 L 0.30417 0.15095 E">
                                      <p:cBhvr>
                                        <p:cTn id="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0.00555 L -0.00086 0.33842 E">
                                      <p:cBhvr>
                                        <p:cTn id="10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15228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692280"/>
            <a:ext cx="3505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100" spc="-1" strike="noStrike">
                <a:solidFill>
                  <a:srgbClr val="ff0066"/>
                </a:solidFill>
                <a:latin typeface="Times New Roman"/>
              </a:rPr>
              <a:t>我  会  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33720"/>
            <a:ext cx="8763120" cy="31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草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莓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幸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吵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受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坏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扎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pic>
        <p:nvPicPr>
          <p:cNvPr id="52" name="1111gif" descr=""/>
          <p:cNvPicPr/>
          <p:nvPr/>
        </p:nvPicPr>
        <p:blipFill>
          <a:blip r:embed="rId2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56280" y="2590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33526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89480" y="2363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3360" y="1851120"/>
            <a:ext cx="193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扎风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24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ā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扎针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0560" y="3886200"/>
            <a:ext cx="18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á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挣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未标题-1 拷贝" descr=""/>
          <p:cNvPicPr/>
          <p:nvPr/>
        </p:nvPicPr>
        <p:blipFill>
          <a:blip r:embed="rId3"/>
          <a:stretch/>
        </p:blipFill>
        <p:spPr>
          <a:xfrm rot="7691400">
            <a:off x="7391160" y="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2000" y="260280"/>
            <a:ext cx="43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我  会  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2565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268280"/>
            <a:ext cx="7581960" cy="103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吵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幸福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受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349360"/>
            <a:ext cx="77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里不长东西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3068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天戴草帽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386064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土下小羊没了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6483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示字旁边一口田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18280"/>
            <a:ext cx="76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少用口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77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83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838080" y="2209680"/>
            <a:ext cx="1905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扎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3680" y="228600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81680" y="60199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021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76320" y="-3240"/>
            <a:ext cx="9144000" cy="693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0644800">
            <a:off x="1386000" y="456840"/>
            <a:ext cx="2347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我会写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24480" y="30481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95" name="1111gif" descr=""/>
          <p:cNvPicPr/>
          <p:nvPr/>
        </p:nvPicPr>
        <p:blipFill>
          <a:blip r:embed="rId3"/>
          <a:stretch/>
        </p:blipFill>
        <p:spPr>
          <a:xfrm>
            <a:off x="0" y="5987880"/>
            <a:ext cx="2092320" cy="87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68520" y="0"/>
            <a:ext cx="1839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81280" y="2438280"/>
            <a:ext cx="2133720" cy="1981440"/>
            <a:chOff x="3581280" y="2438280"/>
            <a:chExt cx="2133720" cy="1981440"/>
          </a:xfrm>
        </p:grpSpPr>
        <p:sp>
          <p:nvSpPr>
            <p:cNvPr id="98" name=""/>
            <p:cNvSpPr/>
            <p:nvPr/>
          </p:nvSpPr>
          <p:spPr>
            <a:xfrm>
              <a:off x="35812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812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620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090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6090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9480" y="2438280"/>
            <a:ext cx="2133720" cy="1981440"/>
            <a:chOff x="609480" y="2438280"/>
            <a:chExt cx="2133720" cy="1981440"/>
          </a:xfrm>
        </p:grpSpPr>
        <p:sp>
          <p:nvSpPr>
            <p:cNvPr id="104" name=""/>
            <p:cNvSpPr/>
            <p:nvPr/>
          </p:nvSpPr>
          <p:spPr>
            <a:xfrm>
              <a:off x="609480" y="2438280"/>
              <a:ext cx="2133720" cy="195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3404160"/>
              <a:ext cx="2133720" cy="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0200" y="2438280"/>
              <a:ext cx="0" cy="1981440"/>
            </a:xfrm>
            <a:prstGeom prst="line">
              <a:avLst/>
            </a:prstGeom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7200" y="2462760"/>
              <a:ext cx="210600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37200" y="2462760"/>
              <a:ext cx="2078280" cy="1907280"/>
            </a:xfrm>
            <a:prstGeom prst="line">
              <a:avLst/>
            </a:prstGeom>
            <a:ln w="12600">
              <a:solidFill>
                <a:srgbClr val="ff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38080" y="2209680"/>
            <a:ext cx="17528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000" y="2209680"/>
            <a:ext cx="1163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福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685800"/>
            <a:ext cx="79250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松鼠和小熊通过（     ）和（      ）成了好朋友。可是因为一点小事他们（          ），值得大家高兴的是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3880"/>
            <a:ext cx="76201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松鼠和小熊住在一座山上。松鼠住在山顶，小熊住在山脚。山上的小溪往下流，正好从小熊的家门口流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-468360" y="0"/>
            <a:ext cx="2057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224160"/>
            <a:ext cx="4567320" cy="363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52880" y="-228600"/>
            <a:ext cx="4016520" cy="4103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200" y="228600"/>
            <a:ext cx="8305920" cy="48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折了一只纸船，放在小溪里。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纸船漂呀漂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漂到小熊的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拿起纸船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纸船里放着一个小松果，松果上挂着一张纸条，上面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快乐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小熊也想折一只纸船送给松鼠，可是纸船不能漂到山上去。怎么办呢？他想了想，就扎了一只风筝。风筝乘着风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飘呀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，飘到了松鼠家门口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松鼠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一把抓住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风筝的线一看，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也乐坏了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。风筝上挂着一个草莓，风筝的翅膀上写着：</a:t>
            </a:r>
            <a:r>
              <a:rPr b="1" lang="zh-CN" sz="2700" spc="-1" strike="noStrike">
                <a:solidFill>
                  <a:srgbClr val="ff0066"/>
                </a:solidFill>
                <a:latin typeface="Times New Roman"/>
              </a:rPr>
              <a:t>“祝你幸福！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纸船和风筝让他们俩成了好朋友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-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602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1-21T02:49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