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png" ContentType="image/png"/>
  <Override PartName="/ppt/media/image9.png" ContentType="image/png"/>
  <Override PartName="/ppt/media/image1.wmf" ContentType="image/x-wmf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wmf" ContentType="image/x-wmf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CBF6-ED98-451C-80EB-43D0CA2F5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1484-C8C2-4411-8854-B4399353F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E92E-C69E-4FFA-B43F-F9DE94446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58AF-7757-4D0F-9310-455B712A6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2EA4-70D7-4F39-8DD6-C00FC5E32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F087-090F-45CB-A26F-283EDD337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534C-10E2-4ECE-B6DF-C487D1A05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39B0-32A3-4329-8020-72E7105D9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180C-FEC6-4BFE-9133-04B57FD02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94F5-B9AA-4B93-A261-4D540C17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2F0E-6A6E-4A77-A07E-05ACE34FC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1E58-A2DE-4078-AFE0-EAEBDE305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2FE87-0F20-4FF3-85FF-BEE0B5E954A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" Target="slide1.xm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wmf"/><Relationship Id="rId3" Type="http://schemas.openxmlformats.org/officeDocument/2006/relationships/image" Target="../media/image2.png"/><Relationship Id="rId4" Type="http://schemas.openxmlformats.org/officeDocument/2006/relationships/slide" Target="slide1.xml"/><Relationship Id="rId5" Type="http://schemas.openxmlformats.org/officeDocument/2006/relationships/image" Target="../media/image5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wmf"/><Relationship Id="rId3" Type="http://schemas.openxmlformats.org/officeDocument/2006/relationships/image" Target="../media/image2.png"/><Relationship Id="rId4" Type="http://schemas.openxmlformats.org/officeDocument/2006/relationships/slide" Target="slide1.xm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1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-304920" y="0"/>
            <a:ext cx="9448920" cy="6937200"/>
          </a:xfrm>
          <a:prstGeom prst="rect">
            <a:avLst/>
          </a:prstGeom>
          <a:ln w="0">
            <a:noFill/>
          </a:ln>
        </p:spPr>
      </p:pic>
      <p:pic>
        <p:nvPicPr>
          <p:cNvPr id="42" name="1111gif" descr=""/>
          <p:cNvPicPr/>
          <p:nvPr/>
        </p:nvPicPr>
        <p:blipFill>
          <a:blip r:embed="rId2"/>
          <a:stretch/>
        </p:blipFill>
        <p:spPr>
          <a:xfrm rot="19458600">
            <a:off x="2971800" y="5181120"/>
            <a:ext cx="2092320" cy="8701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28600" y="1828800"/>
            <a:ext cx="8077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 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纸船</a:t>
            </a:r>
            <a:r>
              <a:rPr b="1" lang="zh-CN" sz="6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和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风筝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00600" y="2057400"/>
            <a:ext cx="13716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未标题-1 拷贝" descr=""/>
          <p:cNvPicPr/>
          <p:nvPr/>
        </p:nvPicPr>
        <p:blipFill>
          <a:blip r:embed="rId3"/>
          <a:stretch/>
        </p:blipFill>
        <p:spPr>
          <a:xfrm rot="19260000">
            <a:off x="5181120" y="0"/>
            <a:ext cx="1685880" cy="1752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556160" y="4649760"/>
            <a:ext cx="183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755640" y="0"/>
            <a:ext cx="8069400" cy="41148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33520" y="3733920"/>
            <a:ext cx="838188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小熊拿起纸船一看，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乐坏了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纸船里放着一个小松果，松果上挂着一张纸条，上面写着：“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祝你快乐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-114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小熊乐坏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8076960" cy="3581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85800" y="3657600"/>
            <a:ext cx="8001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松鼠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一把抓住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风筝的线一看，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也乐坏了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风筝上挂着一个草莓，风筝的翅膀上写着：“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祝你幸福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531720"/>
            <a:ext cx="77724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松鼠乐坏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228600" y="228600"/>
            <a:ext cx="3962520" cy="33526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04920" y="41911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0920" y="2965320"/>
            <a:ext cx="396216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小熊拿起纸船一看，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乐坏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纸船里放着一个小松果，松果上挂着一张纸条，上面写着：“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祝你快乐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3657600" cy="30481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876920" y="373392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43280" y="2924280"/>
            <a:ext cx="4114800" cy="19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松鼠</a:t>
            </a:r>
            <a:r>
              <a:rPr b="1" lang="zh-CN" sz="3000" spc="-1" strike="noStrike">
                <a:solidFill>
                  <a:srgbClr val="ff0066"/>
                </a:solidFill>
                <a:latin typeface="Times New Roman"/>
              </a:rPr>
              <a:t>一把抓住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风筝的线一看，</a:t>
            </a:r>
            <a:r>
              <a:rPr b="1" lang="zh-CN" sz="3000" spc="-1" strike="noStrike">
                <a:solidFill>
                  <a:srgbClr val="ff0066"/>
                </a:solidFill>
                <a:latin typeface="Times New Roman"/>
              </a:rPr>
              <a:t>也乐坏了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。风筝上挂着一个草莓，风筝的翅膀上写着：“</a:t>
            </a:r>
            <a:r>
              <a:rPr b="1" lang="zh-CN" sz="3000" spc="-1" strike="noStrike">
                <a:solidFill>
                  <a:srgbClr val="ff0066"/>
                </a:solidFill>
                <a:latin typeface="Times New Roman"/>
              </a:rPr>
              <a:t>祝你幸福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！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249361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7488360" y="5257800"/>
            <a:ext cx="165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880920"/>
            <a:ext cx="91440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是有一天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们俩为了一点小事吵了一架。</a:t>
            </a: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山顶上再也看不到</a:t>
            </a:r>
            <a:r>
              <a:rPr b="1" lang="zh-CN" sz="6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飘</a:t>
            </a:r>
            <a:r>
              <a:rPr b="1" lang="zh-CN" sz="6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荡</a:t>
            </a: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风筝，小溪里再也看不到</a:t>
            </a:r>
            <a:r>
              <a:rPr b="1" lang="zh-CN" sz="6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漂</a:t>
            </a:r>
            <a:r>
              <a:rPr b="1" lang="zh-CN" sz="6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流</a:t>
            </a: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纸船了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290744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33" descr=""/>
          <p:cNvPicPr/>
          <p:nvPr/>
        </p:nvPicPr>
        <p:blipFill>
          <a:blip r:embed="rId1"/>
          <a:stretch/>
        </p:blipFill>
        <p:spPr>
          <a:xfrm>
            <a:off x="-69840" y="0"/>
            <a:ext cx="9213840" cy="6912000"/>
          </a:xfrm>
          <a:prstGeom prst="rect">
            <a:avLst/>
          </a:prstGeom>
          <a:ln w="0">
            <a:noFill/>
          </a:ln>
        </p:spPr>
      </p:pic>
      <p:pic>
        <p:nvPicPr>
          <p:cNvPr id="141" name="未标题-1 拷贝" descr=""/>
          <p:cNvPicPr/>
          <p:nvPr/>
        </p:nvPicPr>
        <p:blipFill>
          <a:blip r:embed="rId2"/>
          <a:stretch/>
        </p:blipFill>
        <p:spPr>
          <a:xfrm rot="871200">
            <a:off x="6934320" y="457200"/>
            <a:ext cx="1831680" cy="19051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819520" y="2819520"/>
            <a:ext cx="165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飘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45720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中宋"/>
              </a:rPr>
              <a:t>山顶上再也看不到     的风筝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4648320"/>
            <a:ext cx="716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中宋"/>
              </a:rPr>
              <a:t>小溪里再也看不到        的纸船了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1111gif" descr=""/>
          <p:cNvPicPr/>
          <p:nvPr/>
        </p:nvPicPr>
        <p:blipFill>
          <a:blip r:embed="rId3"/>
          <a:stretch/>
        </p:blipFill>
        <p:spPr>
          <a:xfrm rot="18630000">
            <a:off x="5837760" y="5667840"/>
            <a:ext cx="1143000" cy="474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2819520" y="365760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漂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955 -0.04879 L 0.33455 -0.33734 E">
                                      <p:cBhvr>
                                        <p:cTn id="89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084 0.0289 L 0.30417 0.15095 E">
                                      <p:cBhvr>
                                        <p:cTn id="93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7" dur="5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86 0.00555 L -0.00086 0.33842 E">
                                      <p:cBhvr>
                                        <p:cTn id="101" dur="5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7688" r="0" b="0"/>
          <a:stretch/>
        </p:blipFill>
        <p:spPr>
          <a:xfrm>
            <a:off x="0" y="0"/>
            <a:ext cx="9144000" cy="6937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-152280" y="0"/>
            <a:ext cx="2057400" cy="19494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258920" y="692280"/>
            <a:ext cx="350532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8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100" spc="-1" strike="noStrike">
                <a:solidFill>
                  <a:srgbClr val="ff0066"/>
                </a:solidFill>
                <a:latin typeface="Times New Roman"/>
              </a:rPr>
              <a:t>我  会  读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2133720"/>
            <a:ext cx="8763120" cy="313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抓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住  草</a:t>
            </a:r>
            <a:r>
              <a:rPr b="1" lang="zh-CN" sz="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莓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幸福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吵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难</a:t>
            </a:r>
            <a:r>
              <a:rPr b="1" lang="zh-CN" sz="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受  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乐</a:t>
            </a:r>
            <a:r>
              <a:rPr b="1" lang="zh-CN" sz="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坏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  </a:t>
            </a:r>
            <a:r>
              <a:rPr b="1" lang="zh-CN" sz="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扎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风筝</a:t>
            </a: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7688" r="0" b="0"/>
          <a:stretch/>
        </p:blipFill>
        <p:spPr>
          <a:xfrm>
            <a:off x="0" y="0"/>
            <a:ext cx="9144000" cy="6937200"/>
          </a:xfrm>
          <a:prstGeom prst="rect">
            <a:avLst/>
          </a:prstGeom>
          <a:ln w="0">
            <a:noFill/>
          </a:ln>
        </p:spPr>
      </p:pic>
      <p:pic>
        <p:nvPicPr>
          <p:cNvPr id="52" name="1111gif" descr=""/>
          <p:cNvPicPr/>
          <p:nvPr/>
        </p:nvPicPr>
        <p:blipFill>
          <a:blip r:embed="rId2"/>
          <a:stretch/>
        </p:blipFill>
        <p:spPr>
          <a:xfrm>
            <a:off x="0" y="5987880"/>
            <a:ext cx="2092320" cy="8701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556280" y="259092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扎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1371600"/>
            <a:ext cx="335268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800" spc="-1" strike="noStrike">
                <a:solidFill>
                  <a:srgbClr val="000000"/>
                </a:solidFill>
                <a:latin typeface="Arial"/>
              </a:rPr>
              <a:t>｛</a:t>
            </a: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89480" y="2363760"/>
            <a:ext cx="183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33360" y="1851120"/>
            <a:ext cx="193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ā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扎风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9880" y="2438280"/>
            <a:ext cx="244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hā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扎针</a:t>
            </a: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40560" y="3886200"/>
            <a:ext cx="183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há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挣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未标题-1 拷贝" descr=""/>
          <p:cNvPicPr/>
          <p:nvPr/>
        </p:nvPicPr>
        <p:blipFill>
          <a:blip r:embed="rId3"/>
          <a:stretch/>
        </p:blipFill>
        <p:spPr>
          <a:xfrm rot="7691400">
            <a:off x="7391160" y="0"/>
            <a:ext cx="1066680" cy="15238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-468360" y="0"/>
            <a:ext cx="205740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7688" r="0" b="0"/>
          <a:stretch/>
        </p:blipFill>
        <p:spPr>
          <a:xfrm>
            <a:off x="0" y="0"/>
            <a:ext cx="9144000" cy="7543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-468360" y="0"/>
            <a:ext cx="2057400" cy="19494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332000" y="260280"/>
            <a:ext cx="43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我  会  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58920" y="2565360"/>
            <a:ext cx="648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00000" y="1268280"/>
            <a:ext cx="7581960" cy="103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吵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莓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幸福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受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抓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坏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2349360"/>
            <a:ext cx="777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土里不长东西。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      （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9640" y="3068640"/>
            <a:ext cx="74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每天戴草帽。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         （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3860640"/>
            <a:ext cx="73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土下小羊没了腰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。          （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1280" y="4648320"/>
            <a:ext cx="748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示字旁边一口田。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  （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5318280"/>
            <a:ext cx="761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少用口。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                  （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rcRect l="0" t="7688" r="0" b="0"/>
          <a:stretch/>
        </p:blipFill>
        <p:spPr>
          <a:xfrm>
            <a:off x="76320" y="-3240"/>
            <a:ext cx="9144000" cy="69375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 rot="20644800">
            <a:off x="1386000" y="456840"/>
            <a:ext cx="2347920" cy="94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我会写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324480" y="3048120"/>
            <a:ext cx="2584440" cy="2786040"/>
          </a:xfrm>
          <a:prstGeom prst="rect">
            <a:avLst/>
          </a:prstGeom>
          <a:ln w="0">
            <a:noFill/>
          </a:ln>
        </p:spPr>
      </p:pic>
      <p:pic>
        <p:nvPicPr>
          <p:cNvPr id="74" name="1111gif" descr=""/>
          <p:cNvPicPr/>
          <p:nvPr/>
        </p:nvPicPr>
        <p:blipFill>
          <a:blip r:embed="rId3"/>
          <a:stretch/>
        </p:blipFill>
        <p:spPr>
          <a:xfrm>
            <a:off x="0" y="5987880"/>
            <a:ext cx="2092320" cy="8701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568520" y="0"/>
            <a:ext cx="18396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581280" y="2438280"/>
            <a:ext cx="2133720" cy="1981440"/>
            <a:chOff x="3581280" y="2438280"/>
            <a:chExt cx="2133720" cy="1981440"/>
          </a:xfrm>
        </p:grpSpPr>
        <p:sp>
          <p:nvSpPr>
            <p:cNvPr id="77" name=""/>
            <p:cNvSpPr/>
            <p:nvPr/>
          </p:nvSpPr>
          <p:spPr>
            <a:xfrm>
              <a:off x="3581280" y="2438280"/>
              <a:ext cx="2133720" cy="1956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cap="sq"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81280" y="3404160"/>
              <a:ext cx="2133720" cy="0"/>
            </a:xfrm>
            <a:prstGeom prst="line">
              <a:avLst/>
            </a:prstGeom>
            <a:ln cap="sq"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662000" y="2438280"/>
              <a:ext cx="0" cy="1981440"/>
            </a:xfrm>
            <a:prstGeom prst="line">
              <a:avLst/>
            </a:prstGeom>
            <a:ln cap="sq"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609000" y="2462760"/>
              <a:ext cx="2106000" cy="1907280"/>
            </a:xfrm>
            <a:prstGeom prst="line">
              <a:avLst/>
            </a:prstGeom>
            <a:ln w="1260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3609000" y="2462760"/>
              <a:ext cx="2078280" cy="1907280"/>
            </a:xfrm>
            <a:prstGeom prst="line">
              <a:avLst/>
            </a:prstGeom>
            <a:ln w="12600">
              <a:solidFill>
                <a:srgbClr val="ff33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609480" y="2438280"/>
            <a:ext cx="2133720" cy="1981440"/>
            <a:chOff x="609480" y="2438280"/>
            <a:chExt cx="2133720" cy="1981440"/>
          </a:xfrm>
        </p:grpSpPr>
        <p:sp>
          <p:nvSpPr>
            <p:cNvPr id="83" name=""/>
            <p:cNvSpPr/>
            <p:nvPr/>
          </p:nvSpPr>
          <p:spPr>
            <a:xfrm>
              <a:off x="609480" y="2438280"/>
              <a:ext cx="2133720" cy="1956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cap="sq"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09480" y="3404160"/>
              <a:ext cx="2133720" cy="0"/>
            </a:xfrm>
            <a:prstGeom prst="line">
              <a:avLst/>
            </a:prstGeom>
            <a:ln cap="sq"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690200" y="2438280"/>
              <a:ext cx="0" cy="1981440"/>
            </a:xfrm>
            <a:prstGeom prst="line">
              <a:avLst/>
            </a:prstGeom>
            <a:ln cap="sq"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7200" y="2462760"/>
              <a:ext cx="2106000" cy="1907280"/>
            </a:xfrm>
            <a:prstGeom prst="line">
              <a:avLst/>
            </a:prstGeom>
            <a:ln w="1260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637200" y="2462760"/>
              <a:ext cx="2078280" cy="1907280"/>
            </a:xfrm>
            <a:prstGeom prst="line">
              <a:avLst/>
            </a:prstGeom>
            <a:ln w="12600">
              <a:solidFill>
                <a:srgbClr val="ff33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838080" y="2209680"/>
            <a:ext cx="190512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扎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63680" y="2286000"/>
            <a:ext cx="11638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抓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-468360" y="0"/>
            <a:ext cx="2057400" cy="19494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6"/>
          <a:stretch/>
        </p:blipFill>
        <p:spPr>
          <a:xfrm>
            <a:off x="6781680" y="6019920"/>
            <a:ext cx="38124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302155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0" t="7688" r="0" b="0"/>
          <a:stretch/>
        </p:blipFill>
        <p:spPr>
          <a:xfrm>
            <a:off x="76320" y="-3240"/>
            <a:ext cx="9144000" cy="69375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 rot="20644800">
            <a:off x="1386000" y="456840"/>
            <a:ext cx="2347920" cy="94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我会写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324480" y="3048120"/>
            <a:ext cx="2584440" cy="2786040"/>
          </a:xfrm>
          <a:prstGeom prst="rect">
            <a:avLst/>
          </a:prstGeom>
          <a:ln w="0">
            <a:noFill/>
          </a:ln>
        </p:spPr>
      </p:pic>
      <p:pic>
        <p:nvPicPr>
          <p:cNvPr id="95" name="1111gif" descr=""/>
          <p:cNvPicPr/>
          <p:nvPr/>
        </p:nvPicPr>
        <p:blipFill>
          <a:blip r:embed="rId3"/>
          <a:stretch/>
        </p:blipFill>
        <p:spPr>
          <a:xfrm>
            <a:off x="0" y="5987880"/>
            <a:ext cx="2092320" cy="8701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568520" y="0"/>
            <a:ext cx="18396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581280" y="2438280"/>
            <a:ext cx="2133720" cy="1981440"/>
            <a:chOff x="3581280" y="2438280"/>
            <a:chExt cx="2133720" cy="1981440"/>
          </a:xfrm>
        </p:grpSpPr>
        <p:sp>
          <p:nvSpPr>
            <p:cNvPr id="98" name=""/>
            <p:cNvSpPr/>
            <p:nvPr/>
          </p:nvSpPr>
          <p:spPr>
            <a:xfrm>
              <a:off x="3581280" y="2438280"/>
              <a:ext cx="2133720" cy="1956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cap="sq"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81280" y="3404160"/>
              <a:ext cx="2133720" cy="0"/>
            </a:xfrm>
            <a:prstGeom prst="line">
              <a:avLst/>
            </a:prstGeom>
            <a:ln cap="sq"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62000" y="2438280"/>
              <a:ext cx="0" cy="1981440"/>
            </a:xfrm>
            <a:prstGeom prst="line">
              <a:avLst/>
            </a:prstGeom>
            <a:ln cap="sq"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09000" y="2462760"/>
              <a:ext cx="2106000" cy="1907280"/>
            </a:xfrm>
            <a:prstGeom prst="line">
              <a:avLst/>
            </a:prstGeom>
            <a:ln w="1260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3609000" y="2462760"/>
              <a:ext cx="2078280" cy="1907280"/>
            </a:xfrm>
            <a:prstGeom prst="line">
              <a:avLst/>
            </a:prstGeom>
            <a:ln w="12600">
              <a:solidFill>
                <a:srgbClr val="ff33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609480" y="2438280"/>
            <a:ext cx="2133720" cy="1981440"/>
            <a:chOff x="609480" y="2438280"/>
            <a:chExt cx="2133720" cy="1981440"/>
          </a:xfrm>
        </p:grpSpPr>
        <p:sp>
          <p:nvSpPr>
            <p:cNvPr id="104" name=""/>
            <p:cNvSpPr/>
            <p:nvPr/>
          </p:nvSpPr>
          <p:spPr>
            <a:xfrm>
              <a:off x="609480" y="2438280"/>
              <a:ext cx="2133720" cy="1956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cap="sq"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9480" y="3404160"/>
              <a:ext cx="2133720" cy="0"/>
            </a:xfrm>
            <a:prstGeom prst="line">
              <a:avLst/>
            </a:prstGeom>
            <a:ln cap="sq"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690200" y="2438280"/>
              <a:ext cx="0" cy="1981440"/>
            </a:xfrm>
            <a:prstGeom prst="line">
              <a:avLst/>
            </a:prstGeom>
            <a:ln cap="sq"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37200" y="2462760"/>
              <a:ext cx="2106000" cy="1907280"/>
            </a:xfrm>
            <a:prstGeom prst="line">
              <a:avLst/>
            </a:prstGeom>
            <a:ln w="1260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637200" y="2462760"/>
              <a:ext cx="2078280" cy="1907280"/>
            </a:xfrm>
            <a:prstGeom prst="line">
              <a:avLst/>
            </a:prstGeom>
            <a:ln w="12600">
              <a:solidFill>
                <a:srgbClr val="ff33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838080" y="2209680"/>
            <a:ext cx="175284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祝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40000" y="2209680"/>
            <a:ext cx="11638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福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-468360" y="0"/>
            <a:ext cx="205740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rcRect l="0" t="7688" r="0" b="0"/>
          <a:stretch/>
        </p:blipFill>
        <p:spPr>
          <a:xfrm>
            <a:off x="0" y="0"/>
            <a:ext cx="9144000" cy="69372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838080" y="685800"/>
            <a:ext cx="792504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松鼠和小熊通过（     ）和（      ）成了好朋友。可是因为一点小事他们（          ），值得大家高兴的是（         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-468360" y="0"/>
            <a:ext cx="205740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rcRect l="0" t="7688" r="0" b="0"/>
          <a:stretch/>
        </p:blipFill>
        <p:spPr>
          <a:xfrm>
            <a:off x="0" y="0"/>
            <a:ext cx="9144000" cy="69372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143000" y="1523880"/>
            <a:ext cx="7620120" cy="19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松鼠和小熊住在一座山上。松鼠住在山顶，小熊住在山脚。山上的小溪往下流，正好从小熊的家门口流过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-468360" y="0"/>
            <a:ext cx="205740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3224160"/>
            <a:ext cx="4567320" cy="3633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952880" y="-228600"/>
            <a:ext cx="4016520" cy="41036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57200" y="228600"/>
            <a:ext cx="8305920" cy="48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松鼠折了一只纸船，放在小溪里。</a:t>
            </a:r>
            <a:r>
              <a:rPr b="1" lang="zh-CN" sz="2700" spc="-1" strike="noStrike">
                <a:solidFill>
                  <a:srgbClr val="ff0066"/>
                </a:solidFill>
                <a:latin typeface="Times New Roman"/>
              </a:rPr>
              <a:t>纸船漂呀漂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，漂到小熊的家门口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小熊拿起纸船一看，</a:t>
            </a:r>
            <a:r>
              <a:rPr b="1" lang="zh-CN" sz="2700" spc="-1" strike="noStrike">
                <a:solidFill>
                  <a:srgbClr val="ff0066"/>
                </a:solidFill>
                <a:latin typeface="Times New Roman"/>
              </a:rPr>
              <a:t>乐坏了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。纸船里放着一个小松果，松果上挂着一张纸条，上面写着：</a:t>
            </a:r>
            <a:r>
              <a:rPr b="1" lang="zh-CN" sz="2700" spc="-1" strike="noStrike">
                <a:solidFill>
                  <a:srgbClr val="ff0066"/>
                </a:solidFill>
                <a:latin typeface="Times New Roman"/>
              </a:rPr>
              <a:t>“祝你快乐！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小熊也想折一只纸船送给松鼠，可是纸船不能漂到山上去。怎么办呢？他想了想，就扎了一只风筝。风筝乘着风，</a:t>
            </a:r>
            <a:r>
              <a:rPr b="1" lang="zh-CN" sz="2700" spc="-1" strike="noStrike">
                <a:solidFill>
                  <a:srgbClr val="ff0066"/>
                </a:solidFill>
                <a:latin typeface="Times New Roman"/>
              </a:rPr>
              <a:t>飘呀飘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，飘到了松鼠家门口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松鼠</a:t>
            </a:r>
            <a:r>
              <a:rPr b="1" lang="zh-CN" sz="2700" spc="-1" strike="noStrike">
                <a:solidFill>
                  <a:srgbClr val="ff0066"/>
                </a:solidFill>
                <a:latin typeface="Times New Roman"/>
              </a:rPr>
              <a:t>一把抓住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风筝的线一看，</a:t>
            </a:r>
            <a:r>
              <a:rPr b="1" lang="zh-CN" sz="2700" spc="-1" strike="noStrike">
                <a:solidFill>
                  <a:srgbClr val="ff0066"/>
                </a:solidFill>
                <a:latin typeface="Times New Roman"/>
              </a:rPr>
              <a:t>也乐坏了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。风筝上挂着一个草莓，风筝的翅膀上写着：</a:t>
            </a:r>
            <a:r>
              <a:rPr b="1" lang="zh-CN" sz="2700" spc="-1" strike="noStrike">
                <a:solidFill>
                  <a:srgbClr val="ff0066"/>
                </a:solidFill>
                <a:latin typeface="Times New Roman"/>
              </a:rPr>
              <a:t>“祝你幸福！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纸船和风筝让他们俩成了好朋友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8028000" y="59500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-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196023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ky123.Org</cp:lastModifiedBy>
  <dcterms:modified xsi:type="dcterms:W3CDTF">2015-01-21T02:49:05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