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wmf" ContentType="image/x-wmf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BED2-AFB3-41C3-B5D7-4C405290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6830-586A-413D-99E2-EF6EDB26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4DD-AB85-4BCC-B547-BDCA39E5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9053-B4AA-4DBC-A7D0-30C6D91E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518B-D8AF-4FE3-8841-CCEE425B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6AB4-83E2-4607-92C3-C4054CEC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09F7-A87B-403F-8EF2-4CB0DCF7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E919-436B-4236-BC09-5CA08284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661A-ED77-4C93-9475-EF2C9B03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C8A9-7887-4100-9DA6-E54CA471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3000-99EC-41C5-8D8F-53B5229E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E562-4434-4057-A6E5-2A64A306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F51B-ABCF-46A4-B5FE-ADBD14D428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" Target="slide1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slide" Target="slide1.xml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slide" Target="slide1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1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-304920" y="0"/>
            <a:ext cx="9448920" cy="6937200"/>
          </a:xfrm>
          <a:prstGeom prst="rect">
            <a:avLst/>
          </a:prstGeom>
          <a:ln w="0">
            <a:noFill/>
          </a:ln>
        </p:spPr>
      </p:pic>
      <p:pic>
        <p:nvPicPr>
          <p:cNvPr id="42" name="1111gif" descr=""/>
          <p:cNvPicPr/>
          <p:nvPr/>
        </p:nvPicPr>
        <p:blipFill>
          <a:blip r:embed="rId2"/>
          <a:stretch/>
        </p:blipFill>
        <p:spPr>
          <a:xfrm rot="19458600">
            <a:off x="2971800" y="518112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1828800"/>
            <a:ext cx="8077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船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和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057400"/>
            <a:ext cx="1371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未标题-1 拷贝" descr=""/>
          <p:cNvPicPr/>
          <p:nvPr/>
        </p:nvPicPr>
        <p:blipFill>
          <a:blip r:embed="rId3"/>
          <a:stretch/>
        </p:blipFill>
        <p:spPr>
          <a:xfrm rot="19260000">
            <a:off x="5181120" y="0"/>
            <a:ext cx="1685880" cy="175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56160" y="464976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755640" y="0"/>
            <a:ext cx="8069400" cy="4114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3520" y="3733920"/>
            <a:ext cx="83818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熊拿起纸船一看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乐坏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纸船里放着一个小松果，松果上挂着一张纸条，上面写着：“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祝你快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小熊乐坏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3581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" y="365760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松鼠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一把抓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风筝的线一看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也乐坏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风筝上挂着一个草莓，风筝的翅膀上写着：“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祝你幸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531720"/>
            <a:ext cx="77724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松鼠乐坏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28600" y="228600"/>
            <a:ext cx="3962520" cy="3352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41911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2965320"/>
            <a:ext cx="39621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熊拿起纸船一看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乐坏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纸船里放着一个小松果，松果上挂着一张纸条，上面写着：“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祝你快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3657600" cy="3048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876920" y="37339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3280" y="2924280"/>
            <a:ext cx="4114800" cy="19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松鼠</a:t>
            </a:r>
            <a:r>
              <a:rPr b="1" lang="zh-CN" sz="3000" spc="-1" strike="noStrike">
                <a:solidFill>
                  <a:srgbClr val="ff0066"/>
                </a:solidFill>
                <a:latin typeface="Times New Roman"/>
              </a:rPr>
              <a:t>一把抓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风筝的线一看，</a:t>
            </a:r>
            <a:r>
              <a:rPr b="1" lang="zh-CN" sz="3000" spc="-1" strike="noStrike">
                <a:solidFill>
                  <a:srgbClr val="ff0066"/>
                </a:solidFill>
                <a:latin typeface="Times New Roman"/>
              </a:rPr>
              <a:t>也乐坏了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。风筝上挂着一个草莓，风筝的翅膀上写着：“</a:t>
            </a:r>
            <a:r>
              <a:rPr b="1" lang="zh-CN" sz="3000" spc="-1" strike="noStrike">
                <a:solidFill>
                  <a:srgbClr val="ff0066"/>
                </a:solidFill>
                <a:latin typeface="Times New Roman"/>
              </a:rPr>
              <a:t>祝你幸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24936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488360" y="525780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88092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有一天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俩为了一点小事吵了一架。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山顶上再也看不到</a:t>
            </a: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飘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荡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风筝，小溪里再也看不到</a:t>
            </a: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漂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流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纸船了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9074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33" descr="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912000"/>
          </a:xfrm>
          <a:prstGeom prst="rect">
            <a:avLst/>
          </a:prstGeom>
          <a:ln w="0">
            <a:noFill/>
          </a:ln>
        </p:spPr>
      </p:pic>
      <p:pic>
        <p:nvPicPr>
          <p:cNvPr id="141" name="未标题-1 拷贝" descr=""/>
          <p:cNvPicPr/>
          <p:nvPr/>
        </p:nvPicPr>
        <p:blipFill>
          <a:blip r:embed="rId2"/>
          <a:stretch/>
        </p:blipFill>
        <p:spPr>
          <a:xfrm rot="871200">
            <a:off x="6934320" y="457200"/>
            <a:ext cx="1831680" cy="1905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19520" y="281952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飘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4572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山顶上再也看不到     的风筝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6483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小溪里再也看不到        的纸船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1111gif" descr=""/>
          <p:cNvPicPr/>
          <p:nvPr/>
        </p:nvPicPr>
        <p:blipFill>
          <a:blip r:embed="rId3"/>
          <a:stretch/>
        </p:blipFill>
        <p:spPr>
          <a:xfrm rot="18630000">
            <a:off x="5837760" y="5667840"/>
            <a:ext cx="1143000" cy="474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819520" y="36576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漂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5 -0.04879 L 0.33455 -0.33734 E">
                                      <p:cBhvr>
                                        <p:cTn id="8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0.0289 L 0.30417 0.15095 E">
                                      <p:cBhvr>
                                        <p:cTn id="93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6 0.00555 L -0.00086 0.33842 E">
                                      <p:cBhvr>
                                        <p:cTn id="101" dur="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152280" y="0"/>
            <a:ext cx="2057400" cy="1949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58920" y="692280"/>
            <a:ext cx="35053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100" spc="-1" strike="noStrike">
                <a:solidFill>
                  <a:srgbClr val="ff0066"/>
                </a:solidFill>
                <a:latin typeface="Times New Roman"/>
              </a:rPr>
              <a:t>我  会  读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133720"/>
            <a:ext cx="8763120" cy="313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抓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住  草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莓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幸福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吵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受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乐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坏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  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扎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pic>
        <p:nvPicPr>
          <p:cNvPr id="52" name="1111gif" descr=""/>
          <p:cNvPicPr/>
          <p:nvPr/>
        </p:nvPicPr>
        <p:blipFill>
          <a:blip r:embed="rId2"/>
          <a:stretch/>
        </p:blipFill>
        <p:spPr>
          <a:xfrm>
            <a:off x="0" y="598788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56280" y="25909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371600"/>
            <a:ext cx="335268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</a:rPr>
              <a:t>｛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89480" y="236376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33360" y="1851120"/>
            <a:ext cx="193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扎风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2438280"/>
            <a:ext cx="24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ā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扎针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40560" y="3886200"/>
            <a:ext cx="18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á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挣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未标题-1 拷贝" descr=""/>
          <p:cNvPicPr/>
          <p:nvPr/>
        </p:nvPicPr>
        <p:blipFill>
          <a:blip r:embed="rId3"/>
          <a:stretch/>
        </p:blipFill>
        <p:spPr>
          <a:xfrm rot="7691400">
            <a:off x="7391160" y="0"/>
            <a:ext cx="1066680" cy="1523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32000" y="260280"/>
            <a:ext cx="43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我  会  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8920" y="256536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1268280"/>
            <a:ext cx="7581960" cy="103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吵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莓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幸福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受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抓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坏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2349360"/>
            <a:ext cx="77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土里不长东西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306864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每天戴草帽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386064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土下小羊没了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464832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示字旁边一口田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318280"/>
            <a:ext cx="76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少用口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76320" y="-3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 rot="20644800">
            <a:off x="1386000" y="456840"/>
            <a:ext cx="2347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我会写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324480" y="30481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74" name="1111gif" descr=""/>
          <p:cNvPicPr/>
          <p:nvPr/>
        </p:nvPicPr>
        <p:blipFill>
          <a:blip r:embed="rId3"/>
          <a:stretch/>
        </p:blipFill>
        <p:spPr>
          <a:xfrm>
            <a:off x="0" y="598788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68520" y="0"/>
            <a:ext cx="18396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581280" y="2438280"/>
            <a:ext cx="2133720" cy="1981440"/>
            <a:chOff x="3581280" y="2438280"/>
            <a:chExt cx="2133720" cy="1981440"/>
          </a:xfrm>
        </p:grpSpPr>
        <p:sp>
          <p:nvSpPr>
            <p:cNvPr id="77" name=""/>
            <p:cNvSpPr/>
            <p:nvPr/>
          </p:nvSpPr>
          <p:spPr>
            <a:xfrm>
              <a:off x="35812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812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620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090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6090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09480" y="2438280"/>
            <a:ext cx="2133720" cy="1981440"/>
            <a:chOff x="609480" y="2438280"/>
            <a:chExt cx="2133720" cy="1981440"/>
          </a:xfrm>
        </p:grpSpPr>
        <p:sp>
          <p:nvSpPr>
            <p:cNvPr id="83" name=""/>
            <p:cNvSpPr/>
            <p:nvPr/>
          </p:nvSpPr>
          <p:spPr>
            <a:xfrm>
              <a:off x="6094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902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72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6372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838080" y="2209680"/>
            <a:ext cx="19051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扎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63680" y="228600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抓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6781680" y="601992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30215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76320" y="-3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 rot="20644800">
            <a:off x="1386000" y="456840"/>
            <a:ext cx="2347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我会写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24480" y="30481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95" name="1111gif" descr=""/>
          <p:cNvPicPr/>
          <p:nvPr/>
        </p:nvPicPr>
        <p:blipFill>
          <a:blip r:embed="rId3"/>
          <a:stretch/>
        </p:blipFill>
        <p:spPr>
          <a:xfrm>
            <a:off x="0" y="598788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68520" y="0"/>
            <a:ext cx="18396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81280" y="2438280"/>
            <a:ext cx="2133720" cy="1981440"/>
            <a:chOff x="3581280" y="2438280"/>
            <a:chExt cx="2133720" cy="1981440"/>
          </a:xfrm>
        </p:grpSpPr>
        <p:sp>
          <p:nvSpPr>
            <p:cNvPr id="98" name=""/>
            <p:cNvSpPr/>
            <p:nvPr/>
          </p:nvSpPr>
          <p:spPr>
            <a:xfrm>
              <a:off x="35812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812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620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090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6090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09480" y="2438280"/>
            <a:ext cx="2133720" cy="1981440"/>
            <a:chOff x="609480" y="2438280"/>
            <a:chExt cx="2133720" cy="1981440"/>
          </a:xfrm>
        </p:grpSpPr>
        <p:sp>
          <p:nvSpPr>
            <p:cNvPr id="104" name=""/>
            <p:cNvSpPr/>
            <p:nvPr/>
          </p:nvSpPr>
          <p:spPr>
            <a:xfrm>
              <a:off x="6094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94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902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72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372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838080" y="2209680"/>
            <a:ext cx="175284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祝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0000" y="220968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福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8080" y="685800"/>
            <a:ext cx="792504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松鼠和小熊通过（     ）和（      ）成了好朋友。可是因为一点小事他们（          ），值得大家高兴的是（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1523880"/>
            <a:ext cx="762012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松鼠和小熊住在一座山上。松鼠住在山顶，小熊住在山脚。山上的小溪往下流，正好从小熊的家门口流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224160"/>
            <a:ext cx="4567320" cy="3633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952880" y="-228600"/>
            <a:ext cx="4016520" cy="4103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57200" y="228600"/>
            <a:ext cx="8305920" cy="48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松鼠折了一只纸船，放在小溪里。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纸船漂呀漂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，漂到小熊的家门口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小熊拿起纸船一看，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乐坏了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。纸船里放着一个小松果，松果上挂着一张纸条，上面写着：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“祝你快乐！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小熊也想折一只纸船送给松鼠，可是纸船不能漂到山上去。怎么办呢？他想了想，就扎了一只风筝。风筝乘着风，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飘呀飘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，飘到了松鼠家门口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松鼠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一把抓住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风筝的线一看，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也乐坏了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。风筝上挂着一个草莓，风筝的翅膀上写着：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“祝你幸福！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纸船和风筝让他们俩成了好朋友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02800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-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9602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y123.Org</cp:lastModifiedBy>
  <dcterms:modified xsi:type="dcterms:W3CDTF">2015-01-21T02:49:0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