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7B1-BE1D-44C9-9AD5-19476820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5AF2-DC00-4C3B-AF11-06E8469B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AE97E-7A6A-40CF-B1D1-CA8D0812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23399-D9E9-4DBD-B37A-46901A35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5C855-662A-4369-A7A5-4A5B50D9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F643D-C6D1-4A5F-A3FE-9C37A522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D6991-3528-4B72-9B34-FC22E344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EDD8E-A48C-4088-9085-6FCFBD81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FB5C4-4A05-47BE-94EF-1E9AD3B4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22192-446A-4891-80AA-47C280BD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3AFBE-3974-44B1-901C-5549FD16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2820E-526A-4F2D-87BB-5D2FE467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DF45-FB86-4295-8B27-2107E3D8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AC0B6-516D-4239-A64B-9E149BDE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1F278-0D93-42A6-812A-92FC4C3E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99C37-F666-4A79-AD38-400E67E5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CB695-758B-43EF-AB7B-D89C755A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47C40-377E-4BF4-AB59-C63FC6B1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9A2C4-3422-4C14-BECF-F92765B0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1BA8F-11D5-4489-A100-AF5DB874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828D0-E331-46BF-9D68-60894735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7A570-B0C6-488B-B9C7-B7FD0C4F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64523-7328-428A-A08D-C71C438A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3C6-0750-43D8-B255-3CE43AA7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60646-3A37-457B-9239-F50A6CB6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D0735-473B-46F3-BFA1-C7CEA621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19A6D-32D4-4D1E-9E6D-AD6040AD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E37D6-F56E-4A6F-8944-9404090A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84A3B-C888-43F4-BCE2-0CE0D3CB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57C5C-47EB-4AEF-865E-73599A87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5FB0F-3286-4E8A-8118-35E35A05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2679F-7749-4780-87F0-407576ED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112F3-67AC-42D8-AEDD-7364EB2D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BB897-BD90-425B-A7DB-7726471E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DF80-354B-4DB8-8092-BCAA4EEB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44E69-407E-4702-A907-C8EF7BBC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D9E3D-7482-4C10-9403-966B730F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63758-4D77-4DC7-A6FC-7600A4FD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8B29E-0AED-44C7-958C-CED6066E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92F4F-7195-4F2E-8E7E-4B5EC2F8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F106D-5644-4526-8283-9387CF4A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CCAC8-E801-461A-9C88-4FAD14F1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D3AD4-1519-463E-911D-06C93D82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A0A4D-8569-4FAD-8456-66B6907B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1BA00-9523-43F1-8F4E-92C8562D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8D42-C229-4BB5-8288-E26938C3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8C4CD-A172-467B-959B-AE9661EF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58673-96E8-4723-8F90-5C88AC14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2A8C7-66D0-4977-A92E-37DDF784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19B11-FDD3-4DDF-920A-03CB2C3B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F86B7-48FD-4354-BEED-8D965658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DE36-3B95-4274-819A-D3FC2058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0751-8422-40FE-8CF7-540EAEC4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1EE2-23EF-4D90-B058-C7AEA3B7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F7C9-6698-47AD-B3C1-FE48F80D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2E41-BA10-4FCC-BA77-FB7C26B4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2C7-F228-4445-935C-3E1DFC9B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2F69-5616-4E49-A9CB-52CD9546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0603-1D5F-410F-AF38-E4AB1A08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F4D6-7996-45BB-9BAD-E770AE91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02FB-555B-4B3D-ADAB-E0B935BC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EA04-D8CD-41DC-9A24-7C59FCD0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940E2-D03E-453D-B332-DC7DF179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52505-8BD2-496D-BB75-5C12EFB0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8D7A6-DB28-4408-84A6-9A324E59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6FEBE-6C48-4B7C-9933-84718BAC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C1219-9755-4F1B-BAAC-CA3ED2C4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F64B-2019-4555-B94A-DA30BC8B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60D5C-8B12-421D-9C44-6A1D9407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442B0-E6D9-4C06-B60D-E8E4FEAB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D7F78-093B-4C97-B84E-A844E8FE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5C44E-EE80-46BF-93BA-AEC1DAC2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BF051-4115-49CC-AA08-44DCA04C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EE194-4B61-428B-8436-DB50F321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24776-9284-407E-9FEA-CF867876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A2B19-B630-4874-8230-345E7A01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5E51D-54AD-43FE-B3FC-6FB347E2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8F8F0-2907-4A8D-AB27-320B8B3D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18CF-129A-4EFB-AB7C-B3F3E83E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160B4-9FC3-40B5-9E30-0830C161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B482B-D13A-45E6-8CC8-4319E115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FE773-20C4-4456-8C3E-5263725C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B6A24-E350-4463-BD60-59AF8274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77F92-EE78-4F55-B1B3-5D2C2876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E268F-9ACB-48BF-809D-531FA172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E4D88-AFAF-4715-AA95-ABB934B2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066E0-E075-4846-A2CF-3F459639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719C5-3CB3-49CB-92AF-E8359F03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2C88C-83A1-4E23-9E88-3478F4B6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8FF2-BDBB-429A-A3C2-628D6A50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6B97E-1E8C-4C30-AB2E-360341B1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A276B-7D6F-4391-AE52-F8FF7621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1230F-3DA4-46AB-AB02-0F4D5634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E288C-EC6D-4271-BEDF-09447F9A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23E9D-EF3E-4A68-B6E3-CCC225C0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B387A-F82D-4D5E-9B4E-D3F739C6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B32E6-0DF3-4B45-AC65-C6613FA0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7063D-3B73-473B-9E2E-658C13FB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66DF6-B632-4A52-AE3D-CD071AA4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092CA-6ECD-4EF2-9A89-E897720C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91FE-1496-464A-97F8-0F0AC25F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7E74A-9021-44AE-9479-469AAB41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C0523-3797-4688-8A1E-A27092B2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A5A64-5671-408F-84C3-B05E72D4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8326D-16AA-4E3E-96E2-2A1C059A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039BC-B0D0-4FD3-AAA2-63B3AC70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96E6D-2E2C-493B-B66C-AC12B387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37294-9E72-4FC2-8369-33BF77DE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4A535-D00A-4F37-9D92-F179AA96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9B42C-5E33-492B-820E-83716589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00914-FBB6-4B5B-9CA9-1DA50CA5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D1AD-CDF6-4111-A95A-D08684B0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F8DAF-0139-4879-A53F-CD2A0FF5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D721E-72C2-4AB0-B63A-ED1E72FD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DCCD8-96C9-429C-9068-C3838F10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A1497-66D5-4640-A92A-B9ADB472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C2B5F-2232-4499-A531-6B453D3D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FF7E8-596C-47A8-AB27-C87CB041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2C8B3-F447-4228-8A40-540C3AC0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2F0E6-4FB1-4AAD-A9E5-E2014EDA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6F8DF-341B-439F-9FB0-0F5C3CE1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0924B-91B7-475B-9146-8E5A88C3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C12-4269-4793-B87A-25086088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A0718-EF81-4774-B857-83A7EC84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839B2-7D06-4994-A8F9-03307BBF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3F7A4-509B-481F-B1A4-AFE1842B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EA5B9-6867-459F-A872-F92A8262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41C52-6A53-4D10-A921-F087A753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9C4C0-EB3B-4FF5-BFE3-F0FF002D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38604-7A20-43A3-8FCC-5FFCA83D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78638-01AD-45DE-A1FA-ACAC3A5E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468D6-A151-4ECE-86FF-9A5210A4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5A1E8-2AB8-4A8B-AE63-F5D60F55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720-E521-4309-904C-0FB16A12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E959D-93D7-4DFC-8B39-9BA49DBF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AB6C6-7226-4C8F-BEAC-9541F201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2B2D8-3266-4D2C-82D9-B29A950E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E91E8-A37E-4C2C-8B52-192DB8BF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974C5-EA41-4733-8928-5AD22D8A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FDC27-5409-4F75-AEB7-929F17B9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A86C2-028A-4B36-B517-BB74D0EF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F6C4C-F73F-42F3-9E6A-A7E69D7C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E0AE6-4B8B-45CE-B01A-F76037F8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9B36F-CEDA-4736-8200-5DE3F945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833E-961C-4B52-BA30-83D068E60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FF64-9425-4540-B400-A86392DE8D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A4B0-0898-47F0-AB15-D2BDC75534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7E6A-D687-4EAB-BF95-D667BD57CA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51EE-2A80-4001-978D-398D1E92F1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D3A0-38CD-4133-AA23-FFDAFF82C9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242E-06B8-4245-8FF0-0FE0807BCB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6972-D95B-4072-8C9E-046B9D5E67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B734-CB73-4E35-AE00-7166C74852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8EAE-69F1-4723-9BF0-7E98238547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FD23-CD84-4A8A-B593-D2BED724A3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0D1D-BB61-419E-AC02-80C080FCEE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10"/>
          <p:cNvSpPr txBox="1"/>
          <p:nvPr/>
        </p:nvSpPr>
        <p:spPr>
          <a:xfrm>
            <a:off x="2411280" y="2349360"/>
            <a:ext cx="3673440" cy="17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迷你简祥隶"/>
              </a:rPr>
              <a:t>信箱</a:t>
            </a:r>
            <a:endParaRPr b="0" lang="en-US" sz="60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迷你简祥隶"/>
              <a:ea typeface="迷你简祥隶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71640" y="206064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华文楷体"/>
                <a:ea typeface="华文楷体"/>
              </a:rPr>
              <a:t>          </a:t>
            </a:r>
            <a:r>
              <a:rPr b="1" lang="zh-CN" sz="3600" spc="-1" strike="noStrike">
                <a:solidFill>
                  <a:srgbClr val="009999"/>
                </a:solidFill>
                <a:latin typeface="华文楷体"/>
                <a:ea typeface="华文楷体"/>
              </a:rPr>
              <a:t>爸爸让娃丽和哥哥轮流管信箱，爸爸的用意何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细读感悟"/>
          <p:cNvPicPr/>
          <p:nvPr/>
        </p:nvPicPr>
        <p:blipFill>
          <a:blip r:embed="rId2"/>
          <a:stretch/>
        </p:blipFill>
        <p:spPr>
          <a:xfrm>
            <a:off x="75564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770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鼓励娃丽继续做一个有责任感的人，暗示哥哥要像娃丽一样做个有责任感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细读感悟"/>
          <p:cNvPicPr/>
          <p:nvPr/>
        </p:nvPicPr>
        <p:blipFill>
          <a:blip r:embed="rId2"/>
          <a:stretch/>
        </p:blipFill>
        <p:spPr>
          <a:xfrm>
            <a:off x="684360" y="1052640"/>
            <a:ext cx="208728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　      学习了本课你有什么感受？假如是你遇到了类似的事，你会怎么做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细读感悟"/>
          <p:cNvPicPr/>
          <p:nvPr/>
        </p:nvPicPr>
        <p:blipFill>
          <a:blip r:embed="rId2"/>
          <a:stretch/>
        </p:blipFill>
        <p:spPr>
          <a:xfrm>
            <a:off x="684360" y="1052640"/>
            <a:ext cx="208728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689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    课后把这个故事讲给你的父母或者爷爷、奶奶听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拓展学习"/>
          <p:cNvPicPr/>
          <p:nvPr/>
        </p:nvPicPr>
        <p:blipFill>
          <a:blip r:embed="rId2"/>
          <a:stretch/>
        </p:blipFill>
        <p:spPr>
          <a:xfrm>
            <a:off x="900000" y="981000"/>
            <a:ext cx="23050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WordArt 4"/>
          <p:cNvSpPr txBox="1"/>
          <p:nvPr/>
        </p:nvSpPr>
        <p:spPr>
          <a:xfrm>
            <a:off x="2771640" y="2276640"/>
            <a:ext cx="266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31" name="Picture 5" descr="MCj04294430000[1]"/>
          <p:cNvPicPr/>
          <p:nvPr/>
        </p:nvPicPr>
        <p:blipFill>
          <a:blip r:embed="rId2"/>
          <a:stretch/>
        </p:blipFill>
        <p:spPr>
          <a:xfrm>
            <a:off x="6588000" y="4076640"/>
            <a:ext cx="17971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632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受娃丽关爱他人的美好心灵，做一个有优良品质的小公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掌握课文的生字，正确、流利、有感情地朗读课文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99640" y="191628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同学们现在你是怎样和你的朋友、亲戚联系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以前人们又是用哪些方式进行联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写信就得用到信箱，信箱的作用是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6" descr="初读感知"/>
          <p:cNvPicPr/>
          <p:nvPr/>
        </p:nvPicPr>
        <p:blipFill>
          <a:blip r:embed="rId2"/>
          <a:stretch/>
        </p:blipFill>
        <p:spPr>
          <a:xfrm>
            <a:off x="611280" y="981000"/>
            <a:ext cx="2079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00000" y="23320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华文楷体"/>
              </a:rPr>
              <a:t>   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楷体"/>
              </a:rPr>
              <a:t>通读全文思考，课文主要写了哪些人物？他们之间发生了什么事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00000" y="220500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哥哥、娃丽各是怎样对待课文那封信的？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1115640" y="1988640"/>
            <a:ext cx="6985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娃丽为什么拿到了和哥哥一模一样的钥匙？</a:t>
            </a:r>
            <a:r>
              <a:rPr b="0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4" descr="细读感悟"/>
          <p:cNvPicPr/>
          <p:nvPr/>
        </p:nvPicPr>
        <p:blipFill>
          <a:blip r:embed="rId2"/>
          <a:stretch/>
        </p:blipFill>
        <p:spPr>
          <a:xfrm>
            <a:off x="684360" y="98100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755640" y="1916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           </a:t>
            </a: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娃丽给石铁潘诺夫一家带去的仅仅是一封信吗？还带去了什么？她是个什么样的人？</a:t>
            </a:r>
            <a:r>
              <a:rPr b="0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细读感悟"/>
          <p:cNvPicPr/>
          <p:nvPr/>
        </p:nvPicPr>
        <p:blipFill>
          <a:blip r:embed="rId2"/>
          <a:stretch/>
        </p:blipFill>
        <p:spPr>
          <a:xfrm>
            <a:off x="684360" y="83664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1295280" y="2187360"/>
            <a:ext cx="784872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你想对哥什提亚说些什么呢？</a:t>
            </a:r>
            <a:r>
              <a:rPr b="0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细读感悟"/>
          <p:cNvPicPr/>
          <p:nvPr/>
        </p:nvPicPr>
        <p:blipFill>
          <a:blip r:embed="rId2"/>
          <a:stretch/>
        </p:blipFill>
        <p:spPr>
          <a:xfrm>
            <a:off x="684360" y="90792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826560" y="1988640"/>
            <a:ext cx="7129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华文楷体"/>
                <a:ea typeface="华文楷体"/>
              </a:rPr>
              <a:t>           </a:t>
            </a:r>
            <a:r>
              <a:rPr b="1" lang="zh-CN" sz="3200" spc="-1" strike="noStrike">
                <a:solidFill>
                  <a:srgbClr val="3399ff"/>
                </a:solidFill>
                <a:latin typeface="华文楷体"/>
                <a:ea typeface="华文楷体"/>
              </a:rPr>
              <a:t>请同学们根据以上几个问题，找出相关段落，分角色朗读，从中分析并体会人物的性格特征及思想品格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32:11Z</dcterms:created>
  <dc:creator/>
  <dc:description>第一PPT模板网-WWW.1PPT.COM</dc:description>
  <dc:language>en-US</dc:language>
  <cp:lastModifiedBy>admin</cp:lastModifiedBy>
  <dcterms:modified xsi:type="dcterms:W3CDTF">2015-01-30T06:20:27Z</dcterms:modified>
  <cp:revision>36</cp:revision>
  <dc:subject/>
  <dc:title>PowerPoint 演示文稿</dc:title>
</cp:coreProperties>
</file>