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B43-A358-478D-A9DF-E7FD6BE7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482-65DF-4F20-BA33-14A71434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5C3C4-39C4-4C2F-8D4E-FF0DAB19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BEEC9-4073-4BF1-A30F-7DCC17B7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C719D-E14A-4156-830F-C2368BB0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0F7F1-5EB6-4A2A-B933-17CC4F2B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32C02-2C2F-4751-88D0-3545A762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B8E8D-B1E2-4304-B864-4227FE6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D8939-E4D0-4CFB-A45E-70517A11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5063C-6BC5-48B7-ACC0-F17E1D9A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C10FD-55D1-49F3-8D6F-E8F9D5B8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D9B01-D484-4EB8-826B-0897B0F9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C18-F265-4981-A370-E5DC79FE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1A599-DA1D-44B7-B987-9865123F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40EF9-292C-49BD-85B1-070A663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4F908-F545-4DE1-94E7-EF132541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B1242-8B22-4247-B6E7-1C80AA48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1A144-9E1E-41D5-BF8F-C75BAA75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17157-2069-4BE6-AB4C-60F7DA42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DC08A-E13B-42DE-93C2-FA0EC482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8E1CF-D67D-4B29-9FE8-3072F7DF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24DC0-5210-4351-92F3-CECEB2FB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A98A4-E358-41B9-8A46-DBF9C3C9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C34-7FF0-4B15-9E62-8CDDD136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6C57B-806F-4407-86AF-09C5F661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96182-0878-48DD-81B0-3A3DBF0F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B8096-B2DD-4244-9F8F-032DC42C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44078-37E3-469F-9EAC-7F9A71F8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FB048-4E86-46A1-8645-C19BA3A7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BE3D1-E8FE-4D4B-9C03-2479CDA4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E527-F9FE-449D-BEDC-5A098177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F316F-39B1-4FB3-B494-2B123E60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BDE75-FD6F-4965-B82D-7323609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72A61-5B6A-47AD-AC54-318E410E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5F17-EB5C-45EF-8761-77CD518E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2BD22-7490-41D2-AE96-E83978BA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1B670-BA59-49E4-B8BC-59BB1F02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32404-24A9-4687-8C10-6D31630E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9F0D3-683E-4199-95A7-C199813C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3A130-7DF0-4FD2-8D3D-89E09C98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7E84A-1097-42BE-9194-73A84FF6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2716E-1725-45B7-B700-C27304DB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6DBF2-F54C-4A4A-A929-554BC1AA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8F183-55B3-45FD-9C54-673E9813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588D0-2074-4349-B31A-B1FDB71A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0C05-31E7-4C4A-9BD6-803F0CEF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8E902-E174-4D6B-A8CF-08988B40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D23A6-72D0-4270-AAD1-72C7CCE7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56458-E637-45DE-A708-8112452B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E7D79-204B-4411-B1EA-C7C9D83E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6E108-32A0-4F3C-99F9-F629AA0E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A3E6-0A9E-4637-8549-05533BE1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7151-C129-48B3-8D53-DA7344C7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A8EF-3326-482D-84E5-2B83F92A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5A86-611D-4F54-BA55-3DF15ACD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07F8-A4B5-46D6-A735-64213626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B6D-0821-4E69-A249-B4DD8D6A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D27D-0842-4771-840D-D6CF7F9C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38FC-1EB3-48CB-A9D3-4DC7C643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104F-8271-47FD-893E-08AF0131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B722-D73B-4E22-80ED-4AF7D259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727E-D000-4623-B879-DC0E51B3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9236-9CBE-476E-934F-15AA5F1E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21C2-0BBB-4DCC-B423-3EDB986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4762-2BDA-4957-BBE0-25DBBB3D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06E0-113A-4837-96D2-158ED70F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78C29-E0CD-4712-A69A-C8ED28CA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257-AD08-4EFF-B36D-ED70CC0B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41EC-9A37-4B33-9598-68AEB39E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A393-7965-4F0B-8CCB-38B46CD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AB1A-6C05-4ACD-B687-88E2A5E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935B-4F9C-41D0-84F7-999CF67E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7752-0A6E-40B6-8805-2DFB91A2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3FE9E-0F74-4E48-9F7E-E461F6BF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D8BA-861D-4B0F-97CE-D1CB297A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8B60-9565-4D35-8DDB-D369B4CE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DAB4-4CF6-4225-B0AB-071FB2D2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DFDA-99C8-41D8-AD1B-520E3582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090-DB56-423F-8151-6F423754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B9215-3C16-4196-AE5C-E4FFF1D0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0EABD-275B-483B-8E13-7086D3C9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128F-5433-467C-9B94-F799638F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727AA-0F8F-432D-BF47-440DF27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CE74-EFEF-4AAD-99CC-1291A66F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867A-A4F8-40FB-8194-15AA6C4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E4402-2B91-44C8-9C36-748026FC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2A0A-D68F-42DD-88E5-41EAE259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228A-7BF1-4AF1-8273-94A6D89F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8EE03-BDE0-4097-AE71-50713934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079-51C3-48FD-9192-CD194AD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5302D-2197-457C-9018-C9112D57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7FA8C-6C19-44E8-B761-65FC7FCE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D58D-A1A8-4902-8E69-41687EC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9C442-B302-4312-8407-221968ED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F9F13-A0C4-4F6F-AB92-AF7CC93B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3CC01-6A7B-4960-9B30-4E6B5D23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8BAB4-7A9A-4284-AD93-E9F607FA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019C-8ABD-47F1-9580-BD82FBFF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CEB4-9926-4852-ADDD-E02AA4BA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BC6B4-9FB6-411D-8EE0-73DA10E7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036-DAA2-4220-AB22-3EBC8EA6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6F7CA-8BEE-401F-9951-9BA55718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8F63A-A51A-41FB-B10E-B7617335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7D251-B016-42E7-BC7A-4EFE0B34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08E94-5856-4BAB-9450-9597ACAA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97700-BAA1-4A94-982F-79EE8210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A14B4-86EA-4D0F-8476-999C4855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D181B-7640-4DC2-8EE4-A952CE44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24B0E-00DB-49AA-A116-F81615A8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59977-CF3D-4035-8639-C9403A55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665D-A022-4005-88BB-44D71E5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29A-B35B-4106-8C14-6499032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EF94B-1B75-4782-ADEF-97E6D35B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8103-A928-404C-9905-282122FF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B7F4-3A2D-4B58-BFE4-1E4A923F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02419-22F6-4C64-8011-CAF99A40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FA1C3-012B-4CF2-9937-7C96534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970EC-CDEE-492F-94C4-0BBDA81C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DAEC8-88A3-4244-8A49-C555CFC4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A0884-E50D-4B55-8453-1DCA12D1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2B9D4-69CD-4805-BD85-7ECF50DA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6414D-10C8-4A56-BCDD-598E089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99D-B6FA-4FD1-87A9-FB1C207C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8A504-686D-4CDA-ADC7-C2B625F1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EE6B1-0239-4594-83F4-142DE0F8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5942A-9BD5-41CF-9BD2-AB92E609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D41D0-C101-4DAB-A61A-FFB134CC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D5488-D9E9-4C9F-BD9F-2100CEDE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D3A8F-6642-4F80-B6FD-A2F9673F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58EED-044A-4F19-B996-8CC41720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E0232-E6B9-487D-AF55-1EDA8AC9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244D1-5F14-4F1B-A920-B17984F1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47982-0514-4A07-90B2-5000B61C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166-7541-4D63-B04B-EB18AE1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F1645-FE28-4D42-BA47-9A0C6106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D7F5A-55DA-4CEA-850C-C5216BB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F9B40-309F-44C4-88F9-7301195D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8DF11-FF09-444A-B282-33E0E580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59C54-3580-4BC3-AC29-B63CD439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39E51-8CE0-4830-95DE-863F5AF6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61B87-A316-4DD8-86C6-C1DDAE1B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49B09-E23D-45C3-86F6-FC55A32A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6904B-422A-49E7-8F8A-BA0B08E7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C1462-4EA3-4EA9-AB1A-35497464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31A-AB89-4260-8704-2493BEDE2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7D97-66A2-4C07-9045-1556D8B951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05E0-C8B3-432A-93EA-BA926DBEEE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82C4-C10E-45DE-B27C-05E4CE716C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1DB-C756-4579-9C1C-A8DFAC7956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64C5-F3B7-4826-9932-2A5033240E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C5C2-8394-4A4C-989A-4912B24D43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3562-BD6B-44B7-B535-61417C8E53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7593-F213-4871-8FF2-87E5A81E08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4DF-371A-4DD9-A9AD-FDC200E10C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0F6D-6BF7-4A5A-981B-2B25F668B2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BD7B-20E2-449A-8548-1820D4B55E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"/>
          <p:cNvSpPr txBox="1"/>
          <p:nvPr/>
        </p:nvSpPr>
        <p:spPr>
          <a:xfrm>
            <a:off x="2411280" y="2349360"/>
            <a:ext cx="367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祥隶"/>
              </a:rPr>
              <a:t>信箱</a:t>
            </a:r>
            <a:endParaRPr b="0" lang="en-US" sz="6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祥隶"/>
              <a:ea typeface="迷你简祥隶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爸爸让娃丽和哥哥轮流管信箱，爸爸的用意何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细读感悟"/>
          <p:cNvPicPr/>
          <p:nvPr/>
        </p:nvPicPr>
        <p:blipFill>
          <a:blip r:embed="rId2"/>
          <a:stretch/>
        </p:blipFill>
        <p:spPr>
          <a:xfrm>
            <a:off x="75564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鼓励娃丽继续做一个有责任感的人，暗示哥哥要像娃丽一样做个有责任感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　      学习了本课你有什么感受？假如是你遇到了类似的事，你会怎么做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689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课后把这个故事讲给你的父母或者爷爷、奶奶听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拓展学习"/>
          <p:cNvPicPr/>
          <p:nvPr/>
        </p:nvPicPr>
        <p:blipFill>
          <a:blip r:embed="rId2"/>
          <a:stretch/>
        </p:blipFill>
        <p:spPr>
          <a:xfrm>
            <a:off x="900000" y="981000"/>
            <a:ext cx="230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2771640" y="2276640"/>
            <a:ext cx="26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31" name="Picture 5" descr="MCj04294430000[1]"/>
          <p:cNvPicPr/>
          <p:nvPr/>
        </p:nvPicPr>
        <p:blipFill>
          <a:blip r:embed="rId2"/>
          <a:stretch/>
        </p:blipFill>
        <p:spPr>
          <a:xfrm>
            <a:off x="6588000" y="407664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娃丽关爱他人的美好心灵，做一个有优良品质的小公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课文的生字，正确、流利、有感情地朗读课文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现在你是怎样和你的朋友、亲戚联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以前人们又是用哪些方式进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信就得用到信箱，信箱的作用是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00000" y="23320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楷体"/>
              </a:rPr>
              <a:t>通读全文思考，课文主要写了哪些人物？他们之间发生了什么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00000" y="220500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哥哥、娃丽各是怎样对待课文那封信的？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698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娃丽为什么拿到了和哥哥一模一样的钥匙？</a:t>
            </a:r>
            <a:r>
              <a:rPr b="0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细读感悟"/>
          <p:cNvPicPr/>
          <p:nvPr/>
        </p:nvPicPr>
        <p:blipFill>
          <a:blip r:embed="rId2"/>
          <a:stretch/>
        </p:blipFill>
        <p:spPr>
          <a:xfrm>
            <a:off x="684360" y="98100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娃丽给石铁潘诺夫一家带去的仅仅是一封信吗？还带去了什么？她是个什么样的人？</a:t>
            </a:r>
            <a:r>
              <a:rPr b="0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细读感悟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295280" y="2187360"/>
            <a:ext cx="78487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你想对哥什提亚说些什么呢？</a:t>
            </a:r>
            <a:r>
              <a:rPr b="0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细读感悟"/>
          <p:cNvPicPr/>
          <p:nvPr/>
        </p:nvPicPr>
        <p:blipFill>
          <a:blip r:embed="rId2"/>
          <a:stretch/>
        </p:blipFill>
        <p:spPr>
          <a:xfrm>
            <a:off x="684360" y="90792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1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请同学们根据以上几个问题，找出相关段落，分角色朗读，从中分析并体会人物的性格特征及思想品格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/>
  <dc:description>第一PPT模板网-WWW.1PPT.COM</dc:description>
  <dc:language>en-US</dc:language>
  <cp:lastModifiedBy>admin</cp:lastModifiedBy>
  <dcterms:modified xsi:type="dcterms:W3CDTF">2015-01-30T06:20:27Z</dcterms:modified>
  <cp:revision>36</cp:revision>
  <dc:subject/>
  <dc:title>PowerPoint 演示文稿</dc:title>
</cp:coreProperties>
</file>