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414-1988-4401-9A3A-6776FFC9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BAF-B779-4137-921B-83DE7CCB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7E895-023C-4EF9-9D26-B0D2568D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49B7E-028B-4176-AF5D-F5DCA464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C5407-5F08-43D2-A789-DAE7E06B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F4CE5-C964-4D9D-A279-010299EA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F9D4E-0E78-48CB-AE51-848C4B38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C47DE-74D0-47B5-B337-2D7F4893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1379F-1FB9-40B4-8F02-F56B23E6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925B5-22D1-43FB-826C-7ED71A37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E29C5-CB60-4807-9FA5-089B6726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9CC3E-788B-48A7-8BCA-592E5DF8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624-6B6B-4F62-BA45-0FC83CF4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E480C-99F7-4E06-BD41-AF0F9FA8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1AE17-14F4-4E6D-B1C0-D807C460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91365-2371-4CD5-9918-82007BB1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23C05-360A-4DD7-BB78-F7093B6E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0DC82-F230-4717-82F3-85C89EAB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B4318-CFDE-4650-9A30-299F6969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4216C-2529-47D2-9474-7C8CDDE9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80004-CDF1-478F-9869-E7B840E3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222FD-47D5-4B75-800C-D7FDE15D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E11BB-F3EA-451F-BAF3-FA774699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FBD-1413-411E-AE05-16CAE8D5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314E1-08FA-4332-AA85-A0E67367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B922E-6C9B-4D52-9034-0DAED5E8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B61BD-3947-4428-BB9F-185859A4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D3193-D476-49FA-B594-39EC6670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4D33A-CE5D-49D1-BBC7-BF1445A1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114EC-B515-4E88-BD55-66CED4F5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88579-3771-4948-AD9B-6E9D8443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19D1F-0D71-4556-B797-52BB6BC1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B11B9-ED22-4BBE-A6CC-3281B4BE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41943-1232-49B4-B820-A6C15F56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A184-58E0-41CA-818C-AB8BB838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25C2F-A92F-4C68-8F2E-62F22210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F1B11-F871-4E28-9ED6-A6C956AB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6CFD7-599D-40EF-940D-8A2BADEB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9C823-6318-4CC4-B5B8-079F2296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4BB0A-1BC8-46E1-A2BB-4B06FC8D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AD595-8C17-4EEA-99F0-47CE1676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38E46-8257-41D9-B08E-2AED926C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48394-C665-4CA1-BF37-924A573C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F2A98-B607-4753-BE94-F089EE57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43C4D-D22D-452A-B594-CFFD5912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6767-246D-447D-AFD9-10E3FAA6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15363-ACB5-4866-B45D-6831F82C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9B9DD-06C5-4CB4-86BC-E6E0FC2A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B4AE8-0CF1-4BF6-9696-80093ECF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A1903-EFA7-4426-A498-15A602EA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E42D7-CFC4-4396-A6A1-94C977D7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5F82-E329-474F-9986-FADF9561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01DC-95FB-4729-8518-84464D1D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6D54-AEC0-40A0-9C32-78BF9494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780A-FF37-498C-BEFB-565A1A2B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4A6E-EC7D-4345-A86A-EAB93770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298-9C91-47AA-B358-3C8063D0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552C-876F-4CFE-B179-CC2912A4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89E0-C51B-4FEC-A4A6-A223C9EF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3A5A-05DC-408A-AA7A-AA6E8391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D527-7152-471C-A178-75FE2021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1328-31D4-4B41-9E0A-6EA0A1F3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F0808-6353-4214-8C95-C9101A01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0F7F0-B6A9-4FE9-9F69-FD98625F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1162F-4D32-4274-BC1D-F54C01D6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76480-6E64-4CA4-9694-0B3D403C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79940-8719-4D20-8E5B-6BA84E7C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14E-E0C6-4177-AC4B-B9626358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65928-44CC-45F7-8AC1-27FD0BA5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9B35F-E9EB-4180-B42C-8AC3E077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4296-FEF8-477F-9898-161828C6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C98F6-A594-433E-93C8-454E4A14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9E3A7-6C53-4609-9211-03CC708E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BEE2-1EBB-44EB-AD18-1AC97A43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80F24-37B3-4914-8C91-465F2B00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34693-6D2E-4B73-9A21-F659721F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0BC35-561F-4342-A7B7-C4D94C47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460C9-D342-4638-9C7C-D1EFB037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7BF-B168-4F47-ACBB-D3D60981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143E8-251E-4249-842C-8CC93C51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2BC2E-4B76-4439-93C6-E9153822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45D23-0F24-4CE3-8DAE-D2A4CB96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6BC91-78D9-4682-A7A3-D35BC44C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0FAEC-86AD-4D00-86EE-19CF70F9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974CB-43F3-4948-93AD-58242324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703F9-F6C1-48CD-B38F-2DF666AD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BFA0C-0634-4FED-916B-DA80BB83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642E3-B866-4F87-B63E-3CD6BE2C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8FC2B-EC42-4D31-9177-41DFCF63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55C-7893-4F93-94D8-2B40C51D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E8E8B-7594-4ABF-8566-DDBF3AF7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EB635-462B-47EE-B71D-D1253C54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68E0F-3E6D-437E-BE6C-F6C7D68D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6FD9A-CCF6-4A66-A31E-B9DE0B3A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50C88-423C-4D16-9280-93411F09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B789B-AF40-486D-9622-CF319248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C1F11-30E5-41BC-B6E4-78D2FC6F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DCEBA-906B-42F4-BA9F-E2CE581D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5B7C4-EC4B-445D-8F7E-2686A3E9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4E5EC-F687-4674-856F-21C1D99B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9A21-347A-473D-9103-27042828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C0F7F-6295-4FAD-86C8-59687018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39993-EBAC-456C-9D2B-C95F3592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3A131-A8CD-4E4B-9408-9FCDECAF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AC4DC-6FE9-47EB-BB28-3EA2ACF8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7A9DE-2F38-4182-BE5E-1321193C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E8412-DA60-454B-92D5-98983D13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1C427-DF58-48CC-9D9F-315A61E4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5B644-6D98-4D42-A31B-D03C7716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DE817-7150-40F0-A5AC-B53FAAC8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0D559-2239-45A0-B464-6E2404FE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6F3D-B916-4608-B678-340B84BD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A072E-28C0-4834-BAE2-F7C1DE44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CB4A6-E06C-4AC3-9C7C-27B0ADEF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456AB-DED6-4BFD-9E61-9C75CA83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345EB-F954-4EB5-B5EC-2041E69C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B25CE-3480-4F3C-8A66-12C2E4E6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3A507-5F7B-4D0C-8A9C-E076D5D6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93EFA-5A4E-4FA0-86BF-5C12C807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7D903-6312-4F2B-9BC0-D9406D55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BAAB0-02F3-4681-AB04-F73D6DAA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9050F-378C-4004-A819-88A2A390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7FB8-EFA0-4C27-8FCF-4331F6B6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B9D76-7D3F-4ADC-B23D-6A6D3022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BBFD8-FCB7-4A85-B8BA-A6C660D5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099A8-82D1-4F22-82C1-4852EE92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1A8C6-124F-4747-9ED7-A9694619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60A7C-FB64-46B0-8C67-D66C7425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2D5A5-0546-440C-8EDA-AC5DA9FB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2394B-5C00-4D26-893C-A35397C5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E27B9-3BA0-40CB-9371-FBBB8970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A7F9E-FDCA-4042-8B67-55A2586F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99267-F67A-44CF-AA9D-D28A504C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17C-3290-4384-B360-2FD88AC9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36A69-ADE3-4BCA-A994-B1401935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91B32-24AA-4BC4-98C5-7721510B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06BE6-5537-411C-BCBD-45F59A4F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6007E-5263-401B-A045-174909DE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D1A6B-C3DC-42BA-A39C-2C820A8B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54E5A-DEF1-456F-87CC-AB4C519F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29DAC-D6C0-49A8-A925-F3CFDC9E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C942B-0A7E-4466-BE91-11D791B9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4218B-8CA3-4CB3-85AF-C58E878A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81B78-607A-4079-AB19-DC883F0F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09B6-438B-44CD-91CB-8361D203C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2B6A-0BDB-4553-9BC8-6D20ED6872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F85C-92DE-49A9-A15B-204E50BEE0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613D-B82A-4CCE-B8A8-FBFF6B753C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3874-93D8-474F-917A-FD855332A0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5A6C-3216-4519-80B6-39BCBD807C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A08C-0E3E-467A-8055-A6A8B7C321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7E85-02CF-4C45-BDE9-C30411930E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AF22-6777-4F94-8D2F-C3C336EE3A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D1D8-519F-450B-B787-CA78423542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43BE-156F-4C47-BC80-35C61CC038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EA28-E5B8-42F3-9562-A71AFE4E42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10"/>
          <p:cNvSpPr txBox="1"/>
          <p:nvPr/>
        </p:nvSpPr>
        <p:spPr>
          <a:xfrm>
            <a:off x="2411280" y="2349360"/>
            <a:ext cx="367344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迷你简祥隶"/>
              </a:rPr>
              <a:t>信箱</a:t>
            </a:r>
            <a:endParaRPr b="0" lang="en-US" sz="60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迷你简祥隶"/>
              <a:ea typeface="迷你简祥隶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71640" y="206064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华文楷体"/>
                <a:ea typeface="华文楷体"/>
              </a:rPr>
              <a:t>          </a:t>
            </a:r>
            <a:r>
              <a:rPr b="1" lang="zh-CN" sz="3600" spc="-1" strike="noStrike">
                <a:solidFill>
                  <a:srgbClr val="009999"/>
                </a:solidFill>
                <a:latin typeface="华文楷体"/>
                <a:ea typeface="华文楷体"/>
              </a:rPr>
              <a:t>爸爸让娃丽和哥哥轮流管信箱，爸爸的用意何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细读感悟"/>
          <p:cNvPicPr/>
          <p:nvPr/>
        </p:nvPicPr>
        <p:blipFill>
          <a:blip r:embed="rId2"/>
          <a:stretch/>
        </p:blipFill>
        <p:spPr>
          <a:xfrm>
            <a:off x="75564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770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鼓励娃丽继续做一个有责任感的人，暗示哥哥要像娃丽一样做个有责任感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细读感悟"/>
          <p:cNvPicPr/>
          <p:nvPr/>
        </p:nvPicPr>
        <p:blipFill>
          <a:blip r:embed="rId2"/>
          <a:stretch/>
        </p:blipFill>
        <p:spPr>
          <a:xfrm>
            <a:off x="684360" y="1052640"/>
            <a:ext cx="20872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　      学习了本课你有什么感受？假如是你遇到了类似的事，你会怎么做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细读感悟"/>
          <p:cNvPicPr/>
          <p:nvPr/>
        </p:nvPicPr>
        <p:blipFill>
          <a:blip r:embed="rId2"/>
          <a:stretch/>
        </p:blipFill>
        <p:spPr>
          <a:xfrm>
            <a:off x="684360" y="1052640"/>
            <a:ext cx="20872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689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    课后把这个故事讲给你的父母或者爷爷、奶奶听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拓展学习"/>
          <p:cNvPicPr/>
          <p:nvPr/>
        </p:nvPicPr>
        <p:blipFill>
          <a:blip r:embed="rId2"/>
          <a:stretch/>
        </p:blipFill>
        <p:spPr>
          <a:xfrm>
            <a:off x="900000" y="981000"/>
            <a:ext cx="23050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WordArt 4"/>
          <p:cNvSpPr txBox="1"/>
          <p:nvPr/>
        </p:nvSpPr>
        <p:spPr>
          <a:xfrm>
            <a:off x="2771640" y="2276640"/>
            <a:ext cx="266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31" name="Picture 5" descr="MCj04294430000[1]"/>
          <p:cNvPicPr/>
          <p:nvPr/>
        </p:nvPicPr>
        <p:blipFill>
          <a:blip r:embed="rId2"/>
          <a:stretch/>
        </p:blipFill>
        <p:spPr>
          <a:xfrm>
            <a:off x="6588000" y="4076640"/>
            <a:ext cx="1797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受娃丽关爱他人的美好心灵，做一个有优良品质的小公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掌握课文的生字，正确、流利、有感情地朗读课文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99640" y="191628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同学们现在你是怎样和你的朋友、亲戚联系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以前人们又是用哪些方式进行联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信就得用到信箱，信箱的作用是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6" descr="初读感知"/>
          <p:cNvPicPr/>
          <p:nvPr/>
        </p:nvPicPr>
        <p:blipFill>
          <a:blip r:embed="rId2"/>
          <a:stretch/>
        </p:blipFill>
        <p:spPr>
          <a:xfrm>
            <a:off x="611280" y="981000"/>
            <a:ext cx="2079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00000" y="23320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华文楷体"/>
              </a:rPr>
              <a:t>   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楷体"/>
              </a:rPr>
              <a:t>通读全文思考，课文主要写了哪些人物？他们之间发生了什么事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00000" y="220500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哥哥、娃丽各是怎样对待课文那封信的？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1115640" y="1988640"/>
            <a:ext cx="6985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娃丽为什么拿到了和哥哥一模一样的钥匙？</a:t>
            </a:r>
            <a:r>
              <a:rPr b="0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细读感悟"/>
          <p:cNvPicPr/>
          <p:nvPr/>
        </p:nvPicPr>
        <p:blipFill>
          <a:blip r:embed="rId2"/>
          <a:stretch/>
        </p:blipFill>
        <p:spPr>
          <a:xfrm>
            <a:off x="684360" y="98100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           </a:t>
            </a: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娃丽给石铁潘诺夫一家带去的仅仅是一封信吗？还带去了什么？她是个什么样的人？</a:t>
            </a:r>
            <a:r>
              <a:rPr b="0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细读感悟"/>
          <p:cNvPicPr/>
          <p:nvPr/>
        </p:nvPicPr>
        <p:blipFill>
          <a:blip r:embed="rId2"/>
          <a:stretch/>
        </p:blipFill>
        <p:spPr>
          <a:xfrm>
            <a:off x="684360" y="83664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295280" y="2187360"/>
            <a:ext cx="78487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你想对哥什提亚说些什么呢？</a:t>
            </a:r>
            <a:r>
              <a:rPr b="0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细读感悟"/>
          <p:cNvPicPr/>
          <p:nvPr/>
        </p:nvPicPr>
        <p:blipFill>
          <a:blip r:embed="rId2"/>
          <a:stretch/>
        </p:blipFill>
        <p:spPr>
          <a:xfrm>
            <a:off x="684360" y="90792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826560" y="1988640"/>
            <a:ext cx="7129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华文楷体"/>
                <a:ea typeface="华文楷体"/>
              </a:rPr>
              <a:t>           </a:t>
            </a:r>
            <a:r>
              <a:rPr b="1" lang="zh-CN" sz="3200" spc="-1" strike="noStrike">
                <a:solidFill>
                  <a:srgbClr val="3399ff"/>
                </a:solidFill>
                <a:latin typeface="华文楷体"/>
                <a:ea typeface="华文楷体"/>
              </a:rPr>
              <a:t>请同学们根据以上几个问题，找出相关段落，分角色朗读，从中分析并体会人物的性格特征及思想品格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32:11Z</dcterms:created>
  <dc:creator/>
  <dc:description>第一PPT模板网-WWW.1PPT.COM</dc:description>
  <dc:language>en-US</dc:language>
  <cp:lastModifiedBy>admin</cp:lastModifiedBy>
  <dcterms:modified xsi:type="dcterms:W3CDTF">2015-01-30T06:20:27Z</dcterms:modified>
  <cp:revision>36</cp:revision>
  <dc:subject/>
  <dc:title>PowerPoint 演示文稿</dc:title>
</cp:coreProperties>
</file>