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671-AC58-4C8C-B2D8-A0F4CD2B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818-D84D-4FA7-A1F6-4ABECBDF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F7A05-823C-478A-A1BC-1BF26A3A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868DC-FB46-4E5F-8328-3F5852BB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831C9-B14A-4A2D-90AF-E3B9C8A3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05AF5-F146-4CDE-93B9-761F4C7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3F9A1-BBE8-437D-8161-2DD6C519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6FD46-2355-4739-8B42-FA31C50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C926B-7F10-4EF3-8174-3A7BF1CF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49539-8C09-478F-BE79-39B331D7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7998B-EDF8-40FE-8C19-E1079644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28A87-D4D8-4811-8FB6-E7FD8AC9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440-1C48-490D-BE7E-D2C78C63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51B5B-847C-4ED1-8D7B-C3390878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1920E-F57D-416A-AD8E-12E1D6B6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E3542-B0A5-41F8-80DE-FB1E64D7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40766-79C9-44AA-ADB6-A5D878EF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8BC58-3C1D-407C-9783-4BA8CEE4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5C2E5-E425-449D-897C-DEA57BCD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F746A-9EC5-4295-8D84-233003E0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7EE67-F546-4F87-85E0-142F6C3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0EAE3-2A8C-4027-9957-9C45F81A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0BF82-D9AD-4001-AA3D-21FB40C3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D0B-7F02-48D9-A9CD-FEB39E6A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2E415-F168-4AD8-B64C-A56091A2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9228F-ACE9-40B3-92A7-198FAC64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74685-922D-42B3-A1EE-08136200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D8E90-83DE-4608-B87B-29F190B1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93DAD-662D-4F84-9CB3-99299A1B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D9D74-A487-4809-89A1-74C89C7C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9AB1-6CB7-4CF5-B69D-ED7BB978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FCA6E-E263-4510-99A9-A099183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F4ABE-369A-4F36-BA5E-86D2D670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A4126-B6F0-4E96-97D3-E2DF679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7508-E966-4F30-899B-0600B46B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748B9-29F7-435E-A5C3-77010440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BAC37-2943-4BE4-AE93-600E7EE9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2515B-6129-469B-B9E7-94D94A8B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D536E-6DD6-4E36-BD73-0440AA53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04034-B8BE-464C-A8F5-33027F5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7B848-2BD2-4F90-961F-759362D0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03963-7409-429B-A758-E52F4E76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551AF-79D7-49B0-86A4-EADBBCF1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DE470-3D12-473D-8F9E-6DCCA290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1DAD6-D742-4608-8509-7B3B9D3E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581E-13A1-4FF7-B137-D3F77861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DEF1C-CC07-4A35-95B9-935CF0C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43EEB-CF50-4380-AEF9-16C1FA2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6919D-CC6A-400D-8F29-1B0D1799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10FC4-C5B8-4025-ADB9-930AA9CD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DE7BE-B1D0-4699-B8BB-09E14DE2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BE3C-2822-48EB-82D9-7882FFC1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823C-D771-4542-A7E5-1B351BC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7FB5-7A09-4C42-BEF5-A5243FF1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1B09-3D17-4058-90AF-46830964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D5C2-FB3F-4273-8B64-F54AC61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3F1-1E76-4EA6-8335-E7157BEE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E562-68DE-4CD5-BDF4-EBE8639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6460-BFCB-46D2-93A1-EA5256C9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7586-361A-412A-AA3F-652ABFF7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B0FC-BFA3-4A60-A0B4-B96EA5CF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FC7E-FC0B-483E-AF5B-70F76557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F3A1-1DD6-44AF-85AA-520EC82A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9DF8-FA91-4D04-B1BF-4D655790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3758-47F2-4B7F-8A8E-E918049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D154-56F3-47BE-87D4-0FAD27AE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86BB-7483-4358-AC56-B0427C0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FF6-A7B7-4DFE-967C-EEC884FB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87BE-7BCD-4BF5-8580-B54BEFE4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3046-4705-4701-B7FE-A3E919DA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9452-12CD-4902-B1A9-ACA9DEF2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585B-ED1C-4A14-8767-657C1487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6644-B845-46A7-8157-85A74F50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1191-A4D5-46F0-8B75-0491DA3E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DC1F-AF73-4B75-A7F2-1EE7DB72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478AF-C9AA-4B40-85E4-5BB172CF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5432-72EB-4FAC-8583-22EA519B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E35A-5D34-45AB-8063-43D4E641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AEB-F4D9-43E5-A08D-5E1149E1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574F-52ED-432E-857D-FB589A30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C385-98FD-4937-B412-E237E9A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464C-EA8D-44CD-AC5F-F2DBC792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BF0A-938C-4980-985A-32B2683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B811-414D-4729-936E-E5718B0D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1EE7-26EA-4CAB-BBEA-18E59297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2547-859A-4F24-972E-1432638F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F387-41DB-45E9-9F79-81AC8CDC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43AF-1158-4F67-B085-B71C5EA3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9AE3-7FC4-4956-B229-353DF9DD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45A-F772-4CE0-937D-AA0AAA1B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116F5-EFCD-44DD-B5A5-0A657E9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4C1D-31AD-4DE3-8EE7-399C2DF7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D4D2-7E36-4596-8E70-720F8265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49EF-F5CF-4E8E-ADBF-D3B1C7E5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A0DEF-73E2-438D-8681-40FA28C7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202E-43ED-4248-8768-262A1735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55ED-576D-470B-A18B-1E9665B2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B806-08DE-4EEC-887A-4EC51E3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9A9E-6AF0-4C23-B9BA-AAC25B5D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22801-FCC3-4B0E-8AD1-155984C0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954-C132-46FE-81AE-ED766C2D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A50C-3DD9-4569-ADBB-3AA2F056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364E-8B36-434F-BFE8-987EC5C1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26117-1EF3-42C7-9CBE-0460DBD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41D0-174C-4F76-B032-52B53607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D49E-76C9-4296-BC54-B15B8554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505B-0223-419C-81E0-F905EC7B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8B3F0-A0F3-45C3-AA54-D11116C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ED3F4-889A-464A-AB76-588E48C5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D9D5E-5273-4914-833C-5B908E1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2D4B2-03A9-4ABD-AD98-65242F0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8B4-9501-4F3B-BDD0-95654CB3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F4D2F-21D7-440D-94D3-97ED921F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31606-1172-4AFC-8BBC-C218FB80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1A99A-2065-42F7-B99F-5ECD68B6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28341-4D8C-446D-B323-35FF1D65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2D22D-06B6-4426-B0DA-33E86AE8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80EBE-F78F-48FC-B658-3FA372B8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2D5B1-34B0-4B26-A8C7-05B786A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FC5B7-930A-41C4-837A-58F76189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31875-AD9A-4D8F-85CB-563E837D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1EB76-8045-483F-A02B-8A4F3EC7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B92-0A8E-4719-9A61-DE027D0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8FDD8-EB30-4512-9ABE-9737C71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3CC7D-4568-4726-99B3-7566F42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8703F-0391-4271-B278-6103B715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0161-E4EA-45FF-AE7E-BB8AA4E2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AC70-2EB1-43DC-A7C6-791CC76D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85BE3-74A0-4216-BBF0-DFDD8F38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F331-5DF0-4543-AE38-B10DFB6B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96647-1560-4E42-9389-160B0ED4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4026A-3B40-4372-A38A-3E7A50B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3C47-1D27-4B2D-97D1-C039830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833-666B-45F2-9A6C-7062DE13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7ADFD-B588-44E9-BAFC-820C8B7F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F2421-89F2-4A5E-891D-D37D828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B955B-BBB2-4F7E-924C-04E034C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A031-ED5D-4759-82EB-ACB933F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311DD-6182-4E35-A346-A6197256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50FA-123A-454F-A586-BDE1CC75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2CF7D-AC96-483B-8E26-641A9E55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B7C41-AB9F-4C64-A471-CC4E7D25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0E794-A05D-412E-99E5-38CF6172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7DB4-C1EC-4C29-9A40-85EA95C7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00CB-5177-43D6-9374-0EBE2DBF4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2474-3E1E-45FB-9A7E-4FB14683FA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5E32-A172-4CD5-83BE-4EACD49FD7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CD0F-02AF-4E82-855C-74BCB6F018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DD0A-F106-486C-BADA-F2590DCFAA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6D4-CBA8-4475-BE9D-320188FE5B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5F33-B42E-4639-B35F-2E4EBCBF49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2EF-9C4F-40DB-B728-2D1877736C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198-04AE-4D8F-A3D1-7D2F3C1DAC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8BBF-3ACF-4209-8013-9BF4E5849F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622-6893-49CB-9C98-F086F8888D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6608-B4F0-4A44-BD30-68128C9568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2411280" y="2349360"/>
            <a:ext cx="367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祥隶"/>
              </a:rPr>
              <a:t>信箱</a:t>
            </a:r>
            <a:endParaRPr b="0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祥隶"/>
              <a:ea typeface="迷你简祥隶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爸爸让娃丽和哥哥轮流管信箱，爸爸的用意何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细读感悟"/>
          <p:cNvPicPr/>
          <p:nvPr/>
        </p:nvPicPr>
        <p:blipFill>
          <a:blip r:embed="rId2"/>
          <a:stretch/>
        </p:blipFill>
        <p:spPr>
          <a:xfrm>
            <a:off x="75564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鼓励娃丽继续做一个有责任感的人，暗示哥哥要像娃丽一样做个有责任感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      学习了本课你有什么感受？假如是你遇到了类似的事，你会怎么做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689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课后把这个故事讲给你的父母或者爷爷、奶奶听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拓展学习"/>
          <p:cNvPicPr/>
          <p:nvPr/>
        </p:nvPicPr>
        <p:blipFill>
          <a:blip r:embed="rId2"/>
          <a:stretch/>
        </p:blipFill>
        <p:spPr>
          <a:xfrm>
            <a:off x="900000" y="981000"/>
            <a:ext cx="230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2771640" y="227664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1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娃丽关爱他人的美好心灵，做一个有优良品质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课文的生字，正确、流利、有感情地朗读课文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现在你是怎样和你的朋友、亲戚联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以前人们又是用哪些方式进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信就得用到信箱，信箱的作用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00000" y="23320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楷体"/>
              </a:rPr>
              <a:t>通读全文思考，课文主要写了哪些人物？他们之间发生了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哥哥、娃丽各是怎样对待课文那封信的？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娃丽为什么拿到了和哥哥一模一样的钥匙？</a:t>
            </a:r>
            <a:r>
              <a:rPr b="0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细读感悟"/>
          <p:cNvPicPr/>
          <p:nvPr/>
        </p:nvPicPr>
        <p:blipFill>
          <a:blip r:embed="rId2"/>
          <a:stretch/>
        </p:blipFill>
        <p:spPr>
          <a:xfrm>
            <a:off x="684360" y="98100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娃丽给石铁潘诺夫一家带去的仅仅是一封信吗？还带去了什么？她是个什么样的人？</a:t>
            </a:r>
            <a:r>
              <a:rPr b="0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细读感悟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295280" y="2187360"/>
            <a:ext cx="7848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你想对哥什提亚说些什么呢？</a:t>
            </a:r>
            <a:r>
              <a:rPr b="0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细读感悟"/>
          <p:cNvPicPr/>
          <p:nvPr/>
        </p:nvPicPr>
        <p:blipFill>
          <a:blip r:embed="rId2"/>
          <a:stretch/>
        </p:blipFill>
        <p:spPr>
          <a:xfrm>
            <a:off x="684360" y="90792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1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请同学们根据以上几个问题，找出相关段落，分角色朗读，从中分析并体会人物的性格特征及思想品格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>第一PPT模板网-WWW.1PPT.COM</dc:description>
  <dc:language>en-US</dc:language>
  <cp:lastModifiedBy>admin</cp:lastModifiedBy>
  <dcterms:modified xsi:type="dcterms:W3CDTF">2015-01-30T06:20:27Z</dcterms:modified>
  <cp:revision>36</cp:revision>
  <dc:subject/>
  <dc:title>PowerPoint 演示文稿</dc:title>
</cp:coreProperties>
</file>