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B8D-1C6F-408E-B1CA-724BA3C9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0DF-5454-48C8-8A9B-60EB7D42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88284-0D37-402D-957D-005DB270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545AE-BDD3-4584-8C76-E6E20475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A2F85-7EBE-4942-BE67-7C9704B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871DB-EED7-4C2F-A4F5-42FD3AC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D8F91-2090-4461-96E3-9EE80A7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A0B4D-4F78-4F70-AFB1-050F9B0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87DF-C545-4884-80C0-EBA90C49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A7EA0-72CD-4970-B7D7-944D14B6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434F8-0989-42E9-9399-0A38FB50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E211A-DAA4-4053-B56A-C238400A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38A-CF75-49DF-A114-E2B1E22E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5468F-D7C7-4563-872F-EE3257E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20497-421C-4E92-872A-5C637C33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E42CC-4457-4B05-9E54-8C621571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14580-658E-4695-9F33-F0FACB06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F3030-38BB-45BA-938C-A9244F09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297A3-11FE-492B-ACD1-46C3B5E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F0865-E0C5-476F-A83D-A817FEDA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70308-A146-4661-8F88-84CDDDF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B8AA3-7A85-4985-84CE-08F66659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D21C-A90C-41C5-8CC4-C0C90B08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1BE-0077-4DB8-98E7-50BB0A84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D2E93-B7DC-42C9-ABD7-34FF9241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9572B-50EC-436B-ACA6-99D6A4A6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FE8E-3369-40A0-BDC0-3EBD1AB3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B1D66-48CC-4142-90B6-0ADDBED9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6AFFF-74C6-4CF1-A511-C4C8CC69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366DA-7113-4819-9888-84C9526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9C3CC-83AE-49C6-B95B-02CD83C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19D97-D74C-4E3F-B78A-A1AA85B8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B1964-0A03-4D3A-A819-538C280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9CF9F-C399-4159-AB1F-16C98CD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A115-A9A8-4FCA-9AA9-1E8492F7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6BDB7-517C-4EB5-9DF0-2E050CC5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E7E7D-5BB5-47D0-8F1D-D633EE8E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E359D-9732-40B6-976C-938C517F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E8C46-9386-4462-B38C-EE506418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6F153-EFB1-40A7-A9C8-9BF67D1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F07A7-F11B-489F-87FC-85304A8B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AE8A7-26FA-49A0-9D60-E986D52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1A550-36C4-47A8-8A9D-469864CE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F2981-5E1C-46E7-AC03-EEFC6CD4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FF94E-9698-47D6-A6B8-8D225AA8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0257-DA1E-49A5-919E-DD969706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633E8-6ACE-434A-8D78-8C3F14EB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1763B-5038-4E6E-80FE-93217E12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86207-E4B4-408E-8D4E-9A6C80D7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68E94-6EEB-4517-9FC3-9871A987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3B5B7-21E9-4B4C-8FCC-21851977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F16C-15B4-41AC-87D4-99A5F11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4335-257F-4D3C-A985-FB700C47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47F7-9F45-460A-8C71-2A258CB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6C29-52FD-4FE5-B573-C1DD588B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BE3E-52D0-492D-BEEB-C7735C4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667-7360-4FD4-8A78-56A82084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B2FC-3F35-4A08-8D3D-AB84BBE8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D593-1E4F-4F5B-A9F8-F6796C6B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31F7-D43A-4ABD-8926-40ED07A1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2AAA-40D5-4FF3-A28E-69992591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071D-918B-4C72-8BC7-C18D04DF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3D20-8E8C-4B0C-A7DE-C18B5B14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8BFA0-DB43-4CDE-9A36-14446B73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9175C-5CD5-48EE-A627-4DCF8B3D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41E6-815B-4CA9-86DC-7AD297A1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B325-F599-4CC2-88A7-30A08DA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A14-EE71-4F07-931D-01763A29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CD22-BB9A-4474-B161-383D4FB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FCEE-8803-40D9-9EA3-135FBDD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FBAF4-6065-47CA-8C5A-9631AE99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350F-4205-409E-9ABD-B78E07D7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69D3-1A31-4F51-B82C-3CD13D21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5FB9-9D4C-409F-80C9-7E749281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4880-9254-40AA-8B15-0FAB66B7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864D-B098-465A-BC61-0E6BC497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7E304-FBC8-479C-A179-C83509B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E39B-37A4-4F77-A4C6-89025436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28B-8C30-4C0A-AAC7-EFFD158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5CE57-AE91-4438-BEC8-F27667DA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2739-81B1-436D-A617-288AC674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CCDA-4A6B-456E-AB8E-F363BD9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5969-2C53-49C8-A5AD-13F07F8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6ECE-2B2C-4471-95AA-72E7CB90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23B8-9FD5-4A4C-9409-75A5AC7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5273-9713-4232-B247-18CD881D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1D8DE-FA88-4DDA-9791-6DBB4D13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D5D2-4D0E-4B48-91AD-6E5645AC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E722-210E-4AA3-8E95-DB16350F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C30-F784-4243-A1E0-0683A036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FAD0A-B3DB-4CED-BB20-2FDF011B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5D69-70B3-4AE6-B4DA-629D63DB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6213-FD99-41B8-8287-5F5ECE1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6EBFB-68CB-4B8B-A1D3-F1410675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7052-876E-4690-A7FB-73B94524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91C55-BD70-49BF-8315-1CD8C9B2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E460E-412B-4EEA-954A-56C36CE2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87A6C-5795-45C3-969A-FB1DAE77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6B908-E24D-4C6D-963F-9E6DAE34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67EB-9AE6-41F9-8C66-4D90EDB6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943-FF3A-4C46-82E2-4D1F6F4B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4B89-3BF0-40F4-986D-D615919F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91961-A09B-4DFF-B5C9-66039605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588F-3DC3-4B45-80BF-ECF1C563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EA18A-90BC-4B89-8068-B432FC2F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402D7-B353-472F-A55C-D5B9881E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5D22B-F50B-4FC1-8D18-B92724B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C4475-D670-444A-A7CD-E094D131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77C42-CEE0-401B-9937-47A5E12C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9F99A-3DE2-4C9E-8F91-BB23CAD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22C0A-2556-469A-A921-80E8B974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8CFB-256E-4D67-8398-AC39B58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5B68-D41E-4CC2-98BC-8C309FB6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1C9E-4492-49EC-B94C-719AF046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3E39-A3F2-4467-8BDB-9B239FAC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9C91-B763-4C12-BD52-4F8492CE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3660C-B1E5-4406-BA9D-85B87D45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F9E8-B4D2-4253-83D3-199032F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39C3-8D30-4C5D-8DEF-30FDE610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2E7D-3428-4C3A-B715-06410901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1262C-5D31-4902-83B3-11A4C51B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1234-4B84-4AD7-AF22-883CDE90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316-9994-44E4-B2C6-C2A0713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2C91B-9E48-462E-BB52-35FE285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C4AC-D5C0-4FA0-ADFA-306F4456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6EAA6-8076-4DBA-A60B-C1CD172F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8FC0-94DB-4716-A9FD-85C7C76A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5998C-A4B7-4D69-9BB4-D4344FD6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275C5-CFDF-4E11-B153-BD735655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2956C-669A-4EE5-8D56-1C555B77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06BB4-73EA-4A76-9CDB-5021AD83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3738F-704B-441C-B550-D13DB144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F7DFA-8E72-4A31-92F5-5CBE846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3C1-33EA-410B-BEAF-765A968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F54D4-63CA-4A52-AE3D-4376C06E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1CC6B-D805-4F92-9042-D0F3752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F8E0-7A0A-4AD6-A009-635F94FD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2DFC-9C7C-42BA-AE40-E590D18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E56BA-36F5-44A4-9A9B-C1BBC69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85AE1-521A-4420-8325-228CB989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1634-F0FF-4474-B382-2A90F545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591F1-75BE-4009-B38E-7A7EB4D3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7B43E-3687-44F0-8D5E-76713BE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23F5B-7F08-40B5-971E-95C69D5A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63F5-33F0-4ABD-8EB0-7D9BAFC5E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9A49-5A88-4DE7-8335-3F82A99788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09B9-380A-4B2A-9327-70678A6B47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82AD-596B-40C3-95AD-3B6440B52B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E515-93A0-43AD-822C-2769F75866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9C49-ECF4-444E-B9CF-72F3DBE68D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04E0-62D7-4A9D-93F2-6B3EAE5170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F412-D09E-408B-9DF7-B57628CD90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5279-7929-4B8D-9EDE-B3A68D1A75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A034-26C9-40B2-8196-0B58A9EA0D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C999-C09F-4499-8B02-54FBFF50E7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0A0-F45F-48C1-839F-74D3FB805E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10"/>
          <p:cNvSpPr txBox="1"/>
          <p:nvPr/>
        </p:nvSpPr>
        <p:spPr>
          <a:xfrm>
            <a:off x="2411280" y="2349360"/>
            <a:ext cx="367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迷你简祥隶"/>
              </a:rPr>
              <a:t>信箱</a:t>
            </a:r>
            <a:endParaRPr b="0" lang="en-US" sz="6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迷你简祥隶"/>
              <a:ea typeface="迷你简祥隶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爸爸让娃丽和哥哥轮流管信箱，爸爸的用意何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细读感悟"/>
          <p:cNvPicPr/>
          <p:nvPr/>
        </p:nvPicPr>
        <p:blipFill>
          <a:blip r:embed="rId2"/>
          <a:stretch/>
        </p:blipFill>
        <p:spPr>
          <a:xfrm>
            <a:off x="75564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70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鼓励娃丽继续做一个有责任感的人，暗示哥哥要像娃丽一样做个有责任感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　      学习了本课你有什么感受？假如是你遇到了类似的事，你会怎么做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细读感悟"/>
          <p:cNvPicPr/>
          <p:nvPr/>
        </p:nvPicPr>
        <p:blipFill>
          <a:blip r:embed="rId2"/>
          <a:stretch/>
        </p:blipFill>
        <p:spPr>
          <a:xfrm>
            <a:off x="684360" y="1052640"/>
            <a:ext cx="208728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689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课后把这个故事讲给你的父母或者爷爷、奶奶听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拓展学习"/>
          <p:cNvPicPr/>
          <p:nvPr/>
        </p:nvPicPr>
        <p:blipFill>
          <a:blip r:embed="rId2"/>
          <a:stretch/>
        </p:blipFill>
        <p:spPr>
          <a:xfrm>
            <a:off x="900000" y="981000"/>
            <a:ext cx="2305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4"/>
          <p:cNvSpPr txBox="1"/>
          <p:nvPr/>
        </p:nvSpPr>
        <p:spPr>
          <a:xfrm>
            <a:off x="2771640" y="227664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31" name="Picture 5" descr="MCj04294430000[1]"/>
          <p:cNvPicPr/>
          <p:nvPr/>
        </p:nvPicPr>
        <p:blipFill>
          <a:blip r:embed="rId2"/>
          <a:stretch/>
        </p:blipFill>
        <p:spPr>
          <a:xfrm>
            <a:off x="6588000" y="4076640"/>
            <a:ext cx="17971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受娃丽关爱他人的美好心灵，做一个有优良品质的小公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握课文的生字，正确、流利、有感情地朗读课文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现在你是怎样和你的朋友、亲戚联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以前人们又是用哪些方式进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写信就得用到信箱，信箱的作用是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00000" y="23320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华文楷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楷体"/>
              </a:rPr>
              <a:t>通读全文思考，课文主要写了哪些人物？他们之间发生了什么事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220500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哥哥、娃丽各是怎样对待课文那封信的？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1988640"/>
            <a:ext cx="6985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娃丽为什么拿到了和哥哥一模一样的钥匙？</a:t>
            </a:r>
            <a:r>
              <a:rPr b="0" lang="zh-CN" sz="3600" spc="-1" strike="noStrike">
                <a:solidFill>
                  <a:srgbClr val="008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细读感悟"/>
          <p:cNvPicPr/>
          <p:nvPr/>
        </p:nvPicPr>
        <p:blipFill>
          <a:blip r:embed="rId2"/>
          <a:stretch/>
        </p:blipFill>
        <p:spPr>
          <a:xfrm>
            <a:off x="684360" y="98100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娃丽给石铁潘诺夫一家带去的仅仅是一封信吗？还带去了什么？她是个什么样的人？</a:t>
            </a:r>
            <a:r>
              <a:rPr b="0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细读感悟"/>
          <p:cNvPicPr/>
          <p:nvPr/>
        </p:nvPicPr>
        <p:blipFill>
          <a:blip r:embed="rId2"/>
          <a:stretch/>
        </p:blipFill>
        <p:spPr>
          <a:xfrm>
            <a:off x="684360" y="83664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295280" y="2187360"/>
            <a:ext cx="784872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你想对哥什提亚说些什么呢？</a:t>
            </a:r>
            <a:r>
              <a:rPr b="0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细读感悟"/>
          <p:cNvPicPr/>
          <p:nvPr/>
        </p:nvPicPr>
        <p:blipFill>
          <a:blip r:embed="rId2"/>
          <a:stretch/>
        </p:blipFill>
        <p:spPr>
          <a:xfrm>
            <a:off x="684360" y="907920"/>
            <a:ext cx="20872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826560" y="1988640"/>
            <a:ext cx="7129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请同学们根据以上几个问题，找出相关段落，分角色朗读，从中分析并体会人物的性格特征及思想品格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细读感悟"/>
          <p:cNvPicPr/>
          <p:nvPr/>
        </p:nvPicPr>
        <p:blipFill>
          <a:blip r:embed="rId2"/>
          <a:stretch/>
        </p:blipFill>
        <p:spPr>
          <a:xfrm>
            <a:off x="826920" y="981000"/>
            <a:ext cx="2087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32:11Z</dcterms:created>
  <dc:creator/>
  <dc:description>第一PPT模板网-WWW.1PPT.COM</dc:description>
  <dc:language>en-US</dc:language>
  <cp:lastModifiedBy>admin</cp:lastModifiedBy>
  <dcterms:modified xsi:type="dcterms:W3CDTF">2015-01-30T06:20:27Z</dcterms:modified>
  <cp:revision>36</cp:revision>
  <dc:subject/>
  <dc:title>PowerPoint 演示文稿</dc:title>
</cp:coreProperties>
</file>