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05D26-F225-4353-8C31-690CF4711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600F4-2622-4C9A-AEAD-434131449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AAF4F4-6575-4FEC-870C-456EB6974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6849B3-6605-4440-ACD7-831459562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3CDB8E-0D55-4166-90D4-8F4B18255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DB05DB-ADE6-49D7-A8CF-3DFBF9903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08E0C6-51DF-456E-9B48-5E8BD3A88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BD5AFA-EA20-4457-8EDF-275E60DFC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2DAEE0-D542-4A5A-B3C3-EFA3A983D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F45838-85FD-499C-958E-984ADAAA4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683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508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332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A4DF68-4C0B-47A7-901C-EB93F09A6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FB8511-D69E-4E6C-8183-D767B75D0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31AF0-0E8B-43D8-BC4E-9FD152BD9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BEE958-EEA6-49C7-A64B-24548B098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AF4C2C-8022-4691-A6E8-C245E987C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5C3925-4897-4F66-BB5C-85D511BB3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FA115C-3ED3-4ACC-BC03-DD3360282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8506C6-59C1-4537-8C9A-0EA1405A7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992771-F32D-4C76-A092-F740539BC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865C49-27CD-4919-A237-9E0DA4728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C5E8CE-2A4B-4AA6-9361-08C425052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CFE833-DF21-44A6-8616-E87B66CF3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3908D0-542F-4A2F-9AFA-40ED8664F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83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08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332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451AC-E7D6-42D5-8EB5-CEC43EA59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683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508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332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2E622F-6E28-45CE-90FC-67CBC895C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231AC5-17C2-45EC-BC7A-D4DD255B4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B40CFD-513E-4463-8E82-F7837C005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5F6E5D-8F42-43E7-89FB-5C8C672F0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A9EA88-8D1F-4DB1-BE4A-74C2A1481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C4CC65-55DC-4CA2-8D29-E256CD721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1C7E16-60D2-485B-B6CF-E2A24EDE6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2B831C-B018-4A9F-84FD-267579B6D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E68874-E474-4377-A956-9361B3891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962998-62B5-4067-B1ED-A4515E93C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67884-6446-48A1-BF86-2148EF210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282A46-728F-4B55-8CC8-A482B962B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B17FB2-0E31-4A3E-B336-ED81ACD98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683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508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332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A9A3E1-312C-4893-A075-622D91CDB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00DCC3-21DA-4608-B5A3-A1894EE7D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61C761-F075-4436-B92B-B9366F476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350030-DA62-4366-AB38-5316FB915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B59F02-10E2-449F-BCE3-87EFC75AD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7A2642-FDE1-4CB6-B4EF-0FCC45FEB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5220B9-68DF-43FB-A44F-B34D40D98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EF2FF4-5EB6-4F7C-B997-A3DF97E38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44CA7-7445-420B-B04F-F441EA7CD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CDE987-A069-47A7-8504-E39E758EA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572F09-9886-4BAF-B2CD-552A529CB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56E19D-FC16-42CC-856B-23AB6CFF9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438813-0E65-44A5-BA7A-0D16F84F0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683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508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332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5206A7-52BB-43CC-A928-17A3547D1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690F1-D5CF-4710-84B2-B6256ADBB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C7EE7-9D79-42D3-AFEA-FD2B15197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FBAF1-B0C7-48F6-90EC-8AF80FE27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5549E-E979-425E-A7CD-44B5BFB36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6809A-CB51-4D49-84A5-5B31445FC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5B5D8-5402-4673-A032-FAA68722C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232ED-A7A0-40C4-BEC9-46D705A47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5522F-ECD2-4AB8-9303-E4956C8DB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ACD50-966E-4D58-BCD0-6460F3552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5FF02-B3CF-4252-A5CC-991D24254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83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508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332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7F6AA-16ED-4C01-9AFC-F9A6123E8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81F5C0-BE8A-48CF-B9F1-1008F7C76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66D91E-00F7-405A-8703-C5903A65B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DC796B-4789-46B3-98FD-1DE5FBB9F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C9FEF4-9373-4785-8F7A-0B1B41ED8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9102A5-B268-48DC-A1BA-B13EA8679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0A9CD-9311-49BB-9495-D204007A1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A7DAF1-1F53-40DD-8C90-15A22DFCC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0E28FD-5618-47E4-AD0B-54FAE76FB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AA83E2-1770-4A60-AB38-93C4C490E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49B931-E726-420B-85DF-8F8326653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2D5983-0776-49B2-844B-38B180D11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291C7D-22B6-4B7D-B0EE-2608160DB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83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508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332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B9FF05-951A-4E15-B7B1-DEF8208EB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CEBA4A-9943-4ED5-9629-5B3CDB868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5209B6-1E1C-43CC-AD8A-6A3BC1A9A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B7886B-C95D-4B8F-99AD-BAF304041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80469-AFA9-454B-B777-2D0739940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175812-DDAB-45DB-A93A-8E356A5CD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EA4E0D-A47C-4BBF-A885-2A4C37E47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779BB9-40E1-4B7B-A048-8208CDA76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877D5D-3048-42D8-9E90-ACF9C6A6D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5D2DCF-26BB-47B4-97B5-E4D53A0BE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E91D96-5F31-4C81-AA61-CE2F244F8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F68382-00AF-4837-8607-1E4A01F81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054D50-87BC-48B8-93C4-57AC85081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83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508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332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507EF1-E423-48D9-854A-76F4E6004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6032F7-B0CA-4678-84F4-AEF046845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FF4F2-0B76-4556-8E10-45E18267F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DF8B66-059B-4912-AC39-88911004D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D71D7C-42CF-451A-8CF4-83632A81E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7FF5CA-714F-4B46-82FB-5E1B9723B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1760CD-2B6B-48E0-B8F0-EA7FE923A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A7A50F-15D8-4ABB-B6DC-BC7402965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E56C3E-DCB4-471C-8589-C69D68AE8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642CEA-F369-46A5-A812-38FC21F6F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A2D8B4-C45A-4A27-B0AD-5F290A84D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39563E-2F7E-4217-AB95-C76D155BE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D4A3D5-1D3D-4FDA-9E06-A7F2F2E80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8F75D-E27B-426F-A2B1-07FDEDDC5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83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508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332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CE13F3-9890-40AD-ABD7-F98066637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DB4BC0-D0DE-4DC2-B832-79E321A62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2498A0-1503-479B-84E5-E1C5A7F6C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EEEF1B-775E-4776-80AB-CFBB6E44B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D080F7-749D-4AB2-A9C4-42A117180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C29F64-B413-4071-A04E-661E149A2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281996-BC00-4E4A-B04E-6190DD783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09FC60-C86B-428D-9DB3-C563AD78F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64B7F9-2A71-46E5-A404-9A986F626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BF7838-241D-4B20-8CBD-5583C9B35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EAECE-6BAC-4F57-8EF7-B0BAA6E7B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CCF558-0FA4-482A-8CAD-CAFF59DD0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D8D108-5C5C-47F5-B6CB-A193B55AE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83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508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332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C34BB0-3921-4D79-8CC9-296FDB07A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1C1234-D408-4BC7-8DD3-12452DB38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DA5AA6-159A-44BE-BEC7-67A56A4F1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B1C63C-B560-4975-BB55-4D39D6917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2ECC85-0A3F-465E-984A-1636C1934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5396DB-5170-479F-9296-C03FE256C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9E30EF-9898-4E2F-99CF-C706A401F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CAB9D3-58A5-4199-B988-5D8719208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95934-43DA-4153-87D8-FBE8CD62D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5E058A-B7BF-4948-80F3-F3F684EC3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63461F-9EA7-40BE-9F65-F48413F43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48C553-C283-4CE0-9774-BD9FFA3F0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66700D-824F-4118-830E-D67A4102E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683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508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332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8BCF02-ADC1-436A-994C-139FD3BC5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A54778-45C2-4339-AB8C-094EB7280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7401A0-FB0E-47D7-B76C-DFF9C1BC1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C5498C-AFB9-4BCF-8A24-82FE4A22B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FE2869-335E-4C94-B923-E95031EDF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CF893A-010F-4275-AB1B-FAA137CBA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BE236-07B8-423F-9722-FE4A8BA06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876434-504D-4FBD-B1DF-0C2E25F7E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ABFAD2-8105-427D-BA90-6C748876C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D67006-C0F2-45EC-B032-2AE0279DD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C30C44-1229-4035-8A96-78D4FB898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F6122E-D128-4000-868C-700D5DA42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A75293-9565-4AF5-B514-67E635AFA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683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508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332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2953DB-8D0C-4C9F-9717-0816DCCAA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6C7706-B221-460B-B416-133BC567B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A84560-B839-433D-89A9-6CC4BAE8E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5FACE9-6AA3-4E45-997D-2DB2DD4D6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82A8D-35B4-48EB-8333-9B441B83F6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B5C15-2ACB-4378-920A-24B79FAB4C25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CA7AD-CF46-48EC-B052-5413B70A5DAC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96A63-0CE0-4FED-8B66-71C626FD2CB2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D2D48-9334-462E-82CF-7E522A9D65A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0CDDF-8925-43B5-8A37-2E65E98776FA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70512-18D8-4601-9A21-D9FC2CF473FA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DDA70-8820-4EA9-802C-D61F13720CBF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FA23D-D0EA-4D81-B7A9-9426E743134B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C6140-07D1-4F42-BEE2-C5D04396D9B6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654AA-D698-4F21-ABA8-60FB52E4AD14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D3D92-0839-443C-AAA3-25E68A08634C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WordArt 10"/>
          <p:cNvSpPr txBox="1"/>
          <p:nvPr/>
        </p:nvSpPr>
        <p:spPr>
          <a:xfrm>
            <a:off x="2411280" y="2349360"/>
            <a:ext cx="3673440" cy="179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1" strike="noStrike">
                <a:ln w="0">
                  <a:noFill/>
                </a:ln>
                <a:solidFill>
                  <a:srgbClr val="008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迷你简祥隶"/>
              </a:rPr>
              <a:t>信箱</a:t>
            </a:r>
            <a:endParaRPr b="0" lang="en-US" sz="6000" spc="1" strike="noStrike">
              <a:ln w="0">
                <a:noFill/>
              </a:ln>
              <a:solidFill>
                <a:srgbClr val="008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迷你简祥隶"/>
              <a:ea typeface="迷你简祥隶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/>
          </p:nvPr>
        </p:nvSpPr>
        <p:spPr>
          <a:xfrm>
            <a:off x="971640" y="2060640"/>
            <a:ext cx="7200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99"/>
                </a:solidFill>
                <a:latin typeface="华文楷体"/>
                <a:ea typeface="华文楷体"/>
              </a:rPr>
              <a:t>          </a:t>
            </a:r>
            <a:r>
              <a:rPr b="1" lang="zh-CN" sz="3600" spc="-1" strike="noStrike">
                <a:solidFill>
                  <a:srgbClr val="009999"/>
                </a:solidFill>
                <a:latin typeface="华文楷体"/>
                <a:ea typeface="华文楷体"/>
              </a:rPr>
              <a:t>爸爸让娃丽和哥哥轮流管信箱，爸爸的用意何在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9" name="Picture 4" descr="细读感悟"/>
          <p:cNvPicPr/>
          <p:nvPr/>
        </p:nvPicPr>
        <p:blipFill>
          <a:blip r:embed="rId2"/>
          <a:stretch/>
        </p:blipFill>
        <p:spPr>
          <a:xfrm>
            <a:off x="755640" y="981000"/>
            <a:ext cx="2087640" cy="6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/>
          </p:nvPr>
        </p:nvSpPr>
        <p:spPr>
          <a:xfrm>
            <a:off x="684360" y="1988640"/>
            <a:ext cx="77040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隶书"/>
              </a:rPr>
              <a:t>    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隶书"/>
              </a:rPr>
              <a:t>鼓励娃丽继续做一个有责任感的人，暗示哥哥要像娃丽一样做个有责任感的人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2" name="Picture 4" descr="细读感悟"/>
          <p:cNvPicPr/>
          <p:nvPr/>
        </p:nvPicPr>
        <p:blipFill>
          <a:blip r:embed="rId2"/>
          <a:stretch/>
        </p:blipFill>
        <p:spPr>
          <a:xfrm>
            <a:off x="684360" y="1052640"/>
            <a:ext cx="2087280" cy="64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/>
          </p:nvPr>
        </p:nvSpPr>
        <p:spPr>
          <a:xfrm>
            <a:off x="755640" y="2133720"/>
            <a:ext cx="770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华文行楷"/>
              </a:rPr>
              <a:t>　      学习了本课你有什么感受？假如是你遇到了类似的事，你会怎么做？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5" name="Picture 6" descr="细读感悟"/>
          <p:cNvPicPr/>
          <p:nvPr/>
        </p:nvPicPr>
        <p:blipFill>
          <a:blip r:embed="rId2"/>
          <a:stretch/>
        </p:blipFill>
        <p:spPr>
          <a:xfrm>
            <a:off x="684360" y="1052640"/>
            <a:ext cx="2087280" cy="64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/>
          </p:nvPr>
        </p:nvSpPr>
        <p:spPr>
          <a:xfrm>
            <a:off x="755280" y="1988640"/>
            <a:ext cx="768996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　    课后把这个故事讲给你的父母或者爷爷、奶奶听。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8" name="Picture 4" descr="拓展学习"/>
          <p:cNvPicPr/>
          <p:nvPr/>
        </p:nvPicPr>
        <p:blipFill>
          <a:blip r:embed="rId2"/>
          <a:stretch/>
        </p:blipFill>
        <p:spPr>
          <a:xfrm>
            <a:off x="900000" y="981000"/>
            <a:ext cx="2305080" cy="5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WordArt 4"/>
          <p:cNvSpPr txBox="1"/>
          <p:nvPr/>
        </p:nvSpPr>
        <p:spPr>
          <a:xfrm>
            <a:off x="2771640" y="2276640"/>
            <a:ext cx="266400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宋体"/>
              </a:rPr>
              <a:t>再见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pic>
        <p:nvPicPr>
          <p:cNvPr id="531" name="Picture 5" descr="MCj04294430000[1]"/>
          <p:cNvPicPr/>
          <p:nvPr/>
        </p:nvPicPr>
        <p:blipFill>
          <a:blip r:embed="rId2"/>
          <a:stretch/>
        </p:blipFill>
        <p:spPr>
          <a:xfrm>
            <a:off x="6588000" y="4076640"/>
            <a:ext cx="1797120" cy="17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755280" y="907560"/>
            <a:ext cx="5724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隶书"/>
              </a:rPr>
              <a:t>学习目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838080" y="2017800"/>
            <a:ext cx="763272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感受娃丽关爱他人的美好心灵，做一个有优良品质的小公民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掌握课文的生字，正确、流利、有感情地朗读课文。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899640" y="1916280"/>
            <a:ext cx="7704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同学们现在你是怎样和你的朋友、亲戚联系的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在以前人们又是用哪些方式进行联系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写信就得用到信箱，信箱的作用是什么？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8" name="Picture 6" descr="初读感知"/>
          <p:cNvPicPr/>
          <p:nvPr/>
        </p:nvPicPr>
        <p:blipFill>
          <a:blip r:embed="rId2"/>
          <a:stretch/>
        </p:blipFill>
        <p:spPr>
          <a:xfrm>
            <a:off x="611280" y="981000"/>
            <a:ext cx="2079360" cy="5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900000" y="2332080"/>
            <a:ext cx="7129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Arial"/>
                <a:ea typeface="华文楷体"/>
              </a:rPr>
              <a:t>          </a:t>
            </a:r>
            <a:r>
              <a:rPr b="1" lang="zh-CN" sz="3600" spc="-1" strike="noStrike">
                <a:solidFill>
                  <a:srgbClr val="009999"/>
                </a:solidFill>
                <a:latin typeface="Arial"/>
                <a:ea typeface="华文楷体"/>
              </a:rPr>
              <a:t>通读全文思考，课文主要写了哪些人物？他们之间发生了什么事？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1" name="Picture 4" descr="细读感悟"/>
          <p:cNvPicPr/>
          <p:nvPr/>
        </p:nvPicPr>
        <p:blipFill>
          <a:blip r:embed="rId2"/>
          <a:stretch/>
        </p:blipFill>
        <p:spPr>
          <a:xfrm>
            <a:off x="826920" y="981000"/>
            <a:ext cx="2087640" cy="6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900000" y="2205000"/>
            <a:ext cx="82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华文行楷"/>
                <a:ea typeface="华文行楷"/>
              </a:rPr>
              <a:t>哥哥、娃丽各是怎样对待课文那封信的？</a:t>
            </a:r>
            <a:r>
              <a:rPr b="0" lang="zh-CN" sz="3200" spc="-1" strike="noStrike">
                <a:solidFill>
                  <a:srgbClr val="333399"/>
                </a:solidFill>
                <a:latin typeface="华文行楷"/>
                <a:ea typeface="华文行楷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4" name="Picture 4" descr="细读感悟"/>
          <p:cNvPicPr/>
          <p:nvPr/>
        </p:nvPicPr>
        <p:blipFill>
          <a:blip r:embed="rId2"/>
          <a:stretch/>
        </p:blipFill>
        <p:spPr>
          <a:xfrm>
            <a:off x="826920" y="981000"/>
            <a:ext cx="2087640" cy="6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/>
          </p:nvPr>
        </p:nvSpPr>
        <p:spPr>
          <a:xfrm>
            <a:off x="1115640" y="1988640"/>
            <a:ext cx="69850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隶书"/>
                <a:ea typeface="隶书"/>
              </a:rPr>
              <a:t> </a:t>
            </a:r>
            <a:r>
              <a:rPr b="1" lang="zh-CN" sz="3600" spc="-1" strike="noStrike">
                <a:solidFill>
                  <a:srgbClr val="008000"/>
                </a:solidFill>
                <a:latin typeface="隶书"/>
                <a:ea typeface="隶书"/>
              </a:rPr>
              <a:t>娃丽为什么拿到了和哥哥一模一样的钥匙？</a:t>
            </a:r>
            <a:r>
              <a:rPr b="0" lang="zh-CN" sz="3600" spc="-1" strike="noStrike">
                <a:solidFill>
                  <a:srgbClr val="008000"/>
                </a:solidFill>
                <a:latin typeface="隶书"/>
                <a:ea typeface="隶书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7" name="Picture 4" descr="细读感悟"/>
          <p:cNvPicPr/>
          <p:nvPr/>
        </p:nvPicPr>
        <p:blipFill>
          <a:blip r:embed="rId2"/>
          <a:stretch/>
        </p:blipFill>
        <p:spPr>
          <a:xfrm>
            <a:off x="684360" y="981000"/>
            <a:ext cx="2087280" cy="6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/>
          </p:nvPr>
        </p:nvSpPr>
        <p:spPr>
          <a:xfrm>
            <a:off x="755640" y="1916280"/>
            <a:ext cx="7129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华文楷体"/>
                <a:ea typeface="华文楷体"/>
              </a:rPr>
              <a:t>           </a:t>
            </a:r>
            <a:r>
              <a:rPr b="1" lang="zh-CN" sz="3200" spc="-1" strike="noStrike">
                <a:solidFill>
                  <a:srgbClr val="990000"/>
                </a:solidFill>
                <a:latin typeface="华文楷体"/>
                <a:ea typeface="华文楷体"/>
              </a:rPr>
              <a:t>娃丽给石铁潘诺夫一家带去的仅仅是一封信吗？还带去了什么？她是个什么样的人？</a:t>
            </a:r>
            <a:r>
              <a:rPr b="0" lang="zh-CN" sz="3200" spc="-1" strike="noStrike">
                <a:solidFill>
                  <a:srgbClr val="990000"/>
                </a:solidFill>
                <a:latin typeface="华文楷体"/>
                <a:ea typeface="华文楷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0" name="Picture 4" descr="细读感悟"/>
          <p:cNvPicPr/>
          <p:nvPr/>
        </p:nvPicPr>
        <p:blipFill>
          <a:blip r:embed="rId2"/>
          <a:stretch/>
        </p:blipFill>
        <p:spPr>
          <a:xfrm>
            <a:off x="684360" y="836640"/>
            <a:ext cx="2087280" cy="6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/>
          </p:nvPr>
        </p:nvSpPr>
        <p:spPr>
          <a:xfrm>
            <a:off x="1295280" y="2187360"/>
            <a:ext cx="7848720" cy="467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99"/>
                </a:solidFill>
                <a:latin typeface="黑体"/>
                <a:ea typeface="黑体"/>
              </a:rPr>
              <a:t>你想对哥什提亚说些什么呢？</a:t>
            </a:r>
            <a:r>
              <a:rPr b="0" lang="zh-CN" sz="3600" spc="-1" strike="noStrike">
                <a:solidFill>
                  <a:srgbClr val="ff3399"/>
                </a:solidFill>
                <a:latin typeface="黑体"/>
                <a:ea typeface="黑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3" name="Picture 4" descr="细读感悟"/>
          <p:cNvPicPr/>
          <p:nvPr/>
        </p:nvPicPr>
        <p:blipFill>
          <a:blip r:embed="rId2"/>
          <a:stretch/>
        </p:blipFill>
        <p:spPr>
          <a:xfrm>
            <a:off x="684360" y="907920"/>
            <a:ext cx="2087280" cy="6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826560" y="1988640"/>
            <a:ext cx="71298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ff"/>
                </a:solidFill>
                <a:latin typeface="华文楷体"/>
                <a:ea typeface="华文楷体"/>
              </a:rPr>
              <a:t>           </a:t>
            </a:r>
            <a:r>
              <a:rPr b="1" lang="zh-CN" sz="3200" spc="-1" strike="noStrike">
                <a:solidFill>
                  <a:srgbClr val="3399ff"/>
                </a:solidFill>
                <a:latin typeface="华文楷体"/>
                <a:ea typeface="华文楷体"/>
              </a:rPr>
              <a:t>请同学们根据以上几个问题，找出相关段落，分角色朗读，从中分析并体会人物的性格特征及思想品格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6" name="Picture 4" descr="细读感悟"/>
          <p:cNvPicPr/>
          <p:nvPr/>
        </p:nvPicPr>
        <p:blipFill>
          <a:blip r:embed="rId2"/>
          <a:stretch/>
        </p:blipFill>
        <p:spPr>
          <a:xfrm>
            <a:off x="826920" y="981000"/>
            <a:ext cx="2087640" cy="6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3T08:32:11Z</dcterms:created>
  <dc:creator/>
  <dc:description>第一PPT模板网-WWW.1PPT.COM</dc:description>
  <dc:language>en-US</dc:language>
  <cp:lastModifiedBy>admin</cp:lastModifiedBy>
  <dcterms:modified xsi:type="dcterms:W3CDTF">2015-01-30T06:20:27Z</dcterms:modified>
  <cp:revision>36</cp:revision>
  <dc:subject/>
  <dc:title>PowerPoint 演示文稿</dc:title>
</cp:coreProperties>
</file>