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8FA-06EE-442B-BF19-7A041D1F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02A-DCD6-48A4-854D-B21F7C5C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5F1FC-4035-4338-8973-F2F3A825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3B3FF-DB0B-4695-A0BD-18ED06CD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33E99-0553-4708-B564-10FC04A5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76402-95B4-4FEC-BE59-65F8648F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2543D-02FF-4E62-A19A-E97673A9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3C42F-F2C1-45E9-B5CD-64F0B9D3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31F37-D168-4F4B-A5A6-18583E4C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8AEFD-781A-410E-8F61-B4695BB8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6BC8B-381B-441A-9371-CF641878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9EA3D-4BF1-4F5B-A92E-B28BF2FE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485-781F-40AF-99EC-C91BE8B6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577FE-FE69-4B44-B5D5-0DF44158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1223F-F0AD-42E5-903F-201333F6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4FAD4-E8B3-4778-BF8F-CB7A6516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FF2F7-7F15-4AA9-B260-7F5B84E3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CBB00-4559-4EB3-A425-882E3B53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5FFF3-21ED-4EE7-8ADB-2B3DE58B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62C1E-BCBE-44D2-B9BB-33636AAB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1F9A7-85F2-41B0-A797-C1B12CCA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31C45-1E99-4EE7-8851-E686DBDA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BBE51-D02D-40A1-A1C2-1610787E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6F2-C085-4DE0-A35D-80106880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F08AE-FEF8-47F6-8BBA-49D5658F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F77D0-6E1B-4297-BC92-6E43C674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04D30-5B8C-4796-BCF8-535536AA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C905A-5A24-44FC-926E-A71F8DC8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8347E-6F1A-452F-AD3F-74A810FA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15A68-A603-4C30-B575-90AAC602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12F3F-53C8-4DEF-BEC6-DFAE3805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A7376-40ED-4E79-8983-F2EB3CF4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B2D63-67B2-4622-B8FF-AD132ED0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2265C-A79F-4C78-9657-98A9D412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57DB-A745-4504-BBA5-DD8141EC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6229A-D898-4151-9586-F88F6991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1B2D2-2B3E-49FB-8F83-EF6AEC9E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9D7D8-9DA2-47C3-B580-E160C7DB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35B5D-9B48-463F-99B2-951C408A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0B87A-F7B6-498C-8161-B9FE66B3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E05FC-5190-4239-BFA3-06913A76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94D5F-B12E-487F-81D8-F987FE0A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BB926-9F83-4E95-9573-084D2FB6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EBE3A-DA30-4F52-9243-7934DA76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4FA36-8FF7-4B7B-B8CD-19BB01B8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0253-13D3-494E-857E-3B1DD7A6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B172A-45ED-4493-89AF-01290A50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CE496-A6D1-45E8-A056-44BDD5AD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EA761-F851-4950-99B2-1BC0AA6E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F2BE1-1A60-4F04-BAE9-76EBE937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EC9A4-418D-4168-846B-AC816390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1298-EAEC-4903-A4CA-5BC02C20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6ACF-8FE0-4C38-BCF0-D8FAEF55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68F8-4955-415C-B4EC-C336EE07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3DF5-D801-49A8-8E4E-7AA85B9F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B332-6E21-4F9D-ADA9-24AE91EA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90F-63DE-44EA-90B1-59F34209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C61C-C624-4741-9A89-B43E76C2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4A88-FA84-46E8-AD88-DB1E8392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FD15-AC25-4D27-AD96-9ED44433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E89E-4407-4D14-9081-516C23E8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3558-671A-4B05-A023-0A2FD53C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970F-4ED4-4D8A-BC5E-2CA48EE6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8D2F-DFB5-4A9F-8B92-2CD84575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2B90-5442-4F08-8243-4B2CDE6E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FF30-6BDF-43AD-BA5E-3F64337C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6288-9D89-4007-8BDD-3811C42C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994-91C8-4010-8D04-DF8641DC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D877E-BE43-4D76-B5D3-9FB4688C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4A07-B995-4DB6-BE23-3F20BB4B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06E0-9896-4F25-A2D6-99FEB03E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4F75D-86E8-45BD-A62B-E3F8745D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DAAAC-CC8D-4E56-9806-8B99D36C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89F2D-DC91-4853-85CE-95E84FC4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0254-5E07-46C0-8CEC-4654ECD3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FE4A0-2A65-4FEA-AD55-5AD369C9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50732-C11F-4ABB-A53D-6FD2ED1C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DBB5-5BCB-483E-9918-83A6F149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886-FD88-464A-A3F6-ABC72388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166E-D0E6-4E80-BABF-BFA7B6E8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9069A-16BC-4648-96D0-FFE8795F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7158B-D2A6-4812-8BD6-2D50A737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7126-AAAC-4589-AE6F-F78634B7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4286-AEC8-402D-9664-6EA9842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192C6-E2C6-421F-A204-ADC1AC77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CADA-DF21-446E-BBC1-D92AE5F5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9937C-FC17-4A0E-B88C-70C504DF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BD4B-286A-471B-B2A6-266C8A6B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AB131-3F55-4402-ADF0-EBB269F7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609-8F46-4ACC-AF7B-562D5A6B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98025-6ECF-465C-AD75-60E88889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64289-A07D-48C9-A5AC-0F6D7F57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F6A73-9413-4150-A786-BD8B480B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9E828-81BE-422E-872C-BE579A92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7E8A1-1F9B-45EC-A6DB-627A446A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CED0C-B4DA-4E39-9E81-DBDDBCF9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8D972-2351-4C34-83C0-E928B26A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FB46-225A-40F7-8807-13D4268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2C37-D50F-4DFA-80BB-1EE03C37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C424-7B61-4C66-8974-679A9979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6FE-FEFE-41EA-B1A4-D8A2781B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5603B-E95E-45E6-A166-A6097A8D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DE958-3BA0-4F98-8E34-E94BE4EC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AC02B-FB7E-4321-89A4-2EFB1A73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12688-EFCF-4C0B-8704-8FD2EF3D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B8F89-40AF-4021-8A9F-08C9D243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AE5AA-61B7-4A11-AA23-27E4F242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BA8C4-736E-46EC-9C78-D5E0B9D5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E2341-0674-4096-9A2F-24F6B613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7546E-851B-4413-8ED0-35067978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A22F1-3E4A-4828-AFC9-6D293932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67D-EB9B-4610-B12C-94C82A32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FED77-A9AB-4C96-9F37-CC16B8E3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A11FA-6AEC-4186-B4AD-1C83D20A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2FD59-1459-46AD-ACF9-2A5DC52A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CC137-BCED-4A69-BC8C-66AFE7B0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F4BE5-0BE4-4CF2-B560-73B16429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2F08A-2120-496D-AA05-22965606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1F6C3-B724-4C01-9930-34FB507E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3B9DA-DF84-4347-BA01-FB9EED2F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42D1B-B399-4566-8B0A-4FE9BB61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03028-BFB5-49D0-9E85-D79FCFE9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C8F-4D73-4C27-B486-C92A5A6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E75E-0DFF-42B3-8CC0-3F140B6C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184E8-56B1-47DB-A51C-B81C13F3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72C8B-1DF8-4856-B3CD-53A5C9D2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191A3-CF61-4E9B-BD82-637719B0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65D59-BBF8-4F6E-BF48-D24410C9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BFDBC-ED78-4314-9988-B5F84F44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FFA07-2FB9-4377-AEE9-1C1981CB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4A8AD-8D96-45FB-AB67-2ABF83B8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C0654-7FEF-40A4-AF75-39D2A7FE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7FBCF-4502-4ADB-B0D9-4CAA96A8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F9A-7803-40B7-87E9-EA1EA2A7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1BAFA-E791-499C-AEA5-6AEC419B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57DC8-28BF-4CE6-8878-3FF71B34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F4796-3E7C-4ACB-95BA-03CC1687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7BBE9-52E5-4C33-825A-62003546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1C632-7CBD-419E-A77A-D96F1FB9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A8860-088F-486D-9080-5B557647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6A40A-8009-4193-ABA9-95D2351A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D1E6F-D089-4C9D-A497-6369F31E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C0C8A-CDEF-4C51-B266-AE5FB007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30775-21AA-44F5-8333-1CDF2DC3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4B43-35B6-47B3-B4BD-E423C1AEE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6D4D-143D-4960-9C91-7CA2DCDCE8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390-2512-4E7D-9250-9D3AF9DB82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DD53-E9AE-4BD0-A89F-D06AF4CC16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0D70-085C-4B96-9017-1B2D8A4CC6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0D12-9F1D-4920-8AEE-C1CFB1D766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5D58-732C-4AA8-AC8E-E1BED481FB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6009-4481-45CD-8BD0-67F14E0E61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BF68-BD85-4FCD-87B5-4F69A1F9FC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10FC-A357-48E2-910D-68754F688C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E3AC-3CAD-446D-9A57-9607706B5A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65FB-3266-43D7-BB59-CDD8DA696E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10"/>
          <p:cNvSpPr txBox="1"/>
          <p:nvPr/>
        </p:nvSpPr>
        <p:spPr>
          <a:xfrm>
            <a:off x="2411280" y="2349360"/>
            <a:ext cx="367344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迷你简祥隶"/>
              </a:rPr>
              <a:t>信箱</a:t>
            </a:r>
            <a:endParaRPr b="0" lang="en-US" sz="6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迷你简祥隶"/>
              <a:ea typeface="迷你简祥隶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爸爸让娃丽和哥哥轮流管信箱，爸爸的用意何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细读感悟"/>
          <p:cNvPicPr/>
          <p:nvPr/>
        </p:nvPicPr>
        <p:blipFill>
          <a:blip r:embed="rId2"/>
          <a:stretch/>
        </p:blipFill>
        <p:spPr>
          <a:xfrm>
            <a:off x="75564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鼓励娃丽继续做一个有责任感的人，暗示哥哥要像娃丽一样做个有责任感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　      学习了本课你有什么感受？假如是你遇到了类似的事，你会怎么做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689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   课后把这个故事讲给你的父母或者爷爷、奶奶听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拓展学习"/>
          <p:cNvPicPr/>
          <p:nvPr/>
        </p:nvPicPr>
        <p:blipFill>
          <a:blip r:embed="rId2"/>
          <a:stretch/>
        </p:blipFill>
        <p:spPr>
          <a:xfrm>
            <a:off x="900000" y="981000"/>
            <a:ext cx="2305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2771640" y="2276640"/>
            <a:ext cx="26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31" name="Picture 5" descr="MCj04294430000[1]"/>
          <p:cNvPicPr/>
          <p:nvPr/>
        </p:nvPicPr>
        <p:blipFill>
          <a:blip r:embed="rId2"/>
          <a:stretch/>
        </p:blipFill>
        <p:spPr>
          <a:xfrm>
            <a:off x="6588000" y="4076640"/>
            <a:ext cx="1797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娃丽关爱他人的美好心灵，做一个有优良品质的小公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握课文的生字，正确、流利、有感情地朗读课文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现在你是怎样和你的朋友、亲戚联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以前人们又是用哪些方式进行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信就得用到信箱，信箱的作用是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初读感知"/>
          <p:cNvPicPr/>
          <p:nvPr/>
        </p:nvPicPr>
        <p:blipFill>
          <a:blip r:embed="rId2"/>
          <a:stretch/>
        </p:blipFill>
        <p:spPr>
          <a:xfrm>
            <a:off x="611280" y="98100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00000" y="23320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楷体"/>
              </a:rPr>
              <a:t>通读全文思考，课文主要写了哪些人物？他们之间发生了什么事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00000" y="220500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哥哥、娃丽各是怎样对待课文那封信的？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115640" y="1988640"/>
            <a:ext cx="6985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娃丽为什么拿到了和哥哥一模一样的钥匙？</a:t>
            </a:r>
            <a:r>
              <a:rPr b="0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细读感悟"/>
          <p:cNvPicPr/>
          <p:nvPr/>
        </p:nvPicPr>
        <p:blipFill>
          <a:blip r:embed="rId2"/>
          <a:stretch/>
        </p:blipFill>
        <p:spPr>
          <a:xfrm>
            <a:off x="684360" y="98100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娃丽给石铁潘诺夫一家带去的仅仅是一封信吗？还带去了什么？她是个什么样的人？</a:t>
            </a:r>
            <a:r>
              <a:rPr b="0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细读感悟"/>
          <p:cNvPicPr/>
          <p:nvPr/>
        </p:nvPicPr>
        <p:blipFill>
          <a:blip r:embed="rId2"/>
          <a:stretch/>
        </p:blipFill>
        <p:spPr>
          <a:xfrm>
            <a:off x="684360" y="83664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295280" y="2187360"/>
            <a:ext cx="78487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你想对哥什提亚说些什么呢？</a:t>
            </a:r>
            <a:r>
              <a:rPr b="0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细读感悟"/>
          <p:cNvPicPr/>
          <p:nvPr/>
        </p:nvPicPr>
        <p:blipFill>
          <a:blip r:embed="rId2"/>
          <a:stretch/>
        </p:blipFill>
        <p:spPr>
          <a:xfrm>
            <a:off x="684360" y="90792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560" y="1988640"/>
            <a:ext cx="7129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请同学们根据以上几个问题，找出相关段落，分角色朗读，从中分析并体会人物的性格特征及思想品格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2:11Z</dcterms:created>
  <dc:creator/>
  <dc:description>第一PPT模板网-WWW.1PPT.COM</dc:description>
  <dc:language>en-US</dc:language>
  <cp:lastModifiedBy>admin</cp:lastModifiedBy>
  <dcterms:modified xsi:type="dcterms:W3CDTF">2015-01-30T06:20:27Z</dcterms:modified>
  <cp:revision>36</cp:revision>
  <dc:subject/>
  <dc:title>PowerPoint 演示文稿</dc:title>
</cp:coreProperties>
</file>