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cashreg.wav" ContentType="audio/x-wav"/>
  <Override PartName="/ppt/media/type.wav" ContentType="audio/x-wav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BAE-A1AE-4AC6-8B5F-3BF27B47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7EB-6576-4505-B5F4-BE658F2B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F69-C5AA-4BC3-BD95-DEAC16F6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907-C67D-4F70-880A-A9F59124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1CD9-BA98-4BFF-BE8F-13CE60EF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4B12-1EB4-42F4-9BB4-EA97C5B2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6037-431F-4DC0-B4CC-B20D504E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32E3-BEC7-48FF-8D16-A0B2EC40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9080-B5A8-42AF-8DC5-D548142A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F3F1-CC09-4AD4-8E75-FD45E6D4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E367-6FF2-49C5-ADFD-C2F6DD13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370-6A89-4B2D-B5F4-E499298C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486A-F7D6-46A4-8E4D-8C6C184A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1BE2-723A-403B-944C-2EAE80E2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B85A-9161-48CE-820A-325007E0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C527-2885-4AC4-8E09-861ABF15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31C0-15E8-487F-8CD9-299BDD6A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A2A-39F2-4638-A2C4-A7FCA282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875-1011-4CF3-A7B5-DE398138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51F-D8F8-4B7D-9C43-3354909E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D15-779D-40A8-A2E4-D694EDFB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753-A9A9-43E4-AC79-90D58D3F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FF0-F2C1-4E0A-820D-0FFD773E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2DA-1F05-48D5-AF68-4DC5F336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7F34-01D8-420B-90AF-DA3AE032162B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13240" r="0" b="0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8314-7425-4458-B4E3-450E43E86A50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56000" y="1995480"/>
            <a:ext cx="37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万以内的加法和减法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40+37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0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95680" y="1447920"/>
            <a:ext cx="4038840" cy="3582360"/>
            <a:chOff x="4495680" y="1447920"/>
            <a:chExt cx="4038840" cy="3582360"/>
          </a:xfrm>
        </p:grpSpPr>
        <p:sp>
          <p:nvSpPr>
            <p:cNvPr id="188" name=""/>
            <p:cNvSpPr/>
            <p:nvPr/>
          </p:nvSpPr>
          <p:spPr>
            <a:xfrm>
              <a:off x="449568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40+37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86600" y="144792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0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728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 4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3 7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405288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360" y="3809880"/>
            <a:ext cx="533160" cy="380880"/>
            <a:chOff x="3276360" y="3809880"/>
            <a:chExt cx="533160" cy="380880"/>
          </a:xfrm>
        </p:grpSpPr>
        <p:sp>
          <p:nvSpPr>
            <p:cNvPr id="196" name=""/>
            <p:cNvSpPr/>
            <p:nvPr/>
          </p:nvSpPr>
          <p:spPr>
            <a:xfrm flipH="1">
              <a:off x="3276360" y="3809880"/>
              <a:ext cx="533160" cy="307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52680" y="3809880"/>
              <a:ext cx="38124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557360"/>
            <a:ext cx="35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8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5573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400" y="34020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281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95640" y="1557360"/>
            <a:ext cx="4484880" cy="3549240"/>
            <a:chOff x="3995640" y="1557360"/>
            <a:chExt cx="4484880" cy="3549240"/>
          </a:xfrm>
        </p:grpSpPr>
        <p:sp>
          <p:nvSpPr>
            <p:cNvPr id="205" name=""/>
            <p:cNvSpPr/>
            <p:nvPr/>
          </p:nvSpPr>
          <p:spPr>
            <a:xfrm>
              <a:off x="3995640" y="1557360"/>
              <a:ext cx="352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280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6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04000" y="155736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2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10080" y="275760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67240" y="3406680"/>
              <a:ext cx="271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412920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4120" y="428148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2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28800" y="2743200"/>
            <a:ext cx="1980720" cy="1447560"/>
            <a:chOff x="1828800" y="2743200"/>
            <a:chExt cx="1980720" cy="1447560"/>
          </a:xfrm>
        </p:grpSpPr>
        <p:sp>
          <p:nvSpPr>
            <p:cNvPr id="212" name=""/>
            <p:cNvSpPr/>
            <p:nvPr/>
          </p:nvSpPr>
          <p:spPr>
            <a:xfrm>
              <a:off x="1828800" y="274320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95280" y="14479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30+29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2681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90060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2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55640" y="1413000"/>
            <a:ext cx="33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5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1413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7576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09680" y="3398760"/>
            <a:ext cx="288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2814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74320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3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73392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2096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8954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35812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733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733920"/>
            <a:ext cx="6858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36720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590920" y="3443400"/>
            <a:ext cx="761400" cy="1053720"/>
            <a:chOff x="2590920" y="3443400"/>
            <a:chExt cx="761400" cy="1053720"/>
          </a:xfrm>
        </p:grpSpPr>
        <p:sp>
          <p:nvSpPr>
            <p:cNvPr id="252" name=""/>
            <p:cNvSpPr/>
            <p:nvPr/>
          </p:nvSpPr>
          <p:spPr>
            <a:xfrm>
              <a:off x="2590920" y="3672000"/>
              <a:ext cx="76140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488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3004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986200"/>
            <a:ext cx="28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36720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733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3809880"/>
            <a:ext cx="60984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666880" y="2286000"/>
            <a:ext cx="609480" cy="2273040"/>
            <a:chOff x="2666880" y="2286000"/>
            <a:chExt cx="609480" cy="2273040"/>
          </a:xfrm>
        </p:grpSpPr>
        <p:sp>
          <p:nvSpPr>
            <p:cNvPr id="262" name=""/>
            <p:cNvSpPr/>
            <p:nvPr/>
          </p:nvSpPr>
          <p:spPr>
            <a:xfrm>
              <a:off x="2927880" y="2286000"/>
              <a:ext cx="871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6880" y="373392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2852640"/>
            <a:ext cx="27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374796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809880"/>
            <a:ext cx="60948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733920"/>
            <a:ext cx="609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  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43200" y="2895480"/>
            <a:ext cx="609480" cy="825120"/>
            <a:chOff x="2743200" y="2895480"/>
            <a:chExt cx="609480" cy="825120"/>
          </a:xfrm>
        </p:grpSpPr>
        <p:sp>
          <p:nvSpPr>
            <p:cNvPr id="279" name=""/>
            <p:cNvSpPr/>
            <p:nvPr/>
          </p:nvSpPr>
          <p:spPr>
            <a:xfrm>
              <a:off x="27432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672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5280" y="2892600"/>
            <a:ext cx="25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  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36576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5 8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971800" y="2209680"/>
            <a:ext cx="838080" cy="1510920"/>
            <a:chOff x="2971800" y="2209680"/>
            <a:chExt cx="838080" cy="1510920"/>
          </a:xfrm>
        </p:grpSpPr>
        <p:sp>
          <p:nvSpPr>
            <p:cNvPr id="289" name=""/>
            <p:cNvSpPr/>
            <p:nvPr/>
          </p:nvSpPr>
          <p:spPr>
            <a:xfrm>
              <a:off x="32004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71800" y="2209680"/>
              <a:ext cx="76320" cy="152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46196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8+34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1447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681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3367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33720" y="3900600"/>
            <a:ext cx="1143000" cy="1129680"/>
            <a:chOff x="2133720" y="3900600"/>
            <a:chExt cx="1143000" cy="1129680"/>
          </a:xfrm>
        </p:grpSpPr>
        <p:sp>
          <p:nvSpPr>
            <p:cNvPr id="91" name=""/>
            <p:cNvSpPr/>
            <p:nvPr/>
          </p:nvSpPr>
          <p:spPr>
            <a:xfrm>
              <a:off x="2133720" y="420516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800600" y="1447920"/>
            <a:ext cx="308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4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14130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270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97320"/>
            <a:ext cx="220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580000" y="2637000"/>
            <a:ext cx="1143000" cy="2363040"/>
            <a:chOff x="5580000" y="2637000"/>
            <a:chExt cx="1143000" cy="2363040"/>
          </a:xfrm>
        </p:grpSpPr>
        <p:sp>
          <p:nvSpPr>
            <p:cNvPr id="99" name=""/>
            <p:cNvSpPr/>
            <p:nvPr/>
          </p:nvSpPr>
          <p:spPr>
            <a:xfrm>
              <a:off x="5580000" y="417492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2640" y="26370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2440080" cy="1830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2440080" cy="18302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00200" y="28195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3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2743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2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41148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妈妈要取几百元？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3853080" cy="448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886200" cy="317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4120" y="10666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38280" y="685800"/>
            <a:ext cx="2819520" cy="1295280"/>
            <a:chOff x="2438280" y="685800"/>
            <a:chExt cx="2819520" cy="1295280"/>
          </a:xfrm>
        </p:grpSpPr>
        <p:sp>
          <p:nvSpPr>
            <p:cNvPr id="107" name=""/>
            <p:cNvSpPr/>
            <p:nvPr/>
          </p:nvSpPr>
          <p:spPr>
            <a:xfrm>
              <a:off x="2438280" y="685800"/>
              <a:ext cx="2819520" cy="1295280"/>
            </a:xfrm>
            <a:prstGeom prst="cloudCallout">
              <a:avLst>
                <a:gd name="adj1" fmla="val 34458"/>
                <a:gd name="adj2" fmla="val 70833"/>
              </a:avLst>
            </a:prstGeom>
            <a:solidFill>
              <a:srgbClr val="ccffcc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91440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500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个送一次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现在够吗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295280" y="4648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8006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共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66688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5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429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99120" y="17733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565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1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56280" y="3162240"/>
            <a:ext cx="1828800" cy="1053720"/>
            <a:chOff x="5156280" y="3162240"/>
            <a:chExt cx="1828800" cy="1053720"/>
          </a:xfrm>
        </p:grpSpPr>
        <p:sp>
          <p:nvSpPr>
            <p:cNvPr id="119" name=""/>
            <p:cNvSpPr/>
            <p:nvPr/>
          </p:nvSpPr>
          <p:spPr>
            <a:xfrm>
              <a:off x="5766120" y="316224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56280" y="33908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0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7014" r="0" b="0"/>
          <a:stretch/>
        </p:blipFill>
        <p:spPr>
          <a:xfrm>
            <a:off x="4267080" y="404640"/>
            <a:ext cx="3853080" cy="416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1157400"/>
            <a:ext cx="3886200" cy="317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4120" y="6238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20516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0528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二周和第一周多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少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0440" y="26668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191916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2666880"/>
            <a:ext cx="258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22640" y="340344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19640" y="1828800"/>
            <a:ext cx="1752840" cy="2425320"/>
            <a:chOff x="5219640" y="1828800"/>
            <a:chExt cx="1752840" cy="2425320"/>
          </a:xfrm>
        </p:grpSpPr>
        <p:sp>
          <p:nvSpPr>
            <p:cNvPr id="136" name=""/>
            <p:cNvSpPr/>
            <p:nvPr/>
          </p:nvSpPr>
          <p:spPr>
            <a:xfrm>
              <a:off x="5219640" y="3429000"/>
              <a:ext cx="175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58080" y="18288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692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笔算注意事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5303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相同数位上的数要对齐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216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从个位算起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054240"/>
            <a:ext cx="775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十位上的数相加满十，向百位进一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十位上的数不够减，从百位退一作十，和十位上的数相加，再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10+25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6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343400" y="1447920"/>
            <a:ext cx="4038480" cy="3582360"/>
            <a:chOff x="4343400" y="1447920"/>
            <a:chExt cx="4038480" cy="3582360"/>
          </a:xfrm>
        </p:grpSpPr>
        <p:sp>
          <p:nvSpPr>
            <p:cNvPr id="149" name=""/>
            <p:cNvSpPr/>
            <p:nvPr/>
          </p:nvSpPr>
          <p:spPr>
            <a:xfrm>
              <a:off x="434340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10+25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144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6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500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2 5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4052880"/>
              <a:ext cx="190476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8280" y="3809880"/>
            <a:ext cx="1371240" cy="380880"/>
            <a:chOff x="2438280" y="3809880"/>
            <a:chExt cx="1371240" cy="380880"/>
          </a:xfrm>
        </p:grpSpPr>
        <p:sp>
          <p:nvSpPr>
            <p:cNvPr id="156" name=""/>
            <p:cNvSpPr/>
            <p:nvPr/>
          </p:nvSpPr>
          <p:spPr>
            <a:xfrm>
              <a:off x="24382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53352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先判断，再改错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557360"/>
            <a:ext cx="374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7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8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55736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6200" y="34434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2814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21240" y="1557360"/>
            <a:ext cx="4622760" cy="3549240"/>
            <a:chOff x="4521240" y="1557360"/>
            <a:chExt cx="4622760" cy="3549240"/>
          </a:xfrm>
        </p:grpSpPr>
        <p:sp>
          <p:nvSpPr>
            <p:cNvPr id="168" name=""/>
            <p:cNvSpPr/>
            <p:nvPr/>
          </p:nvSpPr>
          <p:spPr>
            <a:xfrm>
              <a:off x="4521240" y="3429000"/>
              <a:ext cx="2643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3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788000" y="1557360"/>
              <a:ext cx="4356000" cy="3549240"/>
              <a:chOff x="4788000" y="1557360"/>
              <a:chExt cx="4356000" cy="3549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788000" y="1557360"/>
                <a:ext cx="316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570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－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380=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7480" y="155736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9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275760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5 7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29200" y="4129200"/>
                <a:ext cx="1905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86400" y="4281480"/>
                <a:ext cx="1600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 9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91320" y="2743200"/>
                <a:ext cx="75960" cy="1522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1903320" y="2708280"/>
            <a:ext cx="1906200" cy="1482480"/>
            <a:chOff x="1903320" y="2708280"/>
            <a:chExt cx="1906200" cy="1482480"/>
          </a:xfrm>
        </p:grpSpPr>
        <p:sp>
          <p:nvSpPr>
            <p:cNvPr id="177" name=""/>
            <p:cNvSpPr/>
            <p:nvPr/>
          </p:nvSpPr>
          <p:spPr>
            <a:xfrm>
              <a:off x="1903320" y="270828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7:03:45Z</dcterms:created>
  <dc:creator>深蓝电脑</dc:creator>
  <dc:description/>
  <dc:language>en-US</dc:language>
  <cp:lastModifiedBy>微软用户</cp:lastModifiedBy>
  <dcterms:modified xsi:type="dcterms:W3CDTF">2009-12-08T02:00:53Z</dcterms:modified>
  <cp:revision>60</cp:revision>
  <dc:subject/>
  <dc:title>PowerPoint 演示文稿</dc:title>
</cp:coreProperties>
</file>