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cashreg.wav" ContentType="audio/x-wav"/>
  <Override PartName="/ppt/media/type.wav" ContentType="audio/x-wav"/>
  <Override PartName="/ppt/media/chimes.wav" ContentType="audio/x-wav"/>
  <Override PartName="/ppt/media/image6.jpeg" ContentType="image/jpeg"/>
  <Override PartName="/ppt/media/applause.wav" ContentType="audio/x-wav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D0E1-5101-4179-A6D2-B8021C59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F1C5-2BBE-4EA2-82B1-46E37826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BCBA-3AB7-4975-AF9C-C85227015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BF67-38D5-4F8D-BE71-79610882E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25B0-2F2A-426D-8767-3E8771BDE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7340-B30A-4712-81B8-2E5C77DA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B59A-363B-4E50-BB62-B5C0FA58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2DA3-9CFC-482F-BD9D-2539FDA1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AADC-45AE-40EF-8956-14FD6A61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D846-392A-4EAA-B792-34778EFC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82F9-B433-46CF-A78C-31AADCB2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2224-E785-4F73-8BE5-C60E1AA9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6091-FA5F-4FEB-9455-0E7C5FB0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23FB-88F2-494A-A9F1-C158F094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ABC6-8D67-458A-9EFF-DE40060A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0110-6E8B-4875-8B97-7DBA0D89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1CA4-3924-4A3A-86D4-B27C2029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A1AA-633C-43BA-9F00-DE3CAD2C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0BF1-A123-4C4E-AAAB-3BBC243F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159D-FF02-4625-8B27-C88A6384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03A0-847F-4A89-AD55-81E9ADE5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4FBB-C47F-4E08-9D2C-739BD962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0B01-0E02-41E6-98D0-009FC3B8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BCFB-9F63-432E-B4CC-3D427D63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90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FF6F-AC43-4FEF-8CCD-898D088BE165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13240" r="0" b="0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5F96-5FF8-450C-A33C-1B96BA666675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56000" y="1995480"/>
            <a:ext cx="373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万以内的加法和减法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一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3520" y="144792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40+37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1447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0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268128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33670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3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5120" y="42051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495680" y="1447920"/>
            <a:ext cx="4038840" cy="3582360"/>
            <a:chOff x="4495680" y="1447920"/>
            <a:chExt cx="4038840" cy="3582360"/>
          </a:xfrm>
        </p:grpSpPr>
        <p:sp>
          <p:nvSpPr>
            <p:cNvPr id="188" name=""/>
            <p:cNvSpPr/>
            <p:nvPr/>
          </p:nvSpPr>
          <p:spPr>
            <a:xfrm>
              <a:off x="4495680" y="1447920"/>
              <a:ext cx="3048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340+370=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86600" y="1447920"/>
              <a:ext cx="1447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70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67280" y="268128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3 4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34120" y="3367080"/>
              <a:ext cx="2057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+  3 7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57800" y="4052880"/>
              <a:ext cx="190512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67280" y="4205160"/>
              <a:ext cx="160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7 1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00800" y="39006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360" y="3809880"/>
            <a:ext cx="533160" cy="380880"/>
            <a:chOff x="3276360" y="3809880"/>
            <a:chExt cx="533160" cy="380880"/>
          </a:xfrm>
        </p:grpSpPr>
        <p:sp>
          <p:nvSpPr>
            <p:cNvPr id="196" name=""/>
            <p:cNvSpPr/>
            <p:nvPr/>
          </p:nvSpPr>
          <p:spPr>
            <a:xfrm flipH="1">
              <a:off x="3276360" y="3809880"/>
              <a:ext cx="533160" cy="307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52680" y="3809880"/>
              <a:ext cx="381240" cy="38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1557360"/>
            <a:ext cx="352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8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6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71640" y="155736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3880" y="27576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7400" y="3402000"/>
            <a:ext cx="256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41292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42814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995640" y="1557360"/>
            <a:ext cx="4484880" cy="3549240"/>
            <a:chOff x="3995640" y="1557360"/>
            <a:chExt cx="4484880" cy="3549240"/>
          </a:xfrm>
        </p:grpSpPr>
        <p:sp>
          <p:nvSpPr>
            <p:cNvPr id="205" name=""/>
            <p:cNvSpPr/>
            <p:nvPr/>
          </p:nvSpPr>
          <p:spPr>
            <a:xfrm>
              <a:off x="3995640" y="1557360"/>
              <a:ext cx="3529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280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－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160=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04000" y="155736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2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410080" y="275760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2 8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67240" y="3406680"/>
              <a:ext cx="271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－  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1 6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29200" y="4129200"/>
              <a:ext cx="190512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34120" y="428148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 2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28800" y="2743200"/>
            <a:ext cx="1980720" cy="1447560"/>
            <a:chOff x="1828800" y="2743200"/>
            <a:chExt cx="1980720" cy="1447560"/>
          </a:xfrm>
        </p:grpSpPr>
        <p:sp>
          <p:nvSpPr>
            <p:cNvPr id="212" name=""/>
            <p:cNvSpPr/>
            <p:nvPr/>
          </p:nvSpPr>
          <p:spPr>
            <a:xfrm>
              <a:off x="1828800" y="2743200"/>
              <a:ext cx="7632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3276360" y="3809880"/>
              <a:ext cx="533160" cy="380880"/>
              <a:chOff x="3276360" y="3809880"/>
              <a:chExt cx="533160" cy="380880"/>
            </a:xfrm>
          </p:grpSpPr>
          <p:sp>
            <p:nvSpPr>
              <p:cNvPr id="214" name=""/>
              <p:cNvSpPr/>
              <p:nvPr/>
            </p:nvSpPr>
            <p:spPr>
              <a:xfrm flipH="1">
                <a:off x="3276360" y="3809880"/>
                <a:ext cx="533160" cy="307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352680" y="3809880"/>
                <a:ext cx="38124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295280" y="144792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30+29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1447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2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66880" y="26812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33670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2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5740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66880" y="42051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 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900600"/>
            <a:ext cx="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267080" y="4267080"/>
            <a:ext cx="762120" cy="457200"/>
            <a:chOff x="4267080" y="4267080"/>
            <a:chExt cx="762120" cy="457200"/>
          </a:xfrm>
        </p:grpSpPr>
        <p:sp>
          <p:nvSpPr>
            <p:cNvPr id="224" name=""/>
            <p:cNvSpPr/>
            <p:nvPr/>
          </p:nvSpPr>
          <p:spPr>
            <a:xfrm>
              <a:off x="4267080" y="4419720"/>
              <a:ext cx="228600" cy="304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495680" y="4267080"/>
              <a:ext cx="53352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55640" y="1413000"/>
            <a:ext cx="33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45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6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14130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9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27576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4 5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09680" y="3398760"/>
            <a:ext cx="288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41292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09680" y="4281480"/>
            <a:ext cx="19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2743200"/>
            <a:ext cx="76320" cy="152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267080" y="4267080"/>
            <a:ext cx="762120" cy="457200"/>
            <a:chOff x="4267080" y="4267080"/>
            <a:chExt cx="762120" cy="457200"/>
          </a:xfrm>
        </p:grpSpPr>
        <p:sp>
          <p:nvSpPr>
            <p:cNvPr id="234" name=""/>
            <p:cNvSpPr/>
            <p:nvPr/>
          </p:nvSpPr>
          <p:spPr>
            <a:xfrm>
              <a:off x="4267080" y="4419720"/>
              <a:ext cx="228600" cy="304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495680" y="4267080"/>
              <a:ext cx="53352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373392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22096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28954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4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33720" y="3581280"/>
            <a:ext cx="190476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7339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43200" y="3733920"/>
            <a:ext cx="6858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33720" y="29098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2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0" y="3595680"/>
            <a:ext cx="190512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71800" y="3610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0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743200" y="367200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590920" y="3443400"/>
            <a:ext cx="761400" cy="1053720"/>
            <a:chOff x="2590920" y="3443400"/>
            <a:chExt cx="761400" cy="1053720"/>
          </a:xfrm>
        </p:grpSpPr>
        <p:sp>
          <p:nvSpPr>
            <p:cNvPr id="252" name=""/>
            <p:cNvSpPr/>
            <p:nvPr/>
          </p:nvSpPr>
          <p:spPr>
            <a:xfrm>
              <a:off x="2590920" y="3672000"/>
              <a:ext cx="76140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4880" y="34434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6880" y="23004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19280" y="2986200"/>
            <a:ext cx="28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0" y="36720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3733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66880" y="3809880"/>
            <a:ext cx="609840" cy="6098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666880" y="2286000"/>
            <a:ext cx="609480" cy="2273040"/>
            <a:chOff x="2666880" y="2286000"/>
            <a:chExt cx="609480" cy="2273040"/>
          </a:xfrm>
        </p:grpSpPr>
        <p:sp>
          <p:nvSpPr>
            <p:cNvPr id="262" name=""/>
            <p:cNvSpPr/>
            <p:nvPr/>
          </p:nvSpPr>
          <p:spPr>
            <a:xfrm>
              <a:off x="2927880" y="2286000"/>
              <a:ext cx="8712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66880" y="3733920"/>
              <a:ext cx="60948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92360" y="2852640"/>
            <a:ext cx="272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4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0" y="3595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90920" y="374796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43200" y="3809880"/>
            <a:ext cx="609480" cy="6098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43200" y="3733920"/>
            <a:ext cx="6094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29098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  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3610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0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43200" y="297180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743200" y="2895480"/>
            <a:ext cx="609480" cy="825120"/>
            <a:chOff x="2743200" y="2895480"/>
            <a:chExt cx="609480" cy="825120"/>
          </a:xfrm>
        </p:grpSpPr>
        <p:sp>
          <p:nvSpPr>
            <p:cNvPr id="279" name=""/>
            <p:cNvSpPr/>
            <p:nvPr/>
          </p:nvSpPr>
          <p:spPr>
            <a:xfrm>
              <a:off x="2743200" y="2895480"/>
              <a:ext cx="60948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2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76720" y="34434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286000" y="3595680"/>
            <a:ext cx="190512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 1 8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35280" y="2892600"/>
            <a:ext cx="250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  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90920" y="36576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5 8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00400" y="297180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971800" y="2209680"/>
            <a:ext cx="838080" cy="1510920"/>
            <a:chOff x="2971800" y="2209680"/>
            <a:chExt cx="838080" cy="1510920"/>
          </a:xfrm>
        </p:grpSpPr>
        <p:sp>
          <p:nvSpPr>
            <p:cNvPr id="289" name=""/>
            <p:cNvSpPr/>
            <p:nvPr/>
          </p:nvSpPr>
          <p:spPr>
            <a:xfrm>
              <a:off x="3200400" y="2895480"/>
              <a:ext cx="60948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71800" y="2209680"/>
              <a:ext cx="76320" cy="152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286000" y="3595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71600" y="146196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8+34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144792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2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2681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 8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00200" y="3367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3 4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133720" y="3900600"/>
            <a:ext cx="1143000" cy="1129680"/>
            <a:chOff x="2133720" y="3900600"/>
            <a:chExt cx="1143000" cy="1129680"/>
          </a:xfrm>
        </p:grpSpPr>
        <p:sp>
          <p:nvSpPr>
            <p:cNvPr id="91" name=""/>
            <p:cNvSpPr/>
            <p:nvPr/>
          </p:nvSpPr>
          <p:spPr>
            <a:xfrm>
              <a:off x="2133720" y="4205160"/>
              <a:ext cx="114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5 2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6880" y="39006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800600" y="1447920"/>
            <a:ext cx="308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4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8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24720" y="14130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6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80000" y="2708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4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397320"/>
            <a:ext cx="220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8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580000" y="2637000"/>
            <a:ext cx="1143000" cy="2363040"/>
            <a:chOff x="5580000" y="2637000"/>
            <a:chExt cx="1143000" cy="2363040"/>
          </a:xfrm>
        </p:grpSpPr>
        <p:sp>
          <p:nvSpPr>
            <p:cNvPr id="99" name=""/>
            <p:cNvSpPr/>
            <p:nvPr/>
          </p:nvSpPr>
          <p:spPr>
            <a:xfrm>
              <a:off x="5580000" y="4174920"/>
              <a:ext cx="114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 6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32640" y="2637000"/>
              <a:ext cx="7596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2440080" cy="18302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4952880" y="1143000"/>
            <a:ext cx="2440080" cy="18302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600200" y="281952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83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元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27432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52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元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47920" y="411480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妈妈要取几百元？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267080" y="533520"/>
            <a:ext cx="3853080" cy="4481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3886200" cy="3171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34120" y="1066680"/>
            <a:ext cx="2666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收集矿泉水瓶情况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1066680"/>
            <a:ext cx="0" cy="1981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96080" y="1066680"/>
            <a:ext cx="0" cy="1981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438280" y="685800"/>
            <a:ext cx="2819520" cy="1295280"/>
            <a:chOff x="2438280" y="685800"/>
            <a:chExt cx="2819520" cy="1295280"/>
          </a:xfrm>
        </p:grpSpPr>
        <p:sp>
          <p:nvSpPr>
            <p:cNvPr id="107" name=""/>
            <p:cNvSpPr/>
            <p:nvPr/>
          </p:nvSpPr>
          <p:spPr>
            <a:xfrm>
              <a:off x="2438280" y="685800"/>
              <a:ext cx="2819520" cy="1295280"/>
            </a:xfrm>
            <a:prstGeom prst="cloudCallout">
              <a:avLst>
                <a:gd name="adj1" fmla="val 34458"/>
                <a:gd name="adj2" fmla="val 70833"/>
              </a:avLst>
            </a:prstGeom>
            <a:solidFill>
              <a:srgbClr val="ccffcc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19520" y="914400"/>
              <a:ext cx="236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500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个送一次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现在够吗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295280" y="464832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48006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第一周和第二周共收集了多少个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3720" y="190512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2666880"/>
            <a:ext cx="243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5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3352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34290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99120" y="177336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2565360"/>
            <a:ext cx="221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1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3352680"/>
            <a:ext cx="190476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156280" y="3162240"/>
            <a:ext cx="1828800" cy="1053720"/>
            <a:chOff x="5156280" y="3162240"/>
            <a:chExt cx="1828800" cy="1053720"/>
          </a:xfrm>
        </p:grpSpPr>
        <p:sp>
          <p:nvSpPr>
            <p:cNvPr id="119" name=""/>
            <p:cNvSpPr/>
            <p:nvPr/>
          </p:nvSpPr>
          <p:spPr>
            <a:xfrm>
              <a:off x="5766120" y="316224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56280" y="339084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5 0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0" t="7014" r="0" b="0"/>
          <a:stretch/>
        </p:blipFill>
        <p:spPr>
          <a:xfrm>
            <a:off x="4267080" y="404640"/>
            <a:ext cx="3853080" cy="4167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38080" y="1157400"/>
            <a:ext cx="3886200" cy="3171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334120" y="623880"/>
            <a:ext cx="2666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收集矿泉水瓶情况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623880"/>
            <a:ext cx="0" cy="19810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96080" y="623880"/>
            <a:ext cx="0" cy="19810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420516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4052880"/>
            <a:ext cx="7162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第二周和第一周多收集了多少个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第一周和第二周少收集了多少个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33720" y="190512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4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60440" y="266688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3352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191916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56000" y="2666880"/>
            <a:ext cx="258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3352680"/>
            <a:ext cx="190476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22640" y="340344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219640" y="1828800"/>
            <a:ext cx="1752840" cy="2425320"/>
            <a:chOff x="5219640" y="1828800"/>
            <a:chExt cx="1752840" cy="2425320"/>
          </a:xfrm>
        </p:grpSpPr>
        <p:sp>
          <p:nvSpPr>
            <p:cNvPr id="136" name=""/>
            <p:cNvSpPr/>
            <p:nvPr/>
          </p:nvSpPr>
          <p:spPr>
            <a:xfrm>
              <a:off x="5219640" y="3429000"/>
              <a:ext cx="1752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   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8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58080" y="1828800"/>
              <a:ext cx="7596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90720" y="6922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笔算注意事项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153036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  相同数位上的数要对齐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22161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  从个位算起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3054240"/>
            <a:ext cx="7750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  十位上的数相加满十，向百位进一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十位上的数不够减，从百位退一作十，和十位上的数相加，再减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33520" y="144792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410+25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1447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6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268128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4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3670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2 5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42051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343400" y="1447920"/>
            <a:ext cx="4038480" cy="3582360"/>
            <a:chOff x="4343400" y="1447920"/>
            <a:chExt cx="4038480" cy="3582360"/>
          </a:xfrm>
        </p:grpSpPr>
        <p:sp>
          <p:nvSpPr>
            <p:cNvPr id="149" name=""/>
            <p:cNvSpPr/>
            <p:nvPr/>
          </p:nvSpPr>
          <p:spPr>
            <a:xfrm>
              <a:off x="4343400" y="1447920"/>
              <a:ext cx="3048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410+250=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34320" y="1447920"/>
              <a:ext cx="1447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6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15000" y="268128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4 1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81480" y="3367080"/>
              <a:ext cx="2057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+  2 5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05520" y="4052880"/>
              <a:ext cx="190476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15000" y="4205160"/>
              <a:ext cx="160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 6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438280" y="3809880"/>
            <a:ext cx="1371240" cy="380880"/>
            <a:chOff x="2438280" y="3809880"/>
            <a:chExt cx="1371240" cy="380880"/>
          </a:xfrm>
        </p:grpSpPr>
        <p:sp>
          <p:nvSpPr>
            <p:cNvPr id="156" name=""/>
            <p:cNvSpPr/>
            <p:nvPr/>
          </p:nvSpPr>
          <p:spPr>
            <a:xfrm>
              <a:off x="2438280" y="39006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3276360" y="3809880"/>
              <a:ext cx="533160" cy="380880"/>
              <a:chOff x="3276360" y="3809880"/>
              <a:chExt cx="533160" cy="380880"/>
            </a:xfrm>
          </p:grpSpPr>
          <p:sp>
            <p:nvSpPr>
              <p:cNvPr id="158" name=""/>
              <p:cNvSpPr/>
              <p:nvPr/>
            </p:nvSpPr>
            <p:spPr>
              <a:xfrm flipH="1">
                <a:off x="3276360" y="3809880"/>
                <a:ext cx="533160" cy="307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352680" y="3809880"/>
                <a:ext cx="38124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" name=""/>
          <p:cNvSpPr/>
          <p:nvPr/>
        </p:nvSpPr>
        <p:spPr>
          <a:xfrm>
            <a:off x="533520" y="838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先判断，再改错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1557360"/>
            <a:ext cx="374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57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8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59280" y="155736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9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3880" y="27576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6200" y="3443400"/>
            <a:ext cx="256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41292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42814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521240" y="1557360"/>
            <a:ext cx="4622760" cy="3549240"/>
            <a:chOff x="4521240" y="1557360"/>
            <a:chExt cx="4622760" cy="3549240"/>
          </a:xfrm>
        </p:grpSpPr>
        <p:sp>
          <p:nvSpPr>
            <p:cNvPr id="168" name=""/>
            <p:cNvSpPr/>
            <p:nvPr/>
          </p:nvSpPr>
          <p:spPr>
            <a:xfrm>
              <a:off x="4521240" y="3429000"/>
              <a:ext cx="2643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－  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3 8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4788000" y="1557360"/>
              <a:ext cx="4356000" cy="3549240"/>
              <a:chOff x="4788000" y="1557360"/>
              <a:chExt cx="4356000" cy="3549240"/>
            </a:xfrm>
          </p:grpSpPr>
          <p:sp>
            <p:nvSpPr>
              <p:cNvPr id="170" name=""/>
              <p:cNvSpPr/>
              <p:nvPr/>
            </p:nvSpPr>
            <p:spPr>
              <a:xfrm>
                <a:off x="4788000" y="1557360"/>
                <a:ext cx="3168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800" spc="-1" strike="noStrike">
                    <a:solidFill>
                      <a:srgbClr val="5b5249"/>
                    </a:solidFill>
                    <a:latin typeface="Times New Roman"/>
                  </a:rPr>
                  <a:t>570</a:t>
                </a:r>
                <a:r>
                  <a:rPr b="0" lang="zh-CN" sz="4800" spc="-1" strike="noStrike">
                    <a:solidFill>
                      <a:srgbClr val="5b5249"/>
                    </a:solidFill>
                    <a:latin typeface="Times New Roman"/>
                  </a:rPr>
                  <a:t>－</a:t>
                </a:r>
                <a:r>
                  <a:rPr b="0" lang="zh-CN" sz="4800" spc="-1" strike="noStrike">
                    <a:solidFill>
                      <a:srgbClr val="5b5249"/>
                    </a:solidFill>
                    <a:latin typeface="Times New Roman"/>
                  </a:rPr>
                  <a:t>380=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7480" y="1557360"/>
                <a:ext cx="16765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5b5249"/>
                    </a:solidFill>
                    <a:latin typeface="Times New Roman"/>
                  </a:rPr>
                  <a:t>190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10080" y="2757600"/>
                <a:ext cx="16765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5b5249"/>
                    </a:solidFill>
                    <a:latin typeface="Times New Roman"/>
                  </a:rPr>
                  <a:t>5 7 0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029200" y="4129200"/>
                <a:ext cx="190512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86400" y="4281480"/>
                <a:ext cx="16002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5b5249"/>
                    </a:solidFill>
                    <a:latin typeface="Times New Roman"/>
                  </a:rPr>
                  <a:t>1 9 0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791320" y="2743200"/>
                <a:ext cx="75960" cy="1522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1903320" y="2708280"/>
            <a:ext cx="1906200" cy="1482480"/>
            <a:chOff x="1903320" y="2708280"/>
            <a:chExt cx="1906200" cy="1482480"/>
          </a:xfrm>
        </p:grpSpPr>
        <p:sp>
          <p:nvSpPr>
            <p:cNvPr id="177" name=""/>
            <p:cNvSpPr/>
            <p:nvPr/>
          </p:nvSpPr>
          <p:spPr>
            <a:xfrm>
              <a:off x="1903320" y="2708280"/>
              <a:ext cx="7632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276360" y="3809880"/>
              <a:ext cx="533160" cy="380880"/>
              <a:chOff x="3276360" y="3809880"/>
              <a:chExt cx="533160" cy="380880"/>
            </a:xfrm>
          </p:grpSpPr>
          <p:sp>
            <p:nvSpPr>
              <p:cNvPr id="179" name=""/>
              <p:cNvSpPr/>
              <p:nvPr/>
            </p:nvSpPr>
            <p:spPr>
              <a:xfrm flipH="1">
                <a:off x="3276360" y="3809880"/>
                <a:ext cx="533160" cy="307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352680" y="3809880"/>
                <a:ext cx="38124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6T07:03:45Z</dcterms:created>
  <dc:creator>深蓝电脑</dc:creator>
  <dc:description/>
  <dc:language>en-US</dc:language>
  <cp:lastModifiedBy>微软用户</cp:lastModifiedBy>
  <dcterms:modified xsi:type="dcterms:W3CDTF">2009-12-08T02:00:53Z</dcterms:modified>
  <cp:revision>60</cp:revision>
  <dc:subject/>
  <dc:title>PowerPoint 演示文稿</dc:title>
</cp:coreProperties>
</file>