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cashreg.wav" ContentType="audio/x-wav"/>
  <Override PartName="/ppt/media/type.wav" ContentType="audio/x-wav"/>
  <Override PartName="/ppt/media/chimes.wav" ContentType="audio/x-wav"/>
  <Override PartName="/ppt/media/image6.jpeg" ContentType="image/jpeg"/>
  <Override PartName="/ppt/media/applause.wav" ContentType="audio/x-wav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8B1D-E6C3-4B4E-BC4E-693B1E755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6534-9C8D-400A-B9ED-DD3E8730A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8259-596D-47E6-9C0B-ABA4462FE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2C44-DF39-4E67-A685-9B1C572E8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65649-9AF6-4C8D-AEC1-BE225DEFE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AF2A2-CEDE-49E1-A626-0122A14C6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A6B71-8104-4966-879A-BDDF95E5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F2103-EDD9-41B6-BDED-36F8504B9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CD834-0A68-419B-A433-6C172C95E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A4F4F-ABE1-464A-9E0F-B678B4BFA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6E826-BDFE-47F2-B0D8-7C0F3B89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081F-9140-42C8-BBEB-F56870584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5C63D-B5E8-4B9C-8AA3-2EC4528D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A15A4-F73D-481A-9BA3-D47C4E46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E8A68-8B1C-4159-B1CF-AA76BB0B5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FE31A-B61F-444B-8A28-0F9C05845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09986-D44D-4755-97D1-7136510C1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42E0-E280-4D85-8D3F-F6B5E4133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9491-FF81-4EEF-BB96-245ECE980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0266-82D4-46E5-8221-2F1E54C3B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9644-4326-4CAF-8C56-91F56C59D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8FC7-E84D-49F2-BEE7-3E09911F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11FA-45AF-4F65-BB73-E60B7C87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96F7-F144-4BC0-922A-250192BE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905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541E6-308D-42C6-8D6E-FB4435B23FD6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13240" r="0" b="0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959C4-2281-4BC9-B17E-2A901AAA71A7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556000" y="1995480"/>
            <a:ext cx="373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a3d7a"/>
                </a:solidFill>
                <a:latin typeface="Times New Roman"/>
              </a:rPr>
              <a:t>万以内的加法和减法</a:t>
            </a:r>
            <a:r>
              <a:rPr b="1" lang="zh-CN" sz="3600" spc="-1" strike="noStrike">
                <a:solidFill>
                  <a:srgbClr val="2a3d7a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2a3d7a"/>
                </a:solidFill>
                <a:latin typeface="Times New Roman"/>
              </a:rPr>
              <a:t>一</a:t>
            </a:r>
            <a:r>
              <a:rPr b="1" lang="zh-CN" sz="3600" spc="-1" strike="noStrike">
                <a:solidFill>
                  <a:srgbClr val="2a3d7a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533520" y="1447920"/>
            <a:ext cx="304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340+370=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24080" y="144792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60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05120" y="268128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3 4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336708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 3 7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95280" y="40528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05120" y="420516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6 1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4495680" y="1447920"/>
            <a:ext cx="4038840" cy="3582360"/>
            <a:chOff x="4495680" y="1447920"/>
            <a:chExt cx="4038840" cy="3582360"/>
          </a:xfrm>
        </p:grpSpPr>
        <p:sp>
          <p:nvSpPr>
            <p:cNvPr id="188" name=""/>
            <p:cNvSpPr/>
            <p:nvPr/>
          </p:nvSpPr>
          <p:spPr>
            <a:xfrm>
              <a:off x="4495680" y="1447920"/>
              <a:ext cx="3048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340+370=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086600" y="1447920"/>
              <a:ext cx="1447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70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867280" y="2681280"/>
              <a:ext cx="1676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3 4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334120" y="3367080"/>
              <a:ext cx="2057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+  3 7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257800" y="4052880"/>
              <a:ext cx="190512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867280" y="4205160"/>
              <a:ext cx="1600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7 1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400800" y="390060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360" y="3809880"/>
            <a:ext cx="533160" cy="380880"/>
            <a:chOff x="3276360" y="3809880"/>
            <a:chExt cx="533160" cy="380880"/>
          </a:xfrm>
        </p:grpSpPr>
        <p:sp>
          <p:nvSpPr>
            <p:cNvPr id="196" name=""/>
            <p:cNvSpPr/>
            <p:nvPr/>
          </p:nvSpPr>
          <p:spPr>
            <a:xfrm flipH="1">
              <a:off x="3276360" y="3809880"/>
              <a:ext cx="533160" cy="3078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352680" y="3809880"/>
              <a:ext cx="381240" cy="3808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1557360"/>
            <a:ext cx="3525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280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160=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71640" y="155736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2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23880" y="275760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2 8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17400" y="3402000"/>
            <a:ext cx="2568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1 6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43000" y="412920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76520" y="428148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2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995640" y="1557360"/>
            <a:ext cx="4484880" cy="3549240"/>
            <a:chOff x="3995640" y="1557360"/>
            <a:chExt cx="4484880" cy="3549240"/>
          </a:xfrm>
        </p:grpSpPr>
        <p:sp>
          <p:nvSpPr>
            <p:cNvPr id="205" name=""/>
            <p:cNvSpPr/>
            <p:nvPr/>
          </p:nvSpPr>
          <p:spPr>
            <a:xfrm>
              <a:off x="3995640" y="1557360"/>
              <a:ext cx="3529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280</a:t>
              </a: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－</a:t>
              </a: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160=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804000" y="1557360"/>
              <a:ext cx="1676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12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410080" y="2757600"/>
              <a:ext cx="1676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2 8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467240" y="3406680"/>
              <a:ext cx="271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－  </a:t>
              </a: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1 6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029200" y="4129200"/>
              <a:ext cx="190512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334120" y="4281480"/>
              <a:ext cx="182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1 2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28800" y="2743200"/>
            <a:ext cx="1980720" cy="1447560"/>
            <a:chOff x="1828800" y="2743200"/>
            <a:chExt cx="1980720" cy="1447560"/>
          </a:xfrm>
        </p:grpSpPr>
        <p:sp>
          <p:nvSpPr>
            <p:cNvPr id="212" name=""/>
            <p:cNvSpPr/>
            <p:nvPr/>
          </p:nvSpPr>
          <p:spPr>
            <a:xfrm>
              <a:off x="1828800" y="2743200"/>
              <a:ext cx="76320" cy="1522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3276360" y="3809880"/>
              <a:ext cx="533160" cy="380880"/>
              <a:chOff x="3276360" y="3809880"/>
              <a:chExt cx="533160" cy="380880"/>
            </a:xfrm>
          </p:grpSpPr>
          <p:sp>
            <p:nvSpPr>
              <p:cNvPr id="214" name=""/>
              <p:cNvSpPr/>
              <p:nvPr/>
            </p:nvSpPr>
            <p:spPr>
              <a:xfrm flipH="1">
                <a:off x="3276360" y="3809880"/>
                <a:ext cx="533160" cy="3078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352680" y="3809880"/>
                <a:ext cx="381240" cy="3808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295280" y="144792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630+290=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144792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92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666880" y="268128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6 3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133720" y="336708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 2 9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57400" y="40528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666880" y="420516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9 2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3900600"/>
            <a:ext cx="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4267080" y="4267080"/>
            <a:ext cx="762120" cy="457200"/>
            <a:chOff x="4267080" y="4267080"/>
            <a:chExt cx="762120" cy="457200"/>
          </a:xfrm>
        </p:grpSpPr>
        <p:sp>
          <p:nvSpPr>
            <p:cNvPr id="224" name=""/>
            <p:cNvSpPr/>
            <p:nvPr/>
          </p:nvSpPr>
          <p:spPr>
            <a:xfrm>
              <a:off x="4267080" y="4419720"/>
              <a:ext cx="228600" cy="3045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4495680" y="4267080"/>
              <a:ext cx="533520" cy="457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755640" y="1413000"/>
            <a:ext cx="333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450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260=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492360" y="141300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19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62320" y="275760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4 5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09680" y="3398760"/>
            <a:ext cx="288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2 6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81080" y="412920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09680" y="4281480"/>
            <a:ext cx="198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1 9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666880" y="2743200"/>
            <a:ext cx="76320" cy="1522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267080" y="4267080"/>
            <a:ext cx="762120" cy="457200"/>
            <a:chOff x="4267080" y="4267080"/>
            <a:chExt cx="762120" cy="457200"/>
          </a:xfrm>
        </p:grpSpPr>
        <p:sp>
          <p:nvSpPr>
            <p:cNvPr id="234" name=""/>
            <p:cNvSpPr/>
            <p:nvPr/>
          </p:nvSpPr>
          <p:spPr>
            <a:xfrm>
              <a:off x="4267080" y="4419720"/>
              <a:ext cx="228600" cy="3045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4495680" y="4267080"/>
              <a:ext cx="533520" cy="457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905120" y="685800"/>
            <a:ext cx="533160" cy="52704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2120" y="66996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猜猜     是几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19520" y="3733920"/>
            <a:ext cx="609480" cy="60948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43200" y="220968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5 8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09680" y="289548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 4 1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133720" y="3581280"/>
            <a:ext cx="190476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373392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9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743200" y="3733920"/>
            <a:ext cx="68580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9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905120" y="685800"/>
            <a:ext cx="533160" cy="52704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2120" y="66996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猜猜     是几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666880" y="222408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3 6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133720" y="290988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 2 4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86000" y="3595680"/>
            <a:ext cx="1905120" cy="144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971800" y="36100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0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743200" y="3672000"/>
            <a:ext cx="609480" cy="60948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590920" y="3443400"/>
            <a:ext cx="761400" cy="1053720"/>
            <a:chOff x="2590920" y="3443400"/>
            <a:chExt cx="761400" cy="1053720"/>
          </a:xfrm>
        </p:grpSpPr>
        <p:sp>
          <p:nvSpPr>
            <p:cNvPr id="252" name=""/>
            <p:cNvSpPr/>
            <p:nvPr/>
          </p:nvSpPr>
          <p:spPr>
            <a:xfrm>
              <a:off x="2590920" y="3672000"/>
              <a:ext cx="761400" cy="82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6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34880" y="344340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905120" y="685800"/>
            <a:ext cx="533160" cy="52704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62120" y="66996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猜猜     是几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6880" y="230040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5 7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619280" y="2986200"/>
            <a:ext cx="286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3 8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0" y="367200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971800" y="373392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9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666880" y="3809880"/>
            <a:ext cx="609840" cy="60984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2666880" y="2286000"/>
            <a:ext cx="609480" cy="2273040"/>
            <a:chOff x="2666880" y="2286000"/>
            <a:chExt cx="609480" cy="2273040"/>
          </a:xfrm>
        </p:grpSpPr>
        <p:sp>
          <p:nvSpPr>
            <p:cNvPr id="262" name=""/>
            <p:cNvSpPr/>
            <p:nvPr/>
          </p:nvSpPr>
          <p:spPr>
            <a:xfrm>
              <a:off x="2927880" y="2286000"/>
              <a:ext cx="87120" cy="1522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666880" y="3733920"/>
              <a:ext cx="609480" cy="82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1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905120" y="685800"/>
            <a:ext cx="533160" cy="52704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2120" y="66996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猜猜     是几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666880" y="222408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6 3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92360" y="2852640"/>
            <a:ext cx="272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4 1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0" y="35956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590920" y="374796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2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743200" y="3809880"/>
            <a:ext cx="609480" cy="60984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743200" y="3733920"/>
            <a:ext cx="60948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905120" y="685800"/>
            <a:ext cx="533160" cy="52704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66996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猜猜     是几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666880" y="222408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3 6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133720" y="290988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    4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666880" y="36100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6 0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743200" y="2971800"/>
            <a:ext cx="609480" cy="60948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2743200" y="2895480"/>
            <a:ext cx="609480" cy="825120"/>
            <a:chOff x="2743200" y="2895480"/>
            <a:chExt cx="609480" cy="825120"/>
          </a:xfrm>
        </p:grpSpPr>
        <p:sp>
          <p:nvSpPr>
            <p:cNvPr id="279" name=""/>
            <p:cNvSpPr/>
            <p:nvPr/>
          </p:nvSpPr>
          <p:spPr>
            <a:xfrm>
              <a:off x="2743200" y="2895480"/>
              <a:ext cx="609480" cy="82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2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76720" y="344340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2286000" y="3595680"/>
            <a:ext cx="1905120" cy="144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905120" y="685800"/>
            <a:ext cx="533160" cy="52704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66996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猜猜     是几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666880" y="222408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7 1 8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35280" y="2892600"/>
            <a:ext cx="250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1   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590920" y="3657600"/>
            <a:ext cx="190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5 5 8 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200400" y="2971800"/>
            <a:ext cx="609480" cy="60948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2971800" y="2209680"/>
            <a:ext cx="838080" cy="1510920"/>
            <a:chOff x="2971800" y="2209680"/>
            <a:chExt cx="838080" cy="1510920"/>
          </a:xfrm>
        </p:grpSpPr>
        <p:sp>
          <p:nvSpPr>
            <p:cNvPr id="289" name=""/>
            <p:cNvSpPr/>
            <p:nvPr/>
          </p:nvSpPr>
          <p:spPr>
            <a:xfrm>
              <a:off x="3200400" y="2895480"/>
              <a:ext cx="609480" cy="82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6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971800" y="2209680"/>
              <a:ext cx="76320" cy="1526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2286000" y="35956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371600" y="146196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18+34=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52680" y="144792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52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33720" y="26812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1 8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00200" y="33670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 3 4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40528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133720" y="3900600"/>
            <a:ext cx="1143000" cy="1129680"/>
            <a:chOff x="2133720" y="3900600"/>
            <a:chExt cx="1143000" cy="1129680"/>
          </a:xfrm>
        </p:grpSpPr>
        <p:sp>
          <p:nvSpPr>
            <p:cNvPr id="91" name=""/>
            <p:cNvSpPr/>
            <p:nvPr/>
          </p:nvSpPr>
          <p:spPr>
            <a:xfrm>
              <a:off x="2133720" y="4205160"/>
              <a:ext cx="1143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5 2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666880" y="390060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4800600" y="1447920"/>
            <a:ext cx="308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34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18=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524720" y="141300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16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80000" y="27082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3 4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3397320"/>
            <a:ext cx="2203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1 8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52880" y="40528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580000" y="2637000"/>
            <a:ext cx="1143000" cy="2363040"/>
            <a:chOff x="5580000" y="2637000"/>
            <a:chExt cx="1143000" cy="2363040"/>
          </a:xfrm>
        </p:grpSpPr>
        <p:sp>
          <p:nvSpPr>
            <p:cNvPr id="99" name=""/>
            <p:cNvSpPr/>
            <p:nvPr/>
          </p:nvSpPr>
          <p:spPr>
            <a:xfrm>
              <a:off x="5580000" y="4174920"/>
              <a:ext cx="1143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1 6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32640" y="2637000"/>
              <a:ext cx="75960" cy="1522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2440080" cy="183024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4952880" y="1143000"/>
            <a:ext cx="2440080" cy="18302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600200" y="281952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183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元 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4120" y="2743200"/>
            <a:ext cx="190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520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元 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447920" y="4114800"/>
            <a:ext cx="55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妈妈要取几百元？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267080" y="533520"/>
            <a:ext cx="3853080" cy="4481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838080" y="1600200"/>
            <a:ext cx="3886200" cy="31719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334120" y="1066680"/>
            <a:ext cx="2666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收集矿泉水瓶情况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562720" y="1066680"/>
            <a:ext cx="0" cy="19814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96080" y="1066680"/>
            <a:ext cx="0" cy="19814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438280" y="685800"/>
            <a:ext cx="2819520" cy="1295280"/>
            <a:chOff x="2438280" y="685800"/>
            <a:chExt cx="2819520" cy="1295280"/>
          </a:xfrm>
        </p:grpSpPr>
        <p:sp>
          <p:nvSpPr>
            <p:cNvPr id="107" name=""/>
            <p:cNvSpPr/>
            <p:nvPr/>
          </p:nvSpPr>
          <p:spPr>
            <a:xfrm>
              <a:off x="2438280" y="685800"/>
              <a:ext cx="2819520" cy="1295280"/>
            </a:xfrm>
            <a:prstGeom prst="cloudCallout">
              <a:avLst>
                <a:gd name="adj1" fmla="val 34458"/>
                <a:gd name="adj2" fmla="val 70833"/>
              </a:avLst>
            </a:prstGeom>
            <a:solidFill>
              <a:srgbClr val="ccffcc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19520" y="914400"/>
              <a:ext cx="236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b5249"/>
                  </a:solidFill>
                  <a:latin typeface="Times New Roman"/>
                </a:rPr>
                <a:t>500</a:t>
              </a:r>
              <a:r>
                <a:rPr b="1" lang="zh-CN" sz="2800" spc="-1" strike="noStrike">
                  <a:solidFill>
                    <a:srgbClr val="5b5249"/>
                  </a:solidFill>
                  <a:latin typeface="Times New Roman"/>
                </a:rPr>
                <a:t>个送一次</a:t>
              </a:r>
              <a:r>
                <a:rPr b="1" lang="zh-CN" sz="2800" spc="-1" strike="noStrike">
                  <a:solidFill>
                    <a:srgbClr val="5b5249"/>
                  </a:solidFill>
                  <a:latin typeface="Times New Roman"/>
                </a:rPr>
                <a:t>,</a:t>
              </a:r>
              <a:r>
                <a:rPr b="1" lang="zh-CN" sz="2800" spc="-1" strike="noStrike">
                  <a:solidFill>
                    <a:srgbClr val="5b5249"/>
                  </a:solidFill>
                  <a:latin typeface="Times New Roman"/>
                </a:rPr>
                <a:t>现在够吗</a:t>
              </a:r>
              <a:r>
                <a:rPr b="1" lang="zh-CN" sz="2800" spc="-1" strike="noStrike">
                  <a:solidFill>
                    <a:srgbClr val="5b5249"/>
                  </a:solidFill>
                  <a:latin typeface="Times New Roman"/>
                </a:rPr>
                <a:t>?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1295280" y="464832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48006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第一周和第二周共收集了多少个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133720" y="190512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2 3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2666880"/>
            <a:ext cx="2438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5 4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28800" y="33526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33720" y="342900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7 7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99120" y="177336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3 2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16360" y="2565360"/>
            <a:ext cx="221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1 8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76920" y="3352680"/>
            <a:ext cx="190476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156280" y="3162240"/>
            <a:ext cx="1828800" cy="1053720"/>
            <a:chOff x="5156280" y="3162240"/>
            <a:chExt cx="1828800" cy="1053720"/>
          </a:xfrm>
        </p:grpSpPr>
        <p:sp>
          <p:nvSpPr>
            <p:cNvPr id="119" name=""/>
            <p:cNvSpPr/>
            <p:nvPr/>
          </p:nvSpPr>
          <p:spPr>
            <a:xfrm>
              <a:off x="5766120" y="316224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56280" y="3390840"/>
              <a:ext cx="182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5 0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0" t="7014" r="0" b="0"/>
          <a:stretch/>
        </p:blipFill>
        <p:spPr>
          <a:xfrm>
            <a:off x="4267080" y="404640"/>
            <a:ext cx="3853080" cy="4167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838080" y="1157400"/>
            <a:ext cx="3886200" cy="31716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334120" y="623880"/>
            <a:ext cx="2666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收集矿泉水瓶情况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62720" y="623880"/>
            <a:ext cx="0" cy="19810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96080" y="623880"/>
            <a:ext cx="0" cy="19810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420516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4052880"/>
            <a:ext cx="7162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第二周和第一周多收集了多少个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第一周和第二周少收集了多少个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133720" y="190512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4 9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60440" y="2666880"/>
            <a:ext cx="243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1 3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828800" y="33526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181480" y="191916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2 4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56000" y="2666880"/>
            <a:ext cx="2587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1 6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76920" y="3352680"/>
            <a:ext cx="190476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22640" y="340344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3 6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5219640" y="1828800"/>
            <a:ext cx="1752840" cy="2425320"/>
            <a:chOff x="5219640" y="1828800"/>
            <a:chExt cx="1752840" cy="2425320"/>
          </a:xfrm>
        </p:grpSpPr>
        <p:sp>
          <p:nvSpPr>
            <p:cNvPr id="136" name=""/>
            <p:cNvSpPr/>
            <p:nvPr/>
          </p:nvSpPr>
          <p:spPr>
            <a:xfrm>
              <a:off x="5219640" y="3429000"/>
              <a:ext cx="1752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   </a:t>
              </a: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8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58080" y="1828800"/>
              <a:ext cx="75960" cy="1522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990720" y="69228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笔算注意事项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43000" y="153036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、  相同数位上的数要对齐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221616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、  从个位算起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43000" y="3054240"/>
            <a:ext cx="7750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、  十位上的数相加满十，向百位进一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十位上的数不够减，从百位退一作十，和十位上的数相加，再减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533520" y="1447920"/>
            <a:ext cx="304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410+250=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24080" y="144792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76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05120" y="268128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4 1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336708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 2 5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95280" y="40528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05120" y="420516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7 6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4343400" y="1447920"/>
            <a:ext cx="4038480" cy="3582360"/>
            <a:chOff x="4343400" y="1447920"/>
            <a:chExt cx="4038480" cy="3582360"/>
          </a:xfrm>
        </p:grpSpPr>
        <p:sp>
          <p:nvSpPr>
            <p:cNvPr id="149" name=""/>
            <p:cNvSpPr/>
            <p:nvPr/>
          </p:nvSpPr>
          <p:spPr>
            <a:xfrm>
              <a:off x="4343400" y="1447920"/>
              <a:ext cx="3048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410+250=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34320" y="1447920"/>
              <a:ext cx="1447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66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715000" y="2681280"/>
              <a:ext cx="1676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4 1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181480" y="3367080"/>
              <a:ext cx="2057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+  2 5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105520" y="4052880"/>
              <a:ext cx="190476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715000" y="4205160"/>
              <a:ext cx="1600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6 6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2438280" y="3809880"/>
            <a:ext cx="1371240" cy="380880"/>
            <a:chOff x="2438280" y="3809880"/>
            <a:chExt cx="1371240" cy="380880"/>
          </a:xfrm>
        </p:grpSpPr>
        <p:sp>
          <p:nvSpPr>
            <p:cNvPr id="156" name=""/>
            <p:cNvSpPr/>
            <p:nvPr/>
          </p:nvSpPr>
          <p:spPr>
            <a:xfrm>
              <a:off x="2438280" y="390060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3276360" y="3809880"/>
              <a:ext cx="533160" cy="380880"/>
              <a:chOff x="3276360" y="3809880"/>
              <a:chExt cx="533160" cy="380880"/>
            </a:xfrm>
          </p:grpSpPr>
          <p:sp>
            <p:nvSpPr>
              <p:cNvPr id="158" name=""/>
              <p:cNvSpPr/>
              <p:nvPr/>
            </p:nvSpPr>
            <p:spPr>
              <a:xfrm flipH="1">
                <a:off x="3276360" y="3809880"/>
                <a:ext cx="533160" cy="3078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352680" y="3809880"/>
                <a:ext cx="381240" cy="3808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0" name=""/>
          <p:cNvSpPr/>
          <p:nvPr/>
        </p:nvSpPr>
        <p:spPr>
          <a:xfrm>
            <a:off x="533520" y="8380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先判断，再改错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1557360"/>
            <a:ext cx="374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570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380=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59280" y="155736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29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23880" y="275760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5 7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6200" y="3443400"/>
            <a:ext cx="2568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3 8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43000" y="412920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42814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2 9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4521240" y="1557360"/>
            <a:ext cx="4622760" cy="3549240"/>
            <a:chOff x="4521240" y="1557360"/>
            <a:chExt cx="4622760" cy="3549240"/>
          </a:xfrm>
        </p:grpSpPr>
        <p:sp>
          <p:nvSpPr>
            <p:cNvPr id="168" name=""/>
            <p:cNvSpPr/>
            <p:nvPr/>
          </p:nvSpPr>
          <p:spPr>
            <a:xfrm>
              <a:off x="4521240" y="3429000"/>
              <a:ext cx="2643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－  </a:t>
              </a: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3 8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4788000" y="1557360"/>
              <a:ext cx="4356000" cy="3549240"/>
              <a:chOff x="4788000" y="1557360"/>
              <a:chExt cx="4356000" cy="3549240"/>
            </a:xfrm>
          </p:grpSpPr>
          <p:sp>
            <p:nvSpPr>
              <p:cNvPr id="170" name=""/>
              <p:cNvSpPr/>
              <p:nvPr/>
            </p:nvSpPr>
            <p:spPr>
              <a:xfrm>
                <a:off x="4788000" y="1557360"/>
                <a:ext cx="31687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800" spc="-1" strike="noStrike">
                    <a:solidFill>
                      <a:srgbClr val="5b5249"/>
                    </a:solidFill>
                    <a:latin typeface="Times New Roman"/>
                  </a:rPr>
                  <a:t>570</a:t>
                </a:r>
                <a:r>
                  <a:rPr b="0" lang="zh-CN" sz="4800" spc="-1" strike="noStrike">
                    <a:solidFill>
                      <a:srgbClr val="5b5249"/>
                    </a:solidFill>
                    <a:latin typeface="Times New Roman"/>
                  </a:rPr>
                  <a:t>－</a:t>
                </a:r>
                <a:r>
                  <a:rPr b="0" lang="zh-CN" sz="4800" spc="-1" strike="noStrike">
                    <a:solidFill>
                      <a:srgbClr val="5b5249"/>
                    </a:solidFill>
                    <a:latin typeface="Times New Roman"/>
                  </a:rPr>
                  <a:t>380=</a:t>
                </a:r>
                <a:endParaRPr b="0" lang="en-US" sz="4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467480" y="1557360"/>
                <a:ext cx="16765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5b5249"/>
                    </a:solidFill>
                    <a:latin typeface="Times New Roman"/>
                  </a:rPr>
                  <a:t>190</a:t>
                </a:r>
                <a:endParaRPr b="0" lang="en-US" sz="4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410080" y="2757600"/>
                <a:ext cx="16765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5b5249"/>
                    </a:solidFill>
                    <a:latin typeface="Times New Roman"/>
                  </a:rPr>
                  <a:t>5 7 0</a:t>
                </a:r>
                <a:endParaRPr b="0" lang="en-US" sz="4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029200" y="4129200"/>
                <a:ext cx="1905120" cy="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486400" y="4281480"/>
                <a:ext cx="16002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5b5249"/>
                    </a:solidFill>
                    <a:latin typeface="Times New Roman"/>
                  </a:rPr>
                  <a:t>1 9 0</a:t>
                </a:r>
                <a:endParaRPr b="0" lang="en-US" sz="4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791320" y="2743200"/>
                <a:ext cx="75960" cy="15228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6" name=""/>
          <p:cNvGrpSpPr/>
          <p:nvPr/>
        </p:nvGrpSpPr>
        <p:grpSpPr>
          <a:xfrm>
            <a:off x="1903320" y="2708280"/>
            <a:ext cx="1906200" cy="1482480"/>
            <a:chOff x="1903320" y="2708280"/>
            <a:chExt cx="1906200" cy="1482480"/>
          </a:xfrm>
        </p:grpSpPr>
        <p:sp>
          <p:nvSpPr>
            <p:cNvPr id="177" name=""/>
            <p:cNvSpPr/>
            <p:nvPr/>
          </p:nvSpPr>
          <p:spPr>
            <a:xfrm>
              <a:off x="1903320" y="2708280"/>
              <a:ext cx="76320" cy="1522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3276360" y="3809880"/>
              <a:ext cx="533160" cy="380880"/>
              <a:chOff x="3276360" y="3809880"/>
              <a:chExt cx="533160" cy="380880"/>
            </a:xfrm>
          </p:grpSpPr>
          <p:sp>
            <p:nvSpPr>
              <p:cNvPr id="179" name=""/>
              <p:cNvSpPr/>
              <p:nvPr/>
            </p:nvSpPr>
            <p:spPr>
              <a:xfrm flipH="1">
                <a:off x="3276360" y="3809880"/>
                <a:ext cx="533160" cy="3078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352680" y="3809880"/>
                <a:ext cx="381240" cy="3808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6T07:03:45Z</dcterms:created>
  <dc:creator>深蓝电脑</dc:creator>
  <dc:description/>
  <dc:language>en-US</dc:language>
  <cp:lastModifiedBy>微软用户</cp:lastModifiedBy>
  <dcterms:modified xsi:type="dcterms:W3CDTF">2009-12-08T02:00:53Z</dcterms:modified>
  <cp:revision>60</cp:revision>
  <dc:subject/>
  <dc:title>PowerPoint 演示文稿</dc:title>
</cp:coreProperties>
</file>