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cashreg.wav" ContentType="audio/x-wav"/>
  <Override PartName="/ppt/media/type.wav" ContentType="audio/x-wav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849-0151-4E77-BCCC-03136AE9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1CD-0A02-4DF2-9D9F-033E478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F40-7228-4FFA-9DD0-3CA01CE6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C0A-E013-4995-83DA-47F8F164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FA80-F893-4081-A39E-C100F942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1BB3-02B5-42E9-8B7B-10389C10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422B-8473-4B31-8E6B-1FC32546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5EA5-63E2-4935-A74F-BCB194CA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EB7-70BB-4FF7-8EDE-6FA55AF9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C7C3-3F4B-4744-9926-B36E8380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9A7C-02CE-4298-910A-FDE8B321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C43-BEDC-4215-9C64-562DD723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9AA0-3C66-45C0-BC7A-B560BD0D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AC96-DCD6-4519-9327-C830A6AC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91B2-ADA5-4952-899E-66F13CA9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0BD4-AE6F-46FD-931B-1217E891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CE58-60CD-423D-83F0-596EC662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53D-6F69-4244-AC84-BB2D8754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57D-EA22-48F4-9E15-46586663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364-E4FF-4900-892D-7C3C726E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0FE-D8F4-45DA-A133-848932DA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772-BD36-49C0-B16D-EB39C88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02B-1737-4667-8156-E8F7CB8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FB0-2379-4671-A6D3-7348C415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0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D096-D947-4214-95CB-24580BA639E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13240" r="0" b="0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8035-A9EB-4FEB-B3BE-4F620C39E43D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1995480"/>
            <a:ext cx="37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万以内的加法和减法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40+37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0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95680" y="1447920"/>
            <a:ext cx="4038840" cy="3582360"/>
            <a:chOff x="4495680" y="1447920"/>
            <a:chExt cx="4038840" cy="3582360"/>
          </a:xfrm>
        </p:grpSpPr>
        <p:sp>
          <p:nvSpPr>
            <p:cNvPr id="188" name=""/>
            <p:cNvSpPr/>
            <p:nvPr/>
          </p:nvSpPr>
          <p:spPr>
            <a:xfrm>
              <a:off x="449568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40+37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86600" y="14479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0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728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3 4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3 7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405288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7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360" y="3809880"/>
            <a:ext cx="533160" cy="380880"/>
            <a:chOff x="3276360" y="3809880"/>
            <a:chExt cx="533160" cy="380880"/>
          </a:xfrm>
        </p:grpSpPr>
        <p:sp>
          <p:nvSpPr>
            <p:cNvPr id="196" name=""/>
            <p:cNvSpPr/>
            <p:nvPr/>
          </p:nvSpPr>
          <p:spPr>
            <a:xfrm flipH="1">
              <a:off x="3276360" y="3809880"/>
              <a:ext cx="533160" cy="30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52680" y="380988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5736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8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5573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400" y="34020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281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95640" y="1557360"/>
            <a:ext cx="4484880" cy="3549240"/>
            <a:chOff x="3995640" y="1557360"/>
            <a:chExt cx="4484880" cy="3549240"/>
          </a:xfrm>
        </p:grpSpPr>
        <p:sp>
          <p:nvSpPr>
            <p:cNvPr id="205" name=""/>
            <p:cNvSpPr/>
            <p:nvPr/>
          </p:nvSpPr>
          <p:spPr>
            <a:xfrm>
              <a:off x="3995640" y="155736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280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6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04000" y="155736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2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10080" y="275760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7240" y="3406680"/>
              <a:ext cx="271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1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9200" y="4129200"/>
              <a:ext cx="190512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28148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2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28800" y="2743200"/>
            <a:ext cx="1980720" cy="1447560"/>
            <a:chOff x="1828800" y="2743200"/>
            <a:chExt cx="1980720" cy="1447560"/>
          </a:xfrm>
        </p:grpSpPr>
        <p:sp>
          <p:nvSpPr>
            <p:cNvPr id="212" name=""/>
            <p:cNvSpPr/>
            <p:nvPr/>
          </p:nvSpPr>
          <p:spPr>
            <a:xfrm>
              <a:off x="1828800" y="274320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95280" y="1447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30+29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2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2681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90060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2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41300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5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6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14130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7576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09680" y="3398760"/>
            <a:ext cx="28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2814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74320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7080" y="4267080"/>
            <a:ext cx="762120" cy="457200"/>
            <a:chOff x="4267080" y="4267080"/>
            <a:chExt cx="762120" cy="457200"/>
          </a:xfrm>
        </p:grpSpPr>
        <p:sp>
          <p:nvSpPr>
            <p:cNvPr id="234" name=""/>
            <p:cNvSpPr/>
            <p:nvPr/>
          </p:nvSpPr>
          <p:spPr>
            <a:xfrm>
              <a:off x="4267080" y="4419720"/>
              <a:ext cx="22860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95680" y="4267080"/>
              <a:ext cx="53352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73392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2096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8954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35812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733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733920"/>
            <a:ext cx="685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36720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590920" y="3443400"/>
            <a:ext cx="761400" cy="1053720"/>
            <a:chOff x="2590920" y="3443400"/>
            <a:chExt cx="761400" cy="1053720"/>
          </a:xfrm>
        </p:grpSpPr>
        <p:sp>
          <p:nvSpPr>
            <p:cNvPr id="252" name=""/>
            <p:cNvSpPr/>
            <p:nvPr/>
          </p:nvSpPr>
          <p:spPr>
            <a:xfrm>
              <a:off x="2590920" y="3672000"/>
              <a:ext cx="7614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488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3004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298620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36720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733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3809880"/>
            <a:ext cx="60984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66880" y="2286000"/>
            <a:ext cx="609480" cy="2273040"/>
            <a:chOff x="2666880" y="2286000"/>
            <a:chExt cx="609480" cy="2273040"/>
          </a:xfrm>
        </p:grpSpPr>
        <p:sp>
          <p:nvSpPr>
            <p:cNvPr id="262" name=""/>
            <p:cNvSpPr/>
            <p:nvPr/>
          </p:nvSpPr>
          <p:spPr>
            <a:xfrm>
              <a:off x="2927880" y="2286000"/>
              <a:ext cx="871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6880" y="373392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2852640"/>
            <a:ext cx="27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37479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809880"/>
            <a:ext cx="609480" cy="6098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3733920"/>
            <a:ext cx="609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909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  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6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6 0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743200" y="2895480"/>
            <a:ext cx="609480" cy="825120"/>
            <a:chOff x="2743200" y="2895480"/>
            <a:chExt cx="609480" cy="825120"/>
          </a:xfrm>
        </p:grpSpPr>
        <p:sp>
          <p:nvSpPr>
            <p:cNvPr id="279" name=""/>
            <p:cNvSpPr/>
            <p:nvPr/>
          </p:nvSpPr>
          <p:spPr>
            <a:xfrm>
              <a:off x="27432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34434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86000" y="3595680"/>
            <a:ext cx="1905120" cy="14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5120" y="685800"/>
            <a:ext cx="533160" cy="52704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6699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猜猜     是几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224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2892600"/>
            <a:ext cx="25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  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5 8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971800"/>
            <a:ext cx="609480" cy="609480"/>
          </a:xfrm>
          <a:prstGeom prst="star5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971800" y="2209680"/>
            <a:ext cx="838080" cy="1510920"/>
            <a:chOff x="2971800" y="2209680"/>
            <a:chExt cx="838080" cy="1510920"/>
          </a:xfrm>
        </p:grpSpPr>
        <p:sp>
          <p:nvSpPr>
            <p:cNvPr id="289" name=""/>
            <p:cNvSpPr/>
            <p:nvPr/>
          </p:nvSpPr>
          <p:spPr>
            <a:xfrm>
              <a:off x="3200400" y="2895480"/>
              <a:ext cx="60948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71800" y="2209680"/>
              <a:ext cx="76320" cy="1526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86000" y="3595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4619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8+34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447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2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6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367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133720" y="3900600"/>
            <a:ext cx="1143000" cy="1129680"/>
            <a:chOff x="2133720" y="3900600"/>
            <a:chExt cx="1143000" cy="1129680"/>
          </a:xfrm>
        </p:grpSpPr>
        <p:sp>
          <p:nvSpPr>
            <p:cNvPr id="91" name=""/>
            <p:cNvSpPr/>
            <p:nvPr/>
          </p:nvSpPr>
          <p:spPr>
            <a:xfrm>
              <a:off x="2133720" y="420516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2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800600" y="1447920"/>
            <a:ext cx="308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4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14130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70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4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397320"/>
            <a:ext cx="22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8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580000" y="2637000"/>
            <a:ext cx="1143000" cy="2363040"/>
            <a:chOff x="5580000" y="2637000"/>
            <a:chExt cx="1143000" cy="2363040"/>
          </a:xfrm>
        </p:grpSpPr>
        <p:sp>
          <p:nvSpPr>
            <p:cNvPr id="99" name=""/>
            <p:cNvSpPr/>
            <p:nvPr/>
          </p:nvSpPr>
          <p:spPr>
            <a:xfrm>
              <a:off x="5580000" y="417492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1 6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2640" y="26370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2440080" cy="1830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2440080" cy="18302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00200" y="28195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83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2743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2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元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4114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妈妈要取几百元？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8530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3886200" cy="317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4120" y="10666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1066680"/>
            <a:ext cx="0" cy="198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8280" y="685800"/>
            <a:ext cx="2819520" cy="1295280"/>
            <a:chOff x="2438280" y="685800"/>
            <a:chExt cx="2819520" cy="1295280"/>
          </a:xfrm>
        </p:grpSpPr>
        <p:sp>
          <p:nvSpPr>
            <p:cNvPr id="107" name=""/>
            <p:cNvSpPr/>
            <p:nvPr/>
          </p:nvSpPr>
          <p:spPr>
            <a:xfrm>
              <a:off x="2438280" y="685800"/>
              <a:ext cx="2819520" cy="1295280"/>
            </a:xfrm>
            <a:prstGeom prst="cloudCallout">
              <a:avLst>
                <a:gd name="adj1" fmla="val 34458"/>
                <a:gd name="adj2" fmla="val 70833"/>
              </a:avLst>
            </a:prstGeom>
            <a:solidFill>
              <a:srgbClr val="ccffcc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9144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500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个送一次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现在够吗</a:t>
              </a:r>
              <a:r>
                <a:rPr b="1" lang="zh-CN" sz="2800" spc="-1" strike="noStrike">
                  <a:solidFill>
                    <a:srgbClr val="5b5249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46483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800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共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66688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5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4290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9120" y="17733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2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565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1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56280" y="3162240"/>
            <a:ext cx="1828800" cy="1053720"/>
            <a:chOff x="5156280" y="3162240"/>
            <a:chExt cx="1828800" cy="1053720"/>
          </a:xfrm>
        </p:grpSpPr>
        <p:sp>
          <p:nvSpPr>
            <p:cNvPr id="119" name=""/>
            <p:cNvSpPr/>
            <p:nvPr/>
          </p:nvSpPr>
          <p:spPr>
            <a:xfrm>
              <a:off x="5766120" y="3162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6280" y="339084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5 0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7014" r="0" b="0"/>
          <a:stretch/>
        </p:blipFill>
        <p:spPr>
          <a:xfrm>
            <a:off x="4267080" y="404640"/>
            <a:ext cx="3853080" cy="416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8080" y="1157400"/>
            <a:ext cx="3886200" cy="317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4120" y="623880"/>
            <a:ext cx="266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收集矿泉水瓶情况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623880"/>
            <a:ext cx="0" cy="1981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20516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0528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二周和第一周多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第一周和第二周少收集了多少个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1905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0440" y="26668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3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1916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4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2666880"/>
            <a:ext cx="258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1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352680"/>
            <a:ext cx="19047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22640" y="340344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3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19640" y="1828800"/>
            <a:ext cx="1752840" cy="2425320"/>
            <a:chOff x="5219640" y="1828800"/>
            <a:chExt cx="1752840" cy="2425320"/>
          </a:xfrm>
        </p:grpSpPr>
        <p:sp>
          <p:nvSpPr>
            <p:cNvPr id="136" name=""/>
            <p:cNvSpPr/>
            <p:nvPr/>
          </p:nvSpPr>
          <p:spPr>
            <a:xfrm>
              <a:off x="5219640" y="3429000"/>
              <a:ext cx="1752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58080" y="1828800"/>
              <a:ext cx="7596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692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笔算注意事项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530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相同数位上的数要对齐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2216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从个位算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054240"/>
            <a:ext cx="7750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  十位上的数相加满十，向百位进一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十位上的数不够减，从百位退一作十，和十位上的数相加，再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14479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410+25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4479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6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8128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4 1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367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+  2 5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405288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205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7 6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43400" y="1447920"/>
            <a:ext cx="4038480" cy="3582360"/>
            <a:chOff x="4343400" y="1447920"/>
            <a:chExt cx="4038480" cy="3582360"/>
          </a:xfrm>
        </p:grpSpPr>
        <p:sp>
          <p:nvSpPr>
            <p:cNvPr id="149" name=""/>
            <p:cNvSpPr/>
            <p:nvPr/>
          </p:nvSpPr>
          <p:spPr>
            <a:xfrm>
              <a:off x="4343400" y="1447920"/>
              <a:ext cx="3048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10+250=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144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6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26812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4 1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36708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+  2 5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05520" y="4052880"/>
              <a:ext cx="190476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420516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b5249"/>
                  </a:solidFill>
                  <a:latin typeface="Times New Roman"/>
                </a:rPr>
                <a:t>6 6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38280" y="3809880"/>
            <a:ext cx="1371240" cy="380880"/>
            <a:chOff x="2438280" y="3809880"/>
            <a:chExt cx="1371240" cy="380880"/>
          </a:xfrm>
        </p:grpSpPr>
        <p:sp>
          <p:nvSpPr>
            <p:cNvPr id="156" name=""/>
            <p:cNvSpPr/>
            <p:nvPr/>
          </p:nvSpPr>
          <p:spPr>
            <a:xfrm>
              <a:off x="2438280" y="39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53352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先判断，再改错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557360"/>
            <a:ext cx="374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570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80=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55736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9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757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5 7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6200" y="3443400"/>
            <a:ext cx="256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－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3 8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129200"/>
            <a:ext cx="19051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2814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2 9 0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21240" y="1557360"/>
            <a:ext cx="4622760" cy="3549240"/>
            <a:chOff x="4521240" y="1557360"/>
            <a:chExt cx="4622760" cy="3549240"/>
          </a:xfrm>
        </p:grpSpPr>
        <p:sp>
          <p:nvSpPr>
            <p:cNvPr id="168" name=""/>
            <p:cNvSpPr/>
            <p:nvPr/>
          </p:nvSpPr>
          <p:spPr>
            <a:xfrm>
              <a:off x="4521240" y="3429000"/>
              <a:ext cx="2643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－  </a:t>
              </a:r>
              <a:r>
                <a:rPr b="0" lang="zh-CN" sz="4800" spc="-1" strike="noStrike">
                  <a:solidFill>
                    <a:srgbClr val="5b5249"/>
                  </a:solidFill>
                  <a:latin typeface="Times New Roman"/>
                </a:rPr>
                <a:t>3 8 0</a:t>
              </a:r>
              <a:endParaRPr b="0" lang="en-US" sz="4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788000" y="1557360"/>
              <a:ext cx="4356000" cy="3549240"/>
              <a:chOff x="4788000" y="1557360"/>
              <a:chExt cx="4356000" cy="3549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788000" y="1557360"/>
                <a:ext cx="316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570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－</a:t>
                </a:r>
                <a:r>
                  <a:rPr b="0" lang="zh-CN" sz="4800" spc="-1" strike="noStrike">
                    <a:solidFill>
                      <a:srgbClr val="5b5249"/>
                    </a:solidFill>
                    <a:latin typeface="Times New Roman"/>
                  </a:rPr>
                  <a:t>380=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7480" y="155736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9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757600"/>
                <a:ext cx="1676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5 7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9200" y="4129200"/>
                <a:ext cx="190512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86400" y="4281480"/>
                <a:ext cx="1600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5b5249"/>
                    </a:solidFill>
                    <a:latin typeface="Times New Roman"/>
                  </a:rPr>
                  <a:t>1 9 0</a:t>
                </a:r>
                <a:endParaRPr b="0" lang="en-US" sz="4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91320" y="2743200"/>
                <a:ext cx="75960" cy="15228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1903320" y="2708280"/>
            <a:ext cx="1906200" cy="1482480"/>
            <a:chOff x="1903320" y="2708280"/>
            <a:chExt cx="1906200" cy="1482480"/>
          </a:xfrm>
        </p:grpSpPr>
        <p:sp>
          <p:nvSpPr>
            <p:cNvPr id="177" name=""/>
            <p:cNvSpPr/>
            <p:nvPr/>
          </p:nvSpPr>
          <p:spPr>
            <a:xfrm>
              <a:off x="1903320" y="2708280"/>
              <a:ext cx="76320" cy="1522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360" y="3809880"/>
              <a:ext cx="533160" cy="380880"/>
              <a:chOff x="3276360" y="3809880"/>
              <a:chExt cx="533160" cy="380880"/>
            </a:xfrm>
          </p:grpSpPr>
          <p:sp>
            <p:nvSpPr>
              <p:cNvPr id="179" name=""/>
              <p:cNvSpPr/>
              <p:nvPr/>
            </p:nvSpPr>
            <p:spPr>
              <a:xfrm flipH="1">
                <a:off x="3276360" y="3809880"/>
                <a:ext cx="533160" cy="307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809880"/>
                <a:ext cx="38124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07:03:45Z</dcterms:created>
  <dc:creator>深蓝电脑</dc:creator>
  <dc:description/>
  <dc:language>en-US</dc:language>
  <cp:lastModifiedBy>微软用户</cp:lastModifiedBy>
  <dcterms:modified xsi:type="dcterms:W3CDTF">2009-12-08T02:00:53Z</dcterms:modified>
  <cp:revision>60</cp:revision>
  <dc:subject/>
  <dc:title>PowerPoint 演示文稿</dc:title>
</cp:coreProperties>
</file>