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7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AC6-2A69-458A-A148-43F2DE4C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C5C-C18C-4D3E-9AAB-EBCD14A5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9B4-F21B-4D0F-834E-4286123D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E05-8932-4AA2-9978-BB4C7ABF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A7B-7B4C-47A6-9BF1-15C4D6A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745-8F99-4463-81A7-22E1DC2B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010-B98C-45F3-B916-F4F7202E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8CA-65CA-40E4-9DBF-133D80F1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C1A-D11C-49C8-9D8A-2028F9BB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3FE-8BC0-486F-80BB-1C821567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B56-4E0F-4658-B92A-B8247CD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BD4-DFCC-4D9F-8901-DABAC49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0325-71FB-451B-95C9-5D4363C3F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eac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403280" y="27082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8085240" y="6303960"/>
            <a:ext cx="547560" cy="249120"/>
            <a:chOff x="8085240" y="6303960"/>
            <a:chExt cx="547560" cy="249120"/>
          </a:xfrm>
        </p:grpSpPr>
        <p:sp>
          <p:nvSpPr>
            <p:cNvPr id="44" name="AutoShape 5">
              <a:hlinkClick r:id="" action="ppaction://hlinkshowjump?jump=previousslide"/>
            </p:cNvPr>
            <p:cNvSpPr/>
            <p:nvPr/>
          </p:nvSpPr>
          <p:spPr>
            <a:xfrm>
              <a:off x="8085240" y="6303960"/>
              <a:ext cx="272880" cy="249120"/>
            </a:xfrm>
            <a:custGeom>
              <a:avLst/>
              <a:gdLst>
                <a:gd name="textAreaLeft" fmla="*/ 15840 w 272880"/>
                <a:gd name="textAreaRight" fmla="*/ 257040 w 272880"/>
                <a:gd name="textAreaTop" fmla="*/ 15840 h 249120"/>
                <a:gd name="textAreaBottom" fmla="*/ 233280 h 249120"/>
              </a:gdLst>
              <a:ahLst/>
              <a:rect l="textAreaLeft" t="textAreaTop" r="textAreaRight" b="textAreaBottom"/>
              <a:pathLst>
                <a:path w="23657" h="21600">
                  <a:moveTo>
                    <a:pt x="0" y="0"/>
                  </a:moveTo>
                  <a:lnTo>
                    <a:pt x="23657" y="0"/>
                  </a:lnTo>
                  <a:lnTo>
                    <a:pt x="23657" y="21600"/>
                  </a:lnTo>
                  <a:lnTo>
                    <a:pt x="0" y="21600"/>
                  </a:lnTo>
                  <a:close/>
                </a:path>
                <a:path fill="lightenLess" w="23657" h="21600">
                  <a:moveTo>
                    <a:pt x="0" y="0"/>
                  </a:moveTo>
                  <a:lnTo>
                    <a:pt x="23657" y="0"/>
                  </a:lnTo>
                  <a:lnTo>
                    <a:pt x="22257" y="1400"/>
                  </a:lnTo>
                  <a:lnTo>
                    <a:pt x="1400" y="1400"/>
                  </a:lnTo>
                  <a:close/>
                </a:path>
                <a:path fill="darken" w="23657" h="21600">
                  <a:moveTo>
                    <a:pt x="23657" y="0"/>
                  </a:moveTo>
                  <a:lnTo>
                    <a:pt x="23657" y="21600"/>
                  </a:lnTo>
                  <a:lnTo>
                    <a:pt x="22257" y="20200"/>
                  </a:lnTo>
                  <a:lnTo>
                    <a:pt x="22257" y="1400"/>
                  </a:lnTo>
                  <a:close/>
                </a:path>
                <a:path fill="darkenLess" w="23657" h="21600">
                  <a:moveTo>
                    <a:pt x="2365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257" y="20200"/>
                  </a:lnTo>
                  <a:close/>
                </a:path>
                <a:path fill="lighten" w="2365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657" h="21600">
                  <a:moveTo>
                    <a:pt x="4822" y="10800"/>
                  </a:moveTo>
                  <a:lnTo>
                    <a:pt x="18835" y="3794"/>
                  </a:lnTo>
                  <a:lnTo>
                    <a:pt x="18835" y="1780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6">
              <a:hlinkClick r:id="" action="ppaction://hlinkshowjump?jump=nextslide"/>
            </p:cNvPr>
            <p:cNvSpPr/>
            <p:nvPr/>
          </p:nvSpPr>
          <p:spPr>
            <a:xfrm>
              <a:off x="8367840" y="6305400"/>
              <a:ext cx="264960" cy="247680"/>
            </a:xfrm>
            <a:custGeom>
              <a:avLst/>
              <a:gdLst>
                <a:gd name="textAreaLeft" fmla="*/ 15840 w 264960"/>
                <a:gd name="textAreaRight" fmla="*/ 249120 w 264960"/>
                <a:gd name="textAreaTop" fmla="*/ 15840 h 247680"/>
                <a:gd name="textAreaBottom" fmla="*/ 231840 h 247680"/>
              </a:gdLst>
              <a:ahLst/>
              <a:rect l="textAreaLeft" t="textAreaTop" r="textAreaRight" b="textAreaBottom"/>
              <a:pathLst>
                <a:path w="23105" h="21600">
                  <a:moveTo>
                    <a:pt x="0" y="0"/>
                  </a:moveTo>
                  <a:lnTo>
                    <a:pt x="23105" y="0"/>
                  </a:lnTo>
                  <a:lnTo>
                    <a:pt x="23105" y="21600"/>
                  </a:lnTo>
                  <a:lnTo>
                    <a:pt x="0" y="21600"/>
                  </a:lnTo>
                  <a:close/>
                </a:path>
                <a:path fill="lightenLess" w="23105" h="21600">
                  <a:moveTo>
                    <a:pt x="0" y="0"/>
                  </a:moveTo>
                  <a:lnTo>
                    <a:pt x="23105" y="0"/>
                  </a:lnTo>
                  <a:lnTo>
                    <a:pt x="21705" y="1400"/>
                  </a:lnTo>
                  <a:lnTo>
                    <a:pt x="1400" y="1400"/>
                  </a:lnTo>
                  <a:close/>
                </a:path>
                <a:path fill="darken" w="23105" h="21600">
                  <a:moveTo>
                    <a:pt x="23105" y="0"/>
                  </a:moveTo>
                  <a:lnTo>
                    <a:pt x="23105" y="21600"/>
                  </a:lnTo>
                  <a:lnTo>
                    <a:pt x="21705" y="20200"/>
                  </a:lnTo>
                  <a:lnTo>
                    <a:pt x="21705" y="1400"/>
                  </a:lnTo>
                  <a:close/>
                </a:path>
                <a:path fill="darkenLess" w="23105" h="21600">
                  <a:moveTo>
                    <a:pt x="2310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705" y="20200"/>
                  </a:lnTo>
                  <a:close/>
                </a:path>
                <a:path fill="lighten" w="2310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3105" h="21600">
                  <a:moveTo>
                    <a:pt x="4546" y="3794"/>
                  </a:moveTo>
                  <a:lnTo>
                    <a:pt x="18559" y="10800"/>
                  </a:lnTo>
                  <a:lnTo>
                    <a:pt x="4546" y="1780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7"/>
          <p:cNvSpPr/>
          <p:nvPr/>
        </p:nvSpPr>
        <p:spPr>
          <a:xfrm>
            <a:off x="2843280" y="2708280"/>
            <a:ext cx="175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0" y="27082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867280" y="270828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16002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3÷20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352680" y="16002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聪聪"/>
          <p:cNvPicPr/>
          <p:nvPr/>
        </p:nvPicPr>
        <p:blipFill>
          <a:blip r:embed="rId2"/>
          <a:stretch/>
        </p:blipFill>
        <p:spPr>
          <a:xfrm>
            <a:off x="685800" y="457200"/>
            <a:ext cx="927000" cy="1066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905120" y="533520"/>
            <a:ext cx="46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想一想，该怎么估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24382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8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648320" y="16002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0÷19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7924680" y="1600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01992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79280" y="3860640"/>
            <a:ext cx="33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÷30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4788000" y="378936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0÷28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348000" y="39337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79280" y="46530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7956720" y="38606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6300720" y="4724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u=606654762,1444306660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539640" y="765000"/>
            <a:ext cx="609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除法估算一般是把算式中不是整十的数用“四舍五入”法估算成整十数，再进行口算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两位数除三位数也一样，把被除数看作几百几十，或者把除数看作整十数，然后再进行口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1268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来当小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14400" y="2743200"/>
            <a:ext cx="3809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0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5800" y="4038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0≈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聪聪"/>
          <p:cNvPicPr/>
          <p:nvPr/>
        </p:nvPicPr>
        <p:blipFill>
          <a:blip r:embed="rId2"/>
          <a:stretch/>
        </p:blipFill>
        <p:spPr>
          <a:xfrm>
            <a:off x="685800" y="457200"/>
            <a:ext cx="927000" cy="1066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9"/>
          <p:cNvSpPr/>
          <p:nvPr/>
        </p:nvSpPr>
        <p:spPr>
          <a:xfrm>
            <a:off x="5029200" y="2743200"/>
            <a:ext cx="4114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≈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962520" y="2438280"/>
            <a:ext cx="175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962520" y="3733920"/>
            <a:ext cx="175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029200" y="4038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0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0" y="472428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8153280" y="40384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648320" y="47242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35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u=1046978061,1678311973&amp;fm=0&amp;gp=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79280" y="189000"/>
            <a:ext cx="18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估算：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019680" y="1092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771640" y="1692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3320" y="10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780360" y="16923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90440" y="546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24000" y="2852640"/>
            <a:ext cx="60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估算时，当被除数与除数都不是整十数时，就要把它们都看作整十数，再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771640" y="549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8÷41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u=3308912034,2919506308&amp;fm=0&amp;gp=20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911960" y="260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估算下面各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612440" y="1268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8÷41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40800" y="204804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1÷39 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443960" y="285912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8 ÷51 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540800" y="357984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2÷58 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443960" y="444348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21 ÷82 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3637080" y="126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637080" y="198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63708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3637080" y="357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63708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09480" y="16002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90÷30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09480" y="24382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43÷70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876920" y="24382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32÷90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09480" y="39625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60÷40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09480" y="47242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40÷77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876920" y="1600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80÷40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276720" y="1600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429000" y="2438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7467480" y="16002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7696080" y="24382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276720" y="3962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429000" y="47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85800" y="685800"/>
            <a:ext cx="24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一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生活中的数学2"/>
          <p:cNvPicPr/>
          <p:nvPr/>
        </p:nvPicPr>
        <p:blipFill>
          <a:blip r:embed="rId2"/>
          <a:stretch/>
        </p:blipFill>
        <p:spPr>
          <a:xfrm>
            <a:off x="468360" y="33336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362320" y="40384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79÷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65164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（辆）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752480" y="54864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答：大约需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362320" y="380880"/>
            <a:ext cx="3581280" cy="1600200"/>
          </a:xfrm>
          <a:prstGeom prst="wedgeRoundRectCallout">
            <a:avLst>
              <a:gd name="adj1" fmla="val -59842"/>
              <a:gd name="adj2" fmla="val 42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校准备组织同学们去秋游，四年级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每辆车限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多少辆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876920" y="4038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981080" y="464832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18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79280" y="26028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二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5580000" y="3789360"/>
            <a:ext cx="6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43440" y="689760"/>
            <a:ext cx="33253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÷30=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0÷89≈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7÷80≈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0÷6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0÷70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0÷8=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×5=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÷50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76280"/>
            <a:ext cx="24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5580000" y="3789360"/>
            <a:ext cx="6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973600" y="689760"/>
            <a:ext cx="35780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÷30= 3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0÷89≈8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7÷80≈5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0÷60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0÷70=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0÷8= 40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×5=350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÷50≈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324000" y="2708280"/>
            <a:ext cx="4050720" cy="2951280"/>
            <a:chOff x="324000" y="2708280"/>
            <a:chExt cx="4050720" cy="2951280"/>
          </a:xfrm>
        </p:grpSpPr>
        <p:grpSp>
          <p:nvGrpSpPr>
            <p:cNvPr id="207" name="Group 4"/>
            <p:cNvGrpSpPr/>
            <p:nvPr/>
          </p:nvGrpSpPr>
          <p:grpSpPr>
            <a:xfrm>
              <a:off x="324000" y="2708280"/>
              <a:ext cx="4050720" cy="2951280"/>
              <a:chOff x="324000" y="2708280"/>
              <a:chExt cx="4050720" cy="2951280"/>
            </a:xfrm>
          </p:grpSpPr>
          <p:sp>
            <p:nvSpPr>
              <p:cNvPr id="208" name="AutoShape 5"/>
              <p:cNvSpPr/>
              <p:nvPr/>
            </p:nvSpPr>
            <p:spPr>
              <a:xfrm>
                <a:off x="324000" y="2708280"/>
                <a:ext cx="1462680" cy="2951280"/>
              </a:xfrm>
              <a:custGeom>
                <a:avLst/>
                <a:gdLst>
                  <a:gd name="textAreaLeft" fmla="*/ 214200 w 1462680"/>
                  <a:gd name="textAreaRight" fmla="*/ 1248480 w 1462680"/>
                  <a:gd name="textAreaTop" fmla="*/ 214200 h 2951280"/>
                  <a:gd name="textAreaBottom" fmla="*/ 2737080 h 2951280"/>
                </a:gdLst>
                <a:ahLst/>
                <a:rect l="textAreaLeft" t="textAreaTop" r="textAreaRight" b="textAreaBottom"/>
                <a:pathLst>
                  <a:path w="21600" h="43577">
                    <a:moveTo>
                      <a:pt x="10800" y="0"/>
                    </a:moveTo>
                    <a:arcTo wR="10800" hR="10800" stAng="16200000" swAng="-5400000"/>
                    <a:lnTo>
                      <a:pt x="0" y="32777"/>
                    </a:lnTo>
                    <a:arcTo wR="10800" hR="10800" stAng="10800000" swAng="-5400000"/>
                    <a:lnTo>
                      <a:pt x="10800" y="4357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0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"/>
              <p:cNvSpPr/>
              <p:nvPr/>
            </p:nvSpPr>
            <p:spPr>
              <a:xfrm>
                <a:off x="2912040" y="2708280"/>
                <a:ext cx="1462680" cy="2951280"/>
              </a:xfrm>
              <a:custGeom>
                <a:avLst/>
                <a:gdLst>
                  <a:gd name="textAreaLeft" fmla="*/ 214200 w 1462680"/>
                  <a:gd name="textAreaRight" fmla="*/ 1248480 w 1462680"/>
                  <a:gd name="textAreaTop" fmla="*/ 214200 h 2951280"/>
                  <a:gd name="textAreaBottom" fmla="*/ 2737080 h 2951280"/>
                </a:gdLst>
                <a:ahLst/>
                <a:rect l="textAreaLeft" t="textAreaTop" r="textAreaRight" b="textAreaBottom"/>
                <a:pathLst>
                  <a:path w="21600" h="43577">
                    <a:moveTo>
                      <a:pt x="10800" y="0"/>
                    </a:moveTo>
                    <a:arcTo wR="10800" hR="10800" stAng="16200000" swAng="-5400000"/>
                    <a:lnTo>
                      <a:pt x="0" y="32777"/>
                    </a:lnTo>
                    <a:arcTo wR="10800" hR="10800" stAng="10800000" swAng="-5400000"/>
                    <a:lnTo>
                      <a:pt x="10800" y="4357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3193560" y="3137400"/>
                <a:ext cx="843840" cy="5364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8"/>
              <p:cNvSpPr/>
              <p:nvPr/>
            </p:nvSpPr>
            <p:spPr>
              <a:xfrm>
                <a:off x="3193560" y="3942360"/>
                <a:ext cx="843840" cy="5364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"/>
              <p:cNvSpPr/>
              <p:nvPr/>
            </p:nvSpPr>
            <p:spPr>
              <a:xfrm>
                <a:off x="3193560" y="4693680"/>
                <a:ext cx="843840" cy="5364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1561680" y="351288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1"/>
              <p:cNvSpPr/>
              <p:nvPr/>
            </p:nvSpPr>
            <p:spPr>
              <a:xfrm>
                <a:off x="1561680" y="421056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2"/>
              <p:cNvSpPr/>
              <p:nvPr/>
            </p:nvSpPr>
            <p:spPr>
              <a:xfrm>
                <a:off x="1617840" y="485460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3"/>
            <p:cNvSpPr/>
            <p:nvPr/>
          </p:nvSpPr>
          <p:spPr>
            <a:xfrm>
              <a:off x="1763640" y="2924280"/>
              <a:ext cx="115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4"/>
          <p:cNvSpPr/>
          <p:nvPr/>
        </p:nvSpPr>
        <p:spPr>
          <a:xfrm>
            <a:off x="3417840" y="3141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201840" y="39337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203640" y="47260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4788000" y="2637000"/>
            <a:ext cx="4050720" cy="2950920"/>
            <a:chOff x="4788000" y="2637000"/>
            <a:chExt cx="4050720" cy="2950920"/>
          </a:xfrm>
        </p:grpSpPr>
        <p:grpSp>
          <p:nvGrpSpPr>
            <p:cNvPr id="221" name="Group 18"/>
            <p:cNvGrpSpPr/>
            <p:nvPr/>
          </p:nvGrpSpPr>
          <p:grpSpPr>
            <a:xfrm>
              <a:off x="4788000" y="2637000"/>
              <a:ext cx="4050720" cy="2950920"/>
              <a:chOff x="4788000" y="2637000"/>
              <a:chExt cx="4050720" cy="2950920"/>
            </a:xfrm>
          </p:grpSpPr>
          <p:sp>
            <p:nvSpPr>
              <p:cNvPr id="222" name="AutoShape 19"/>
              <p:cNvSpPr/>
              <p:nvPr/>
            </p:nvSpPr>
            <p:spPr>
              <a:xfrm>
                <a:off x="4788000" y="2637000"/>
                <a:ext cx="1462680" cy="2950920"/>
              </a:xfrm>
              <a:custGeom>
                <a:avLst/>
                <a:gdLst>
                  <a:gd name="textAreaLeft" fmla="*/ 214200 w 1462680"/>
                  <a:gd name="textAreaRight" fmla="*/ 1248480 w 1462680"/>
                  <a:gd name="textAreaTop" fmla="*/ 214200 h 2950920"/>
                  <a:gd name="textAreaBottom" fmla="*/ 2736720 h 2950920"/>
                </a:gdLst>
                <a:ahLst/>
                <a:rect l="textAreaLeft" t="textAreaTop" r="textAreaRight" b="textAreaBottom"/>
                <a:pathLst>
                  <a:path w="21600" h="43572">
                    <a:moveTo>
                      <a:pt x="10800" y="0"/>
                    </a:moveTo>
                    <a:arcTo wR="10800" hR="10800" stAng="16200000" swAng="-5400000"/>
                    <a:lnTo>
                      <a:pt x="0" y="32772"/>
                    </a:lnTo>
                    <a:arcTo wR="10800" hR="10800" stAng="10800000" swAng="-5400000"/>
                    <a:lnTo>
                      <a:pt x="10800" y="4357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20"/>
              <p:cNvSpPr/>
              <p:nvPr/>
            </p:nvSpPr>
            <p:spPr>
              <a:xfrm>
                <a:off x="7376040" y="2637000"/>
                <a:ext cx="1462680" cy="2950920"/>
              </a:xfrm>
              <a:custGeom>
                <a:avLst/>
                <a:gdLst>
                  <a:gd name="textAreaLeft" fmla="*/ 214200 w 1462680"/>
                  <a:gd name="textAreaRight" fmla="*/ 1248480 w 1462680"/>
                  <a:gd name="textAreaTop" fmla="*/ 214200 h 2950920"/>
                  <a:gd name="textAreaBottom" fmla="*/ 2736720 h 2950920"/>
                </a:gdLst>
                <a:ahLst/>
                <a:rect l="textAreaLeft" t="textAreaTop" r="textAreaRight" b="textAreaBottom"/>
                <a:pathLst>
                  <a:path w="21600" h="43572">
                    <a:moveTo>
                      <a:pt x="10800" y="0"/>
                    </a:moveTo>
                    <a:arcTo wR="10800" hR="10800" stAng="16200000" swAng="-5400000"/>
                    <a:lnTo>
                      <a:pt x="0" y="32772"/>
                    </a:lnTo>
                    <a:arcTo wR="10800" hR="10800" stAng="10800000" swAng="-5400000"/>
                    <a:lnTo>
                      <a:pt x="10800" y="4357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1"/>
              <p:cNvSpPr/>
              <p:nvPr/>
            </p:nvSpPr>
            <p:spPr>
              <a:xfrm>
                <a:off x="7657560" y="3066120"/>
                <a:ext cx="843840" cy="5364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2"/>
              <p:cNvSpPr/>
              <p:nvPr/>
            </p:nvSpPr>
            <p:spPr>
              <a:xfrm>
                <a:off x="7657560" y="3870720"/>
                <a:ext cx="843840" cy="53640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23"/>
              <p:cNvSpPr/>
              <p:nvPr/>
            </p:nvSpPr>
            <p:spPr>
              <a:xfrm>
                <a:off x="7657560" y="4622040"/>
                <a:ext cx="843840" cy="536040"/>
              </a:xfrm>
              <a:prstGeom prst="rect">
                <a:avLst/>
              </a:pr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4"/>
              <p:cNvSpPr/>
              <p:nvPr/>
            </p:nvSpPr>
            <p:spPr>
              <a:xfrm>
                <a:off x="6025680" y="344160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5"/>
              <p:cNvSpPr/>
              <p:nvPr/>
            </p:nvSpPr>
            <p:spPr>
              <a:xfrm>
                <a:off x="6025680" y="413928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6"/>
              <p:cNvSpPr/>
              <p:nvPr/>
            </p:nvSpPr>
            <p:spPr>
              <a:xfrm>
                <a:off x="6081840" y="4782960"/>
                <a:ext cx="15188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/>
            <p:cNvSpPr/>
            <p:nvPr/>
          </p:nvSpPr>
          <p:spPr>
            <a:xfrm>
              <a:off x="6372000" y="292392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8"/>
            <p:cNvSpPr/>
            <p:nvPr/>
          </p:nvSpPr>
          <p:spPr>
            <a:xfrm>
              <a:off x="6227640" y="350028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9"/>
            <p:cNvSpPr/>
            <p:nvPr/>
          </p:nvSpPr>
          <p:spPr>
            <a:xfrm>
              <a:off x="6156000" y="42192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÷3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30"/>
          <p:cNvSpPr/>
          <p:nvPr/>
        </p:nvSpPr>
        <p:spPr>
          <a:xfrm>
            <a:off x="7854840" y="3024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7840800" y="38448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7842240" y="45784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900000" y="333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4"/>
          <p:cNvSpPr/>
          <p:nvPr/>
        </p:nvSpPr>
        <p:spPr>
          <a:xfrm>
            <a:off x="971640" y="981000"/>
            <a:ext cx="6697440" cy="647640"/>
          </a:xfrm>
          <a:custGeom>
            <a:avLst/>
            <a:gdLst>
              <a:gd name="textAreaLeft" fmla="*/ 0 w 6697440"/>
              <a:gd name="textAreaRight" fmla="*/ 6697800 w 66974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f8f8"/>
                </a:solidFill>
                <a:latin typeface="Tahoma"/>
              </a:rPr>
              <a:t>先算一算、再说说自己的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179280" y="189000"/>
            <a:ext cx="24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四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RX_012"/>
          <p:cNvPicPr/>
          <p:nvPr/>
        </p:nvPicPr>
        <p:blipFill>
          <a:blip r:embed="rId1"/>
          <a:stretch/>
        </p:blipFill>
        <p:spPr>
          <a:xfrm>
            <a:off x="7262640" y="4797360"/>
            <a:ext cx="838440" cy="12495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479520" y="2666880"/>
            <a:ext cx="8664480" cy="2457360"/>
            <a:chOff x="479520" y="2666880"/>
            <a:chExt cx="8664480" cy="2457360"/>
          </a:xfrm>
        </p:grpSpPr>
        <p:sp>
          <p:nvSpPr>
            <p:cNvPr id="51" name="Rectangle 6"/>
            <p:cNvSpPr/>
            <p:nvPr/>
          </p:nvSpPr>
          <p:spPr>
            <a:xfrm>
              <a:off x="479520" y="2666880"/>
              <a:ext cx="86644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479520" y="2666880"/>
              <a:ext cx="8572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WordArt 8"/>
          <p:cNvSpPr txBox="1"/>
          <p:nvPr/>
        </p:nvSpPr>
        <p:spPr>
          <a:xfrm>
            <a:off x="468360" y="1125360"/>
            <a:ext cx="224784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目标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5280" y="2133720"/>
            <a:ext cx="691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掌握整十数除整十数，整十数除几百几十数的口算方法和除数是两位数的除法估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灵活运用“四舍五入”法进行除法的估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、通过解决实际问题培养分析问题和解决问题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u=3885882498,2883169246&amp;fm=0&amp;gp=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611280" y="1268280"/>
            <a:ext cx="511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在括号内填入整十数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240÷(    )=4                          420÷ (    )=7       150÷(    )=3           359÷(    ) ≈ 6               421 ÷(    ) ≈6       178÷(    ) ≈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763640" y="184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835640" y="2421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69236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69236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835280" y="40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692360" y="465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u=2511647388,1361264344&amp;fm=0&amp;gp=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000800" y="379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611280" y="1413000"/>
            <a:ext cx="56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某交通路口的交通信号灯，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秒转换一次，如果下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刚转换成红灯，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要转换多少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826920" y="3716280"/>
            <a:ext cx="456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×60=6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0÷30=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要转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u=3362903967,1116918147&amp;fm=0&amp;gp=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826920" y="981000"/>
            <a:ext cx="51134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豆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克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豆油都装完需要多少个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632600" y="3186000"/>
            <a:ext cx="32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2÷30≈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个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651320" y="384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403280" y="4365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858320" y="5365800"/>
            <a:ext cx="40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豆油都装完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947880" y="320760"/>
            <a:ext cx="18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能做对吗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5148360" y="3209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+1=9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21360" y="11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考考你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900000" y="907920"/>
            <a:ext cx="62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、乙两站相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，一辆客车从甲站开出，每小时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，大约几小时到达乙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71640" y="270828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52÷58≈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小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462400" y="3618000"/>
            <a:ext cx="33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到达乙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u=4199127146,2457988295&amp;fm=0&amp;gp=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62136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快来想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971640" y="112536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师傅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共生产零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加快了速度，平均每天生产零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平均每天生产多少个零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1258920" y="3429000"/>
            <a:ext cx="456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2×20=44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60+440=80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00÷40=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答：这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平均每天生产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个零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u=484250673,2393560806&amp;fm=0&amp;gp=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782640" y="24768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Times New Roman"/>
              </a:rPr>
              <a:t>猜猜它是谁</a:t>
            </a:r>
            <a:r>
              <a:rPr b="1" lang="zh-CN" sz="3600" spc="-1" strike="noStrike">
                <a:solidFill>
                  <a:srgbClr val="66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611280" y="1125360"/>
            <a:ext cx="590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明在计算除法时，把除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末尾的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0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漏写了，结果得到的商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正确的商应是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187280" y="2852640"/>
            <a:ext cx="45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×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0÷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293120" y="4149720"/>
            <a:ext cx="25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正确的商应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聪聪"/>
          <p:cNvPicPr/>
          <p:nvPr/>
        </p:nvPicPr>
        <p:blipFill>
          <a:blip r:embed="rId2"/>
          <a:stretch/>
        </p:blipFill>
        <p:spPr>
          <a:xfrm>
            <a:off x="1143000" y="1676520"/>
            <a:ext cx="1457280" cy="16761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2971800" y="213372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同学们，这节课你学会了什么？给大家说说好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teac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3">
            <a:hlinkClick r:id="" action="ppaction://hlinkshowjump?jump=previousslide"/>
          </p:cNvPr>
          <p:cNvSpPr/>
          <p:nvPr/>
        </p:nvSpPr>
        <p:spPr>
          <a:xfrm>
            <a:off x="8085240" y="625968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67840" y="626112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360520" y="1271520"/>
            <a:ext cx="4503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请同学们把书本上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8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练习十三第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题做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Picture 5" descr="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6"/>
            <p:cNvSpPr/>
            <p:nvPr/>
          </p:nvSpPr>
          <p:spPr>
            <a:xfrm>
              <a:off x="2133720" y="380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80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个气球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" descr="2"/>
            <p:cNvPicPr/>
            <p:nvPr/>
          </p:nvPicPr>
          <p:blipFill>
            <a:blip r:embed="rId2"/>
            <a:stretch/>
          </p:blipFill>
          <p:spPr>
            <a:xfrm>
              <a:off x="1752480" y="990720"/>
              <a:ext cx="5181840" cy="45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8"/>
          <p:cNvSpPr/>
          <p:nvPr/>
        </p:nvSpPr>
        <p:spPr>
          <a:xfrm>
            <a:off x="2133720" y="53341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以分给几个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u=1690839610,3328144725&amp;fm=0&amp;gp=28"/>
          <p:cNvPicPr/>
          <p:nvPr/>
        </p:nvPicPr>
        <p:blipFill>
          <a:blip r:embed="rId3"/>
          <a:stretch/>
        </p:blipFill>
        <p:spPr>
          <a:xfrm>
            <a:off x="3683160" y="2762280"/>
            <a:ext cx="1777680" cy="133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903400" y="112536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示 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 ÷ 20= —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230720" y="184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可以分给＿个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365280" y="2492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方法一：算除法想乘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38760" y="3187800"/>
            <a:ext cx="58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×4=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除法是乘法的逆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23920" y="383544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方法二：利用表内除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95280" y="45846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2=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不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 ÷20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076720" y="955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71816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u=331552853,83026838&amp;fm=0&amp;gp=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468360" y="907920"/>
            <a:ext cx="8136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十数除整十数的口算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根据乘除法的关系用乘法算除法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用表内除法计算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u=833490216,1560307012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做一做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1165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077840" y="3716280"/>
            <a:ext cx="192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0÷3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060360" y="3675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030440" y="3675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00000" y="2090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0÷2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932360" y="206064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0÷4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943520" y="36831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0÷3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060360" y="20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7021080" y="2033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Picture 5" descr="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6"/>
            <p:cNvSpPr/>
            <p:nvPr/>
          </p:nvSpPr>
          <p:spPr>
            <a:xfrm>
              <a:off x="2133720" y="380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有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</a:rPr>
                <a:t>120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面彩旗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7" descr="例1（2）"/>
            <p:cNvPicPr/>
            <p:nvPr/>
          </p:nvPicPr>
          <p:blipFill>
            <a:blip r:embed="rId2"/>
            <a:stretch/>
          </p:blipFill>
          <p:spPr>
            <a:xfrm>
              <a:off x="1600200" y="1143000"/>
              <a:ext cx="5410080" cy="40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8"/>
          <p:cNvSpPr/>
          <p:nvPr/>
        </p:nvSpPr>
        <p:spPr>
          <a:xfrm>
            <a:off x="2268360" y="57340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以分给几个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873720" y="2133720"/>
            <a:ext cx="44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120÷30=    (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个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666880" y="4149720"/>
            <a:ext cx="18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答：可以分给  个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286160" y="411804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780000" y="2244600"/>
            <a:ext cx="3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9480" y="16002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50÷3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800600" y="16002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40÷8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80060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40÷9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9480" y="327672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50÷5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做一做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1165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3429000" y="1600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620120" y="1600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429000" y="3276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7620120" y="3276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11280" y="4653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720÷8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788000" y="4724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60÷7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492360" y="46926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7667640" y="4724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7:40:21Z</dcterms:created>
  <dc:creator>李水莲</dc:creator>
  <dc:description/>
  <cp:keywords/>
  <dc:language>en-US</dc:language>
  <cp:lastModifiedBy>Administrator</cp:lastModifiedBy>
  <cp:lastPrinted>1899-12-30T00:00:00Z</cp:lastPrinted>
  <dcterms:modified xsi:type="dcterms:W3CDTF">2015-01-24T03:17:52Z</dcterms:modified>
  <cp:revision>1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