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BB9E-2FE5-43D0-B20F-65B48CE7E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3FF8-33CC-4DBC-A804-077CAD703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A09F-9154-46E6-9F28-CB0FEE348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57C8-984B-4061-8B32-43AC46E1C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3BAB-F30C-460F-B1B9-BFDAF4A0E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C0DA-177C-441C-BFD9-53806A29D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0E01-1C28-497C-8B51-262EF6A48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0D92-9E42-4162-94A5-044A5B768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CDF3-82C5-4814-9123-BF95DFAD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B9E1-D302-4EEF-B054-4DC03485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AE64-5971-4E04-8ADF-C640E563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A123-2480-4331-9FE0-E2003190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EC724-130B-4C6A-BC52-2E4996ADBA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8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goodmap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重点句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突然，他的手指慢了下来，停在地图上南美洲上巴西的一块突出的部分，眼睛却盯住非洲西海岸成直角凹进的几内亚湾。瞧！这两个地方的形状竟是这般不可思议的吻合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D0301-12"/>
          <p:cNvPicPr/>
          <p:nvPr/>
        </p:nvPicPr>
        <p:blipFill>
          <a:blip r:embed="rId1"/>
          <a:srcRect l="0" t="0" r="0" b="21316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0" y="836640"/>
            <a:ext cx="8713800" cy="947160"/>
          </a:xfrm>
          <a:prstGeom prst="rect">
            <a:avLst/>
          </a:prstGeom>
          <a:solidFill>
            <a:srgbClr val="e6e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他画完了大洋洲，又画南极洲；画完了非洲，又画南美洲。突然，他的手指慢了下来停在地图上南美洲上巴西的一块突出的部分，眼睛却盯住非洲西海岸呈直角凹进的几内亚湾。瞧！这两个地方的形状竟是这般不可思议地吻合！魏格纳被自己偶然的发现惊呆了！他精神大振，仔细端祥着美洲和非洲大陆形状上的不同点。果然，巴西东海岸的每一个突出部分，都能在非洲西海岸找到形状相似的海湾；同时，巴西的每个海湾，又能在非洲找到相应的突出部分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"/>
          <p:cNvSpPr/>
          <p:nvPr/>
        </p:nvSpPr>
        <p:spPr>
          <a:xfrm>
            <a:off x="4859280" y="2565360"/>
            <a:ext cx="3384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5"/>
          <p:cNvSpPr/>
          <p:nvPr/>
        </p:nvSpPr>
        <p:spPr>
          <a:xfrm>
            <a:off x="0" y="2997360"/>
            <a:ext cx="3384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6"/>
          <p:cNvSpPr/>
          <p:nvPr/>
        </p:nvSpPr>
        <p:spPr>
          <a:xfrm>
            <a:off x="900000" y="2133720"/>
            <a:ext cx="3384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7"/>
          <p:cNvSpPr/>
          <p:nvPr/>
        </p:nvSpPr>
        <p:spPr>
          <a:xfrm>
            <a:off x="468360" y="2565360"/>
            <a:ext cx="3384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2"/>
          <p:cNvSpPr/>
          <p:nvPr/>
        </p:nvSpPr>
        <p:spPr>
          <a:xfrm>
            <a:off x="3059280" y="3860640"/>
            <a:ext cx="51847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3"/>
          <p:cNvSpPr/>
          <p:nvPr/>
        </p:nvSpPr>
        <p:spPr>
          <a:xfrm>
            <a:off x="179280" y="4292640"/>
            <a:ext cx="79930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4"/>
          <p:cNvSpPr/>
          <p:nvPr/>
        </p:nvSpPr>
        <p:spPr>
          <a:xfrm>
            <a:off x="179280" y="4724280"/>
            <a:ext cx="67690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9" descr="africa"/>
          <p:cNvPicPr/>
          <p:nvPr/>
        </p:nvPicPr>
        <p:blipFill>
          <a:blip r:embed="rId2"/>
          <a:srcRect l="0" t="40414" r="29244" b="21065"/>
          <a:stretch/>
        </p:blipFill>
        <p:spPr>
          <a:xfrm>
            <a:off x="2916360" y="836640"/>
            <a:ext cx="6227640" cy="60213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5"/>
          <p:cNvSpPr/>
          <p:nvPr/>
        </p:nvSpPr>
        <p:spPr>
          <a:xfrm>
            <a:off x="0" y="633888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不可思议是指不可想象，不能理解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brazil_c"/>
          <p:cNvPicPr/>
          <p:nvPr/>
        </p:nvPicPr>
        <p:blipFill>
          <a:blip r:embed="rId3"/>
          <a:srcRect l="29398" t="0" r="9168" b="0"/>
          <a:stretch/>
        </p:blipFill>
        <p:spPr>
          <a:xfrm>
            <a:off x="0" y="1916280"/>
            <a:ext cx="469908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6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0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4"/>
          <p:cNvSpPr/>
          <p:nvPr/>
        </p:nvSpPr>
        <p:spPr>
          <a:xfrm>
            <a:off x="3419640" y="2133720"/>
            <a:ext cx="51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魏格纳兴奋极了，将地图上一块块陆地进行了比较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20040616030435359"/>
          <p:cNvPicPr/>
          <p:nvPr/>
        </p:nvPicPr>
        <p:blipFill>
          <a:blip r:embed="rId1"/>
          <a:stretch/>
        </p:blipFill>
        <p:spPr>
          <a:xfrm>
            <a:off x="4932360" y="0"/>
            <a:ext cx="4211640" cy="3716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6003b010zw_0017_5"/>
          <p:cNvPicPr/>
          <p:nvPr/>
        </p:nvPicPr>
        <p:blipFill>
          <a:blip r:embed="rId2"/>
          <a:srcRect l="0" t="0" r="0" b="33508"/>
          <a:stretch/>
        </p:blipFill>
        <p:spPr>
          <a:xfrm>
            <a:off x="6227640" y="3716280"/>
            <a:ext cx="2916360" cy="3141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Show2166"/>
          <p:cNvPicPr/>
          <p:nvPr/>
        </p:nvPicPr>
        <p:blipFill>
          <a:blip r:embed="rId3"/>
          <a:stretch/>
        </p:blipFill>
        <p:spPr>
          <a:xfrm>
            <a:off x="0" y="0"/>
            <a:ext cx="4932360" cy="4056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魏格纳4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0" y="3743280"/>
            <a:ext cx="3348000" cy="3141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20040616030435796"/>
          <p:cNvPicPr/>
          <p:nvPr/>
        </p:nvPicPr>
        <p:blipFill>
          <a:blip r:embed="rId5"/>
          <a:stretch/>
        </p:blipFill>
        <p:spPr>
          <a:xfrm>
            <a:off x="3348000" y="3716280"/>
            <a:ext cx="2952720" cy="31417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5"/>
          <p:cNvSpPr/>
          <p:nvPr/>
        </p:nvSpPr>
        <p:spPr>
          <a:xfrm>
            <a:off x="0" y="3786120"/>
            <a:ext cx="35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ff00"/>
                </a:solidFill>
                <a:latin typeface="Arial"/>
                <a:ea typeface="黑体"/>
              </a:rPr>
              <a:t>从海岸线的相似情形看，地球上所有的大陆块都能够较好地吻合在一起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pic_114928"/>
          <p:cNvPicPr/>
          <p:nvPr/>
        </p:nvPicPr>
        <p:blipFill>
          <a:blip r:embed="rId1"/>
          <a:srcRect l="12200" t="5395" r="7665" b="54342"/>
          <a:stretch/>
        </p:blipFill>
        <p:spPr>
          <a:xfrm>
            <a:off x="0" y="898560"/>
            <a:ext cx="9144000" cy="59594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36360" y="907920"/>
            <a:ext cx="63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这不会是一种巧合吧？”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魏格纳4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250920" y="907920"/>
            <a:ext cx="849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黑体"/>
              </a:rPr>
              <a:t>在太古时代，地球上所有的陆地都是连在一起的，后来因为不断漂移，才分成今天的各个大陆，它们的海岸线才会惊人地吻合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835280" y="587700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Arial"/>
                <a:ea typeface="黑体"/>
              </a:rPr>
              <a:t>有了想法后，魏格纳做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u=3507671138,2409872841&amp;gp=1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836640"/>
            <a:ext cx="9144000" cy="60483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684360" y="112536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请教科学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611280" y="184464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在各大洲之间的联系和对比中进行考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611280" y="2708280"/>
            <a:ext cx="80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在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浩如烟海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的资料中寻找大陆漂移的证据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2411280" y="3573360"/>
            <a:ext cx="568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古生物化石有一定的相似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爬行动物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中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9"/>
          <p:cNvSpPr/>
          <p:nvPr/>
        </p:nvSpPr>
        <p:spPr>
          <a:xfrm>
            <a:off x="8101080" y="2997360"/>
            <a:ext cx="647640" cy="1439640"/>
          </a:xfrm>
          <a:custGeom>
            <a:avLst/>
            <a:gdLst>
              <a:gd name="textAreaLeft" fmla="*/ 86760 w 647640"/>
              <a:gd name="textAreaRight" fmla="*/ 560880 w 647640"/>
              <a:gd name="textAreaTop" fmla="*/ 252000 h 1439640"/>
              <a:gd name="textAreaBottom" fmla="*/ 1044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0"/>
          <p:cNvSpPr/>
          <p:nvPr/>
        </p:nvSpPr>
        <p:spPr>
          <a:xfrm>
            <a:off x="0" y="1413000"/>
            <a:ext cx="684360" cy="5111640"/>
          </a:xfrm>
          <a:custGeom>
            <a:avLst/>
            <a:gdLst>
              <a:gd name="textAreaLeft" fmla="*/ 91440 w 684360"/>
              <a:gd name="textAreaRight" fmla="*/ 592920 w 684360"/>
              <a:gd name="textAreaTop" fmla="*/ 894600 h 5111640"/>
              <a:gd name="textAreaBottom" fmla="*/ 3706200 h 511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1476360" y="5157720"/>
            <a:ext cx="7056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大陆与海洋的起源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----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大陆漂移的假说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3059280" y="90792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黑体"/>
              </a:rPr>
              <a:t>浩如烟海形容文献资料非常丰富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3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4"/>
          <p:cNvSpPr/>
          <p:nvPr/>
        </p:nvSpPr>
        <p:spPr>
          <a:xfrm>
            <a:off x="539640" y="126828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中龙既见于巴西东部，也见于非洲西南部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684360" y="2565360"/>
            <a:ext cx="57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中龙是爬行动物，不可能飞渡重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611280" y="407664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中龙当时是生活在同一块大陆上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924360" y="5229360"/>
            <a:ext cx="52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巴西和非洲大陆以前是连在一起的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20"/>
          <p:cNvSpPr/>
          <p:nvPr/>
        </p:nvSpPr>
        <p:spPr>
          <a:xfrm>
            <a:off x="6300720" y="1484280"/>
            <a:ext cx="358920" cy="3384720"/>
          </a:xfrm>
          <a:custGeom>
            <a:avLst/>
            <a:gdLst>
              <a:gd name="textAreaLeft" fmla="*/ 0 w 358920"/>
              <a:gd name="textAreaRight" fmla="*/ 129600 w 358920"/>
              <a:gd name="textAreaTop" fmla="*/ 88200 h 3384720"/>
              <a:gd name="textAreaBottom" fmla="*/ 3296520 h 338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21"/>
          <p:cNvSpPr/>
          <p:nvPr/>
        </p:nvSpPr>
        <p:spPr>
          <a:xfrm rot="18729600">
            <a:off x="7235640" y="3499920"/>
            <a:ext cx="863640" cy="1584000"/>
          </a:xfrm>
          <a:custGeom>
            <a:avLst/>
            <a:gdLst>
              <a:gd name="textAreaLeft" fmla="*/ 115560 w 863640"/>
              <a:gd name="textAreaRight" fmla="*/ 748080 w 863640"/>
              <a:gd name="textAreaTop" fmla="*/ 277200 h 1584000"/>
              <a:gd name="textAreaBottom" fmla="*/ 1148400 h 158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7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3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9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5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1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67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3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9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73_1202_03_pic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5076720" cy="63864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5508720" y="836640"/>
            <a:ext cx="2520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魏格纳的重大发现靠的是什么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5580000" y="3500280"/>
            <a:ext cx="2952720" cy="21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黑体"/>
                <a:ea typeface="黑体"/>
              </a:rPr>
              <a:t>仔细观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黑体"/>
                <a:ea typeface="黑体"/>
              </a:rPr>
              <a:t>认真思考反复论证</a:t>
            </a:r>
            <a:r>
              <a:rPr b="1" lang="zh-CN" sz="6000" spc="-1" strike="noStrike">
                <a:solidFill>
                  <a:srgbClr val="ff00ff"/>
                </a:solidFill>
                <a:latin typeface="黑体"/>
                <a:ea typeface="黑体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4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5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pic_114930"/>
          <p:cNvPicPr/>
          <p:nvPr/>
        </p:nvPicPr>
        <p:blipFill>
          <a:blip r:embed="rId1"/>
          <a:srcRect l="4609" t="1188" r="4201" b="0"/>
          <a:stretch/>
        </p:blipFill>
        <p:spPr>
          <a:xfrm>
            <a:off x="0" y="40464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dt0028"/>
          <p:cNvPicPr/>
          <p:nvPr/>
        </p:nvPicPr>
        <p:blipFill>
          <a:blip r:embed="rId1"/>
          <a:stretch/>
        </p:blipFill>
        <p:spPr>
          <a:xfrm>
            <a:off x="0" y="804960"/>
            <a:ext cx="9144000" cy="6053040"/>
          </a:xfrm>
          <a:prstGeom prst="rect">
            <a:avLst/>
          </a:prstGeom>
          <a:ln w="0">
            <a:noFill/>
          </a:ln>
        </p:spPr>
      </p:pic>
      <p:sp>
        <p:nvSpPr>
          <p:cNvPr id="45" name="WordArt 5"/>
          <p:cNvSpPr txBox="1"/>
          <p:nvPr/>
        </p:nvSpPr>
        <p:spPr>
          <a:xfrm>
            <a:off x="1332000" y="1989000"/>
            <a:ext cx="640872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世界地图引出的发现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1314720" y="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人教新课标四年级语文上册第二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map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0" y="4581360"/>
            <a:ext cx="57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自由读课文，读准字音，思考：课文讲了什么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初读课文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读一读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华文仿宋"/>
                <a:ea typeface="华文仿宋"/>
              </a:rPr>
              <a:t>静谧    呈现    振奋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华文仿宋"/>
                <a:ea typeface="华文仿宋"/>
              </a:rPr>
              <a:t>        </a:t>
            </a:r>
            <a:r>
              <a:rPr b="1" lang="zh-CN" sz="3600" spc="-1" strike="noStrike">
                <a:solidFill>
                  <a:srgbClr val="cc0000"/>
                </a:solidFill>
                <a:latin typeface="华文仿宋"/>
                <a:ea typeface="华文仿宋"/>
              </a:rPr>
              <a:t>叩问    资料    召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华文仿宋"/>
                <a:ea typeface="华文仿宋"/>
              </a:rPr>
              <a:t>凹凸不平    枉费心机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华文仿宋"/>
                <a:ea typeface="华文仿宋"/>
              </a:rPr>
              <a:t>            </a:t>
            </a:r>
            <a:r>
              <a:rPr b="1" lang="zh-CN" sz="3600" spc="-1" strike="noStrike">
                <a:solidFill>
                  <a:srgbClr val="cc0000"/>
                </a:solidFill>
                <a:latin typeface="华文仿宋"/>
                <a:ea typeface="华文仿宋"/>
              </a:rPr>
              <a:t>浩如烟海    源源不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D0301-12"/>
          <p:cNvPicPr/>
          <p:nvPr/>
        </p:nvPicPr>
        <p:blipFill>
          <a:blip r:embed="rId1"/>
          <a:srcRect l="0" t="0" r="0" b="21316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250920" y="765000"/>
            <a:ext cx="8569080" cy="520560"/>
          </a:xfrm>
          <a:prstGeom prst="rect">
            <a:avLst/>
          </a:prstGeom>
          <a:solidFill>
            <a:srgbClr val="e6e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魏格纳在病房的世界地图上发现，非洲的西海岸和南美洲的东海岸形状十分吻合，从而推测太古时代地球上的大陆是连在一起的巨大板块，后因大陆不断漂移，才形成今天的各个大陆。为了证明自己的发现，他进行了大量的考证工作，找到了许多事实，提出大陆漂移的假说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6"/>
          <p:cNvSpPr/>
          <p:nvPr/>
        </p:nvSpPr>
        <p:spPr>
          <a:xfrm>
            <a:off x="826920" y="3357720"/>
            <a:ext cx="25210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TN_040-1-1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0" y="1197000"/>
            <a:ext cx="9144000" cy="13737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大陆漂移说 是解释地壳运动的一种学说，由德国地球物理学家阿尔弗德雷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·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魏格纳首创。他根据非洲西海岸和南美洲东海岸在形状上的吻合性和地层、构造、山脉的连续性，以及非洲、印度、澳大利亚大陆古生物的相关性等事实，认为地壳的硅铝层漂浮在硅镁层之上，大陆曾经大规模地水平移动过。在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亿年前，地球上的陆地是一块统一的连续体，叫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泛古陆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。由于地球自西向东转，加上日、月引潮力的作用，自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亿年前的中生代开始，漂浮在硅镁层上的硅铝层逐渐自动向西移动。到第四纪初期，形成现代地球表面的海陆分布轮廓。大陆漂移说问世后，并没有引起人们的广泛注意。自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20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世纪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60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年代海底扩张说和板块构造理论提出后，大陆漂移说重新被人们所重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wgn"/>
          <p:cNvPicPr/>
          <p:nvPr/>
        </p:nvPicPr>
        <p:blipFill>
          <a:blip r:embed="rId1"/>
          <a:stretch/>
        </p:blipFill>
        <p:spPr>
          <a:xfrm>
            <a:off x="826920" y="1773360"/>
            <a:ext cx="2737080" cy="3456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3995640" y="1197000"/>
            <a:ext cx="51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魏格纳（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1880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－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1930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）德国著名的天文学家、气象学家和地球物理学家。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1915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年，他出版了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海陆的起源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一书，全面论证了大陆漂移学说。在书中，他综合地貌学、地质学、地球物理学、古生物学、古气候学等方面的知识和事实，从不同学科的角度，系统地论述了关于大陆漂移的观点和论据，形成了比较完整的理论体系。为了获得第一手资料，进一步论证大陆漂移的假说，他先后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次赴北极的格陵兰岛进行考察，并于第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次考察时不幸遇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4" descr="Show2166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7"/>
          <p:cNvSpPr/>
          <p:nvPr/>
        </p:nvSpPr>
        <p:spPr>
          <a:xfrm>
            <a:off x="0" y="1700280"/>
            <a:ext cx="5796000" cy="20257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黑体"/>
              </a:rPr>
              <a:t>小组合作学习，研究探讨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黑体"/>
              </a:rPr>
              <a:t>魏格纳的奇妙想法是怎么产生的？有了想法后，他又做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pic_114928"/>
          <p:cNvPicPr/>
          <p:nvPr/>
        </p:nvPicPr>
        <p:blipFill>
          <a:blip r:embed="rId1"/>
          <a:srcRect l="12200" t="5395" r="7665" b="54342"/>
          <a:stretch/>
        </p:blipFill>
        <p:spPr>
          <a:xfrm>
            <a:off x="0" y="898560"/>
            <a:ext cx="9144000" cy="59594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289080" y="3284640"/>
            <a:ext cx="8675640" cy="6426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魏格纳性格豪放，天性好动，在静谧舒适的病房里坐卧不安，就像软禁在牢笼中的困兽一般。他常常耐着性子，面对墙上的地图呆呆地出神。实在无聊了，魏格纳就站起来，用食指在地图上画着各个大陆的海岸线，借此消磨时光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4643280" y="1125360"/>
            <a:ext cx="33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静谧是宁静的意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7"/>
          <p:cNvSpPr/>
          <p:nvPr/>
        </p:nvSpPr>
        <p:spPr>
          <a:xfrm>
            <a:off x="7812000" y="3860640"/>
            <a:ext cx="7923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8"/>
          <p:cNvSpPr/>
          <p:nvPr/>
        </p:nvSpPr>
        <p:spPr>
          <a:xfrm>
            <a:off x="3708360" y="3860640"/>
            <a:ext cx="792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9"/>
          <p:cNvSpPr/>
          <p:nvPr/>
        </p:nvSpPr>
        <p:spPr>
          <a:xfrm>
            <a:off x="5940360" y="3860640"/>
            <a:ext cx="792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0"/>
          <p:cNvSpPr/>
          <p:nvPr/>
        </p:nvSpPr>
        <p:spPr>
          <a:xfrm>
            <a:off x="1403280" y="4941720"/>
            <a:ext cx="180036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1"/>
          <p:cNvSpPr/>
          <p:nvPr/>
        </p:nvSpPr>
        <p:spPr>
          <a:xfrm>
            <a:off x="3132000" y="6021360"/>
            <a:ext cx="547236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2"/>
          <p:cNvSpPr/>
          <p:nvPr/>
        </p:nvSpPr>
        <p:spPr>
          <a:xfrm>
            <a:off x="395280" y="6597720"/>
            <a:ext cx="23050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3995640" y="1916280"/>
            <a:ext cx="431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Arial"/>
                <a:ea typeface="黑体"/>
              </a:rPr>
              <a:t>事情的起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guibin</dc:creator>
  <dc:description/>
  <dc:language>en-US</dc:language>
  <cp:lastModifiedBy>Administrator</cp:lastModifiedBy>
  <dcterms:modified xsi:type="dcterms:W3CDTF">2015-01-22T01:13:02Z</dcterms:modified>
  <cp:revision>41</cp:revision>
  <dc:subject/>
  <dc:title>幻灯片 1</dc:title>
</cp:coreProperties>
</file>