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A41-9487-4086-A9D5-22784ED4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BAD-C0EC-43CB-A68B-E13F7A8F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ECD-EFCD-4175-A65A-5383C937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DF3-25E3-4881-B854-770097F2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5E5-B633-46E1-BCEE-651E5F13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9B3-A92E-4184-B72D-35704137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9A1-8F4C-4B6D-A4F0-0F1B079F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B4D-BA39-44B7-8E9D-8DE7F32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1F0-241A-4D51-9179-37FFE80B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B8F-4425-4953-8251-7EB91284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D7D-1CBB-4ABE-8542-3210C36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DE6-4E10-45C8-B449-F268421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F047-9EE9-4690-8E14-FD3AFCDE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oodmap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重点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836640"/>
            <a:ext cx="8713800" cy="947160"/>
          </a:xfrm>
          <a:prstGeom prst="rect">
            <a:avLst/>
          </a:prstGeom>
          <a:solidFill>
            <a:srgbClr val="e6e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他画完了大洋洲，又画南极洲；画完了非洲，又画南美洲。突然，他的手指慢了下来停在地图上南美洲上巴西的一块突出的部分，眼睛却盯住非洲西海岸呈直角凹进的几内亚湾。瞧！这两个地方的形状竟是这般不可思议地吻合！魏格纳被自己偶然的发现惊呆了！他精神大振，仔细端祥着美洲和非洲大陆形状上的不同点。果然，巴西东海岸的每一个突出部分，都能在非洲西海岸找到形状相似的海湾；同时，巴西的每个海湾，又能在非洲找到相应的突出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859280" y="2565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0" y="2997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00000" y="2133720"/>
            <a:ext cx="338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2565360"/>
            <a:ext cx="3384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059280" y="3860640"/>
            <a:ext cx="5184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4292640"/>
            <a:ext cx="799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79280" y="4724280"/>
            <a:ext cx="6769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africa"/>
          <p:cNvPicPr/>
          <p:nvPr/>
        </p:nvPicPr>
        <p:blipFill>
          <a:blip r:embed="rId2"/>
          <a:srcRect l="0" t="40414" r="29244" b="21065"/>
          <a:stretch/>
        </p:blipFill>
        <p:spPr>
          <a:xfrm>
            <a:off x="2916360" y="836640"/>
            <a:ext cx="6227640" cy="602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0" y="63388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可思议是指不可想象，不能理解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razil_c"/>
          <p:cNvPicPr/>
          <p:nvPr/>
        </p:nvPicPr>
        <p:blipFill>
          <a:blip r:embed="rId3"/>
          <a:srcRect l="29398" t="0" r="9168" b="0"/>
          <a:stretch/>
        </p:blipFill>
        <p:spPr>
          <a:xfrm>
            <a:off x="0" y="1916280"/>
            <a:ext cx="4699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4"/>
          <p:cNvSpPr/>
          <p:nvPr/>
        </p:nvSpPr>
        <p:spPr>
          <a:xfrm>
            <a:off x="3419640" y="21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兴奋极了，将地图上一块块陆地进行了比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0616030435359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6003b010zw_0017_5"/>
          <p:cNvPicPr/>
          <p:nvPr/>
        </p:nvPicPr>
        <p:blipFill>
          <a:blip r:embed="rId2"/>
          <a:srcRect l="0" t="0" r="0" b="33508"/>
          <a:stretch/>
        </p:blipFill>
        <p:spPr>
          <a:xfrm>
            <a:off x="6227640" y="3716280"/>
            <a:ext cx="291636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how2166"/>
          <p:cNvPicPr/>
          <p:nvPr/>
        </p:nvPicPr>
        <p:blipFill>
          <a:blip r:embed="rId3"/>
          <a:stretch/>
        </p:blipFill>
        <p:spPr>
          <a:xfrm>
            <a:off x="0" y="0"/>
            <a:ext cx="4932360" cy="405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魏格纳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3743280"/>
            <a:ext cx="334800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0040616030435796"/>
          <p:cNvPicPr/>
          <p:nvPr/>
        </p:nvPicPr>
        <p:blipFill>
          <a:blip r:embed="rId5"/>
          <a:stretch/>
        </p:blipFill>
        <p:spPr>
          <a:xfrm>
            <a:off x="3348000" y="371628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0" y="37861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从海岸线的相似情形看，地球上所有的大陆块都能够较好地吻合在一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6360" y="90792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不会是一种巧合吧？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魏格纳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0920" y="9079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在太古时代，地球上所有的陆地都是连在一起的，后来因为不断漂移，才分成今天的各个大陆，它们的海岸线才会惊人地吻合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835280" y="587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有了想法后，魏格纳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u=3507671138,2409872841&amp;gp=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436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请教科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184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各大洲之间的联系和对比中进行考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270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浩如烟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资料中寻找大陆漂移的证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411280" y="3573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古生物化石有一定的相似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行动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8101080" y="2997360"/>
            <a:ext cx="647640" cy="143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1413000"/>
            <a:ext cx="684360" cy="5111640"/>
          </a:xfrm>
          <a:custGeom>
            <a:avLst/>
            <a:gdLst>
              <a:gd name="textAreaLeft" fmla="*/ 91440 w 684360"/>
              <a:gd name="textAreaRight" fmla="*/ 592920 w 684360"/>
              <a:gd name="textAreaTop" fmla="*/ 894600 h 5111640"/>
              <a:gd name="textAreaBottom" fmla="*/ 370620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476360" y="5157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与海洋的起源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漂移的假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05928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浩如烟海形容文献资料非常丰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39640" y="1268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既见于巴西东部，也见于非洲西南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360" y="2565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是爬行动物，不可能飞渡重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11280" y="4076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当时是生活在同一块大陆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92436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巴西和非洲大陆以前是连在一起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00720" y="1484280"/>
            <a:ext cx="358920" cy="3384720"/>
          </a:xfrm>
          <a:custGeom>
            <a:avLst/>
            <a:gdLst>
              <a:gd name="textAreaLeft" fmla="*/ 0 w 358920"/>
              <a:gd name="textAreaRight" fmla="*/ 12960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 rot="18729600">
            <a:off x="7235640" y="349992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3_1202_03_pic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5076720" cy="6386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508720" y="836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魏格纳的重大发现靠的是什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580000" y="3500280"/>
            <a:ext cx="295272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仔细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认真思考反复论证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ic_114930"/>
          <p:cNvPicPr/>
          <p:nvPr/>
        </p:nvPicPr>
        <p:blipFill>
          <a:blip r:embed="rId1"/>
          <a:srcRect l="4609" t="1188" r="4201" b="0"/>
          <a:stretch/>
        </p:blipFill>
        <p:spPr>
          <a:xfrm>
            <a:off x="0" y="40464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t0028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332000" y="1989000"/>
            <a:ext cx="640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世界地图引出的发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314720" y="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新课标四年级语文上册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p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4581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，读准字音，思考：课文讲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静谧    呈现    振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叩问    资料    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凹凸不平    枉费心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浩如烟海    源源不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765000"/>
            <a:ext cx="8569080" cy="520560"/>
          </a:xfrm>
          <a:prstGeom prst="rect">
            <a:avLst/>
          </a:prstGeom>
          <a:solidFill>
            <a:srgbClr val="e6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在病房的世界地图上发现，非洲的西海岸和南美洲的东海岸形状十分吻合，从而推测太古时代地球上的大陆是连在一起的巨大板块，后因大陆不断漂移，才形成今天的各个大陆。为了证明自己的发现，他进行了大量的考证工作，找到了许多事实，提出大陆漂移的假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826920" y="3357720"/>
            <a:ext cx="252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N_040-1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197000"/>
            <a:ext cx="9144000" cy="1373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陆漂移说 是解释地壳运动的一种学说，由德国地球物理学家阿尔弗德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，地球上的陆地是一块统一的连续体，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泛古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由于地球自西向东转，加上日、月引潮力的作用，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代海底扩张说和板块构造理论提出后，大陆漂移说重新被人们所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wgn"/>
          <p:cNvPicPr/>
          <p:nvPr/>
        </p:nvPicPr>
        <p:blipFill>
          <a:blip r:embed="rId1"/>
          <a:stretch/>
        </p:blipFill>
        <p:spPr>
          <a:xfrm>
            <a:off x="826920" y="177336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995640" y="1197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魏格纳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8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德国著名的天文学家、气象学家和地球物理学家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，他出版了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海陆的起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赴北极的格陵兰岛进行考察，并于第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考察时不幸遇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Show216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0" y="1700280"/>
            <a:ext cx="5796000" cy="2025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小组合作学习，研究探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魏格纳的奇妙想法是怎么产生的？有了想法后，他又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89080" y="3284640"/>
            <a:ext cx="867564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性格豪放，天性好动，在静谧舒适的病房里坐卧不安，就像软禁在牢笼中的困兽一般。他常常耐着性子，面对墙上的地图呆呆地出神。实在无聊了，魏格纳就站起来，用食指在地图上画着各个大陆的海岸线，借此消磨时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43280" y="1125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静谧是宁静的意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7812000" y="3860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708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940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403280" y="49417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132000" y="6021360"/>
            <a:ext cx="5472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95280" y="6597720"/>
            <a:ext cx="2305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995640" y="191628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事情的起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1:13:02Z</dcterms:modified>
  <cp:revision>41</cp:revision>
  <dc:subject/>
  <dc:title>幻灯片 1</dc:title>
</cp:coreProperties>
</file>