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810-2189-453B-B7C9-F70771FE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3C8-76B5-4CD2-A67F-D02F559A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8B7-2C6B-411A-B164-1261E7FD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1C2-1317-4C13-82A3-46F04AF1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F1C-F681-445F-86D3-4FA60C16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7F6-7384-4EE4-B197-A4BF5C0C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487-A7FE-48A5-B5EB-533760BC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82E-24C1-48B3-95AF-660E5419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547-9B5C-4515-90AE-5B4E68CB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E48-368F-4BBC-89B0-83AE8C04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A2E-EBF0-4C22-A900-684E5E12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9C7-E397-46D2-BBD9-A1969FC5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EF13-E38A-4640-81C0-A972FD01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oodmap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重点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836640"/>
            <a:ext cx="8713800" cy="947160"/>
          </a:xfrm>
          <a:prstGeom prst="rect">
            <a:avLst/>
          </a:prstGeom>
          <a:solidFill>
            <a:srgbClr val="e6e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他画完了大洋洲，又画南极洲；画完了非洲，又画南美洲。突然，他的手指慢了下来停在地图上南美洲上巴西的一块突出的部分，眼睛却盯住非洲西海岸呈直角凹进的几内亚湾。瞧！这两个地方的形状竟是这般不可思议地吻合！魏格纳被自己偶然的发现惊呆了！他精神大振，仔细端祥着美洲和非洲大陆形状上的不同点。果然，巴西东海岸的每一个突出部分，都能在非洲西海岸找到形状相似的海湾；同时，巴西的每个海湾，又能在非洲找到相应的突出部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859280" y="2565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0" y="2997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900000" y="2133720"/>
            <a:ext cx="338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68360" y="2565360"/>
            <a:ext cx="3384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059280" y="3860640"/>
            <a:ext cx="5184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79280" y="4292640"/>
            <a:ext cx="799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79280" y="4724280"/>
            <a:ext cx="6769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africa"/>
          <p:cNvPicPr/>
          <p:nvPr/>
        </p:nvPicPr>
        <p:blipFill>
          <a:blip r:embed="rId2"/>
          <a:srcRect l="0" t="40414" r="29244" b="21065"/>
          <a:stretch/>
        </p:blipFill>
        <p:spPr>
          <a:xfrm>
            <a:off x="2916360" y="836640"/>
            <a:ext cx="6227640" cy="6021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0" y="63388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可思议是指不可想象，不能理解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brazil_c"/>
          <p:cNvPicPr/>
          <p:nvPr/>
        </p:nvPicPr>
        <p:blipFill>
          <a:blip r:embed="rId3"/>
          <a:srcRect l="29398" t="0" r="9168" b="0"/>
          <a:stretch/>
        </p:blipFill>
        <p:spPr>
          <a:xfrm>
            <a:off x="0" y="1916280"/>
            <a:ext cx="4699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4"/>
          <p:cNvSpPr/>
          <p:nvPr/>
        </p:nvSpPr>
        <p:spPr>
          <a:xfrm>
            <a:off x="3419640" y="21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兴奋极了，将地图上一块块陆地进行了比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040616030435359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71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6003b010zw_0017_5"/>
          <p:cNvPicPr/>
          <p:nvPr/>
        </p:nvPicPr>
        <p:blipFill>
          <a:blip r:embed="rId2"/>
          <a:srcRect l="0" t="0" r="0" b="33508"/>
          <a:stretch/>
        </p:blipFill>
        <p:spPr>
          <a:xfrm>
            <a:off x="6227640" y="3716280"/>
            <a:ext cx="2916360" cy="314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Show2166"/>
          <p:cNvPicPr/>
          <p:nvPr/>
        </p:nvPicPr>
        <p:blipFill>
          <a:blip r:embed="rId3"/>
          <a:stretch/>
        </p:blipFill>
        <p:spPr>
          <a:xfrm>
            <a:off x="0" y="0"/>
            <a:ext cx="4932360" cy="405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魏格纳4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3743280"/>
            <a:ext cx="334800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0040616030435796"/>
          <p:cNvPicPr/>
          <p:nvPr/>
        </p:nvPicPr>
        <p:blipFill>
          <a:blip r:embed="rId5"/>
          <a:stretch/>
        </p:blipFill>
        <p:spPr>
          <a:xfrm>
            <a:off x="3348000" y="3716280"/>
            <a:ext cx="2952720" cy="3141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5"/>
          <p:cNvSpPr/>
          <p:nvPr/>
        </p:nvSpPr>
        <p:spPr>
          <a:xfrm>
            <a:off x="0" y="37861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从海岸线的相似情形看，地球上所有的大陆块都能够较好地吻合在一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6360" y="90792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这不会是一种巧合吧？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魏格纳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0920" y="90792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黑体"/>
              </a:rPr>
              <a:t>在太古时代，地球上所有的陆地都是连在一起的，后来因为不断漂移，才分成今天的各个大陆，它们的海岸线才会惊人地吻合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835280" y="587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有了想法后，魏格纳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u=3507671138,2409872841&amp;gp=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836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436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请教科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11280" y="184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各大洲之间的联系和对比中进行考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11280" y="270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浩如烟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资料中寻找大陆漂移的证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411280" y="357336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古生物化石有一定的相似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爬行动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8101080" y="2997360"/>
            <a:ext cx="647640" cy="1439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1413000"/>
            <a:ext cx="684360" cy="5111640"/>
          </a:xfrm>
          <a:custGeom>
            <a:avLst/>
            <a:gdLst>
              <a:gd name="textAreaLeft" fmla="*/ 91440 w 684360"/>
              <a:gd name="textAreaRight" fmla="*/ 592920 w 684360"/>
              <a:gd name="textAreaTop" fmla="*/ 894600 h 5111640"/>
              <a:gd name="textAreaBottom" fmla="*/ 370620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476360" y="5157720"/>
            <a:ext cx="70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与海洋的起源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漂移的假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05928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浩如烟海形容文献资料非常丰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539640" y="1268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既见于巴西东部，也见于非洲西南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84360" y="2565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是爬行动物，不可能飞渡重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11280" y="4076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当时是生活在同一块大陆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92436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巴西和非洲大陆以前是连在一起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6300720" y="1484280"/>
            <a:ext cx="358920" cy="3384720"/>
          </a:xfrm>
          <a:custGeom>
            <a:avLst/>
            <a:gdLst>
              <a:gd name="textAreaLeft" fmla="*/ 0 w 358920"/>
              <a:gd name="textAreaRight" fmla="*/ 129600 w 3589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 rot="18729600">
            <a:off x="7235640" y="349992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73_1202_03_pic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5076720" cy="6386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508720" y="836640"/>
            <a:ext cx="252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魏格纳的重大发现靠的是什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580000" y="3500280"/>
            <a:ext cx="295272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仔细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认真思考反复论证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pic_114930"/>
          <p:cNvPicPr/>
          <p:nvPr/>
        </p:nvPicPr>
        <p:blipFill>
          <a:blip r:embed="rId1"/>
          <a:srcRect l="4609" t="1188" r="4201" b="0"/>
          <a:stretch/>
        </p:blipFill>
        <p:spPr>
          <a:xfrm>
            <a:off x="0" y="40464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t0028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605304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332000" y="1989000"/>
            <a:ext cx="640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世界地图引出的发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314720" y="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新课标四年级语文上册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ap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45813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，读准字音，思考：课文讲了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静谧    呈现    振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叩问    资料    召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凹凸不平    枉费心机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浩如烟海    源源不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50920" y="765000"/>
            <a:ext cx="8569080" cy="520560"/>
          </a:xfrm>
          <a:prstGeom prst="rect">
            <a:avLst/>
          </a:prstGeom>
          <a:solidFill>
            <a:srgbClr val="e6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在病房的世界地图上发现，非洲的西海岸和南美洲的东海岸形状十分吻合，从而推测太古时代地球上的大陆是连在一起的巨大板块，后因大陆不断漂移，才形成今天的各个大陆。为了证明自己的发现，他进行了大量的考证工作，找到了许多事实，提出大陆漂移的假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826920" y="3357720"/>
            <a:ext cx="252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TN_040-1-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1197000"/>
            <a:ext cx="9144000" cy="1373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大陆漂移说 是解释地壳运动的一种学说，由德国地球物理学家阿尔弗德雷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首创。他根据非洲西海岸和南美洲东海岸在形状上的吻合性和地层、构造、山脉的连续性，以及非洲、印度、澳大利亚大陆古生物的相关性等事实，认为地壳的硅铝层漂浮在硅镁层之上，大陆曾经大规模地水平移动过。在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，地球上的陆地是一块统一的连续体，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泛古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由于地球自西向东转，加上日、月引潮力的作用，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的中生代开始，漂浮在硅镁层上的硅铝层逐渐自动向西移动。到第四纪初期，形成现代地球表面的海陆分布轮廓。大陆漂移说问世后，并没有引起人们的广泛注意。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代海底扩张说和板块构造理论提出后，大陆漂移说重新被人们所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wgn"/>
          <p:cNvPicPr/>
          <p:nvPr/>
        </p:nvPicPr>
        <p:blipFill>
          <a:blip r:embed="rId1"/>
          <a:stretch/>
        </p:blipFill>
        <p:spPr>
          <a:xfrm>
            <a:off x="826920" y="177336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995640" y="119700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魏格纳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88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3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德国著名的天文学家、气象学家和地球物理学家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，他出版了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海陆的起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书，全面论证了大陆漂移学说。在书中，他综合地貌学、地质学、地球物理学、古生物学、古气候学等方面的知识和事实，从不同学科的角度，系统地论述了关于大陆漂移的观点和论据，形成了比较完整的理论体系。为了获得第一手资料，进一步论证大陆漂移的假说，他先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赴北极的格陵兰岛进行考察，并于第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考察时不幸遇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Show2166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0" y="1700280"/>
            <a:ext cx="5796000" cy="2025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小组合作学习，研究探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魏格纳的奇妙想法是怎么产生的？有了想法后，他又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89080" y="3284640"/>
            <a:ext cx="8675640" cy="642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性格豪放，天性好动，在静谧舒适的病房里坐卧不安，就像软禁在牢笼中的困兽一般。他常常耐着性子，面对墙上的地图呆呆地出神。实在无聊了，魏格纳就站起来，用食指在地图上画着各个大陆的海岸线，借此消磨时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43280" y="1125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静谧是宁静的意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7812000" y="386064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708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940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1403280" y="4941720"/>
            <a:ext cx="1800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132000" y="6021360"/>
            <a:ext cx="5472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95280" y="6597720"/>
            <a:ext cx="2305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995640" y="191628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事情的起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1:13:02Z</dcterms:modified>
  <cp:revision>41</cp:revision>
  <dc:subject/>
  <dc:title>幻灯片 1</dc:title>
</cp:coreProperties>
</file>