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kings\桌面\LOGO.png"/>
          <p:cNvPicPr/>
          <p:nvPr/>
        </p:nvPicPr>
        <p:blipFill>
          <a:blip r:embed="rId3"/>
          <a:stretch/>
        </p:blipFill>
        <p:spPr>
          <a:xfrm>
            <a:off x="266760" y="6350040"/>
            <a:ext cx="2200320" cy="2602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\\192.168.1.3\临时中转站1_以本人姓名建目录\开发中心-多媒体部\02美术部\晨会文件\04宁煌\人教数学教参\07.png"/>
          <p:cNvPicPr/>
          <p:nvPr/>
        </p:nvPicPr>
        <p:blipFill>
          <a:blip r:embed="rId1"/>
          <a:stretch/>
        </p:blipFill>
        <p:spPr>
          <a:xfrm>
            <a:off x="1400040" y="142884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835200" y="135252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认识钟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455760" y="476280"/>
            <a:ext cx="86882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感知钟面，探究认识钟面整时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1160640" y="1514520"/>
            <a:ext cx="6796080" cy="51055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611280" y="148608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表盘钟面时间认读方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944640" y="23180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动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师用钟表拨时间，学生说时间及认读方法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桌同学，一人用钟表拨时间，一人说时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944640" y="6090120"/>
            <a:ext cx="74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问：这是小明的一天，他什么时间在做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55760" y="476280"/>
            <a:ext cx="86882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感知钟面，探究认识钟面整时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154"/>
          <p:cNvPicPr/>
          <p:nvPr/>
        </p:nvPicPr>
        <p:blipFill>
          <a:blip r:embed="rId1"/>
          <a:stretch/>
        </p:blipFill>
        <p:spPr>
          <a:xfrm>
            <a:off x="2405160" y="2209680"/>
            <a:ext cx="4330440" cy="3911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455760" y="474840"/>
            <a:ext cx="86882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学习时间的书写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195640" y="580392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介绍记录时间的两种方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学生在教科书上把时间写下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154"/>
          <p:cNvPicPr/>
          <p:nvPr/>
        </p:nvPicPr>
        <p:blipFill>
          <a:blip r:embed="rId1"/>
          <a:stretch/>
        </p:blipFill>
        <p:spPr>
          <a:xfrm>
            <a:off x="2260440" y="1557360"/>
            <a:ext cx="4619880" cy="41720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74480"/>
            <a:ext cx="8686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五、巩固提升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193840" y="5558040"/>
            <a:ext cx="567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什么时间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样说就更好一些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155"/>
          <p:cNvPicPr/>
          <p:nvPr/>
        </p:nvPicPr>
        <p:blipFill>
          <a:blip r:embed="rId1"/>
          <a:stretch/>
        </p:blipFill>
        <p:spPr>
          <a:xfrm>
            <a:off x="1550880" y="1700280"/>
            <a:ext cx="5942160" cy="3305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156"/>
          <p:cNvPicPr/>
          <p:nvPr/>
        </p:nvPicPr>
        <p:blipFill>
          <a:blip r:embed="rId2"/>
          <a:stretch/>
        </p:blipFill>
        <p:spPr>
          <a:xfrm>
            <a:off x="1547640" y="1728720"/>
            <a:ext cx="5507280" cy="33400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5"/>
          <p:cNvSpPr/>
          <p:nvPr/>
        </p:nvSpPr>
        <p:spPr>
          <a:xfrm>
            <a:off x="2843280" y="342900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fanwen/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455760" y="476280"/>
            <a:ext cx="8688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创设情境，感受认识钟表的重要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826920" y="1484280"/>
            <a:ext cx="568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境感知，认识钟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147"/>
          <p:cNvPicPr/>
          <p:nvPr/>
        </p:nvPicPr>
        <p:blipFill>
          <a:blip r:embed="rId7"/>
          <a:stretch/>
        </p:blipFill>
        <p:spPr>
          <a:xfrm>
            <a:off x="2063880" y="2276640"/>
            <a:ext cx="50292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92040" y="304920"/>
            <a:ext cx="8350200" cy="62593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4" descr="147"/>
          <p:cNvPicPr/>
          <p:nvPr/>
        </p:nvPicPr>
        <p:blipFill>
          <a:blip r:embed="rId1"/>
          <a:stretch/>
        </p:blipFill>
        <p:spPr>
          <a:xfrm>
            <a:off x="2516040" y="2133720"/>
            <a:ext cx="4000680" cy="33112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826920" y="1484280"/>
            <a:ext cx="5113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境感知，认识钟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139760" y="570096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红是什么时间起床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怎么知道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826920" y="1484280"/>
            <a:ext cx="56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揭示课题，明确内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160640" y="5408280"/>
            <a:ext cx="789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揭示主题：你们看钟表虽小，却与我们的生活有密切联系，它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告诉我们时间，提醒我们工作和学习，这节课我们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起来认识钟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55760" y="476280"/>
            <a:ext cx="8688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创设情境，感受认识钟表的重要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148"/>
          <p:cNvPicPr/>
          <p:nvPr/>
        </p:nvPicPr>
        <p:blipFill>
          <a:blip r:embed="rId1"/>
          <a:stretch/>
        </p:blipFill>
        <p:spPr>
          <a:xfrm>
            <a:off x="3135240" y="2313000"/>
            <a:ext cx="2873520" cy="2771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476280"/>
            <a:ext cx="8688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楷体_GB2312"/>
              </a:rPr>
              <a:t>二、结合生活探究认读电子表上整时的方法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489600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认识电子表时刻。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157400" y="5298840"/>
            <a:ext cx="79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刚才有的同学说从这个钟表上可以看出这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你是怎么看出来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在哪儿见过这样的钟表？这些钟表叫做电子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26560" y="1483920"/>
            <a:ext cx="56883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巩固电子表时刻认读方法。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157400" y="5558040"/>
            <a:ext cx="77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些钟表各表示的是几时？你是怎么看出来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钟表上像这样表示的时间我们称它为整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1"/>
          <a:stretch/>
        </p:blipFill>
        <p:spPr>
          <a:xfrm>
            <a:off x="857160" y="2214720"/>
            <a:ext cx="3200400" cy="140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2"/>
          <a:stretch/>
        </p:blipFill>
        <p:spPr>
          <a:xfrm>
            <a:off x="4857840" y="2214720"/>
            <a:ext cx="3162240" cy="1371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3"/>
          <a:stretch/>
        </p:blipFill>
        <p:spPr>
          <a:xfrm>
            <a:off x="2786040" y="3943440"/>
            <a:ext cx="3162240" cy="13428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455760" y="476280"/>
            <a:ext cx="86882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二、结合生活探究认读电子表上整时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4" descr="147"/>
          <p:cNvPicPr/>
          <p:nvPr/>
        </p:nvPicPr>
        <p:blipFill>
          <a:blip r:embed="rId1"/>
          <a:stretch/>
        </p:blipFill>
        <p:spPr>
          <a:xfrm>
            <a:off x="1800360" y="1612800"/>
            <a:ext cx="4716360" cy="39038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476280"/>
            <a:ext cx="8688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感知钟面，探究认识钟面整时的方法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95280" y="5478480"/>
            <a:ext cx="872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了电子表外，还有同学从墙上的这个钟面上看出了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间。你是怎么从钟面上看出这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157400" y="5479920"/>
            <a:ext cx="79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在认时间的时候用到了钟面上的指针和数。看来要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钟面上认读出时间，这些指针和数都非常重要。那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我们先来认识认识它们吧。你对钟面有什么了解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157400" y="5478840"/>
            <a:ext cx="79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问：认识了这些朋友，你能再说一说是怎样看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的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7" descr="150-1"/>
          <p:cNvPicPr/>
          <p:nvPr/>
        </p:nvPicPr>
        <p:blipFill>
          <a:blip r:embed="rId2"/>
          <a:stretch/>
        </p:blipFill>
        <p:spPr>
          <a:xfrm>
            <a:off x="2486160" y="1593720"/>
            <a:ext cx="3670200" cy="3670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151"/>
          <p:cNvPicPr/>
          <p:nvPr/>
        </p:nvPicPr>
        <p:blipFill>
          <a:blip r:embed="rId3"/>
          <a:stretch/>
        </p:blipFill>
        <p:spPr>
          <a:xfrm>
            <a:off x="6227640" y="1387440"/>
            <a:ext cx="2665440" cy="17542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9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455760" y="476280"/>
            <a:ext cx="86882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感知钟面，探究认识钟面整时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1219320" y="1581120"/>
            <a:ext cx="6624360" cy="49658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417600" y="5478480"/>
            <a:ext cx="67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同桌同学互相说一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谁能来说一说你的发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971640" y="1413000"/>
            <a:ext cx="453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157400" y="5478840"/>
            <a:ext cx="78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结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当分针指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时，时针指着几，就是几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157400" y="5484960"/>
            <a:ext cx="521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问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几时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是怎么知道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305000" y="4624200"/>
            <a:ext cx="1071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948120" y="4624200"/>
            <a:ext cx="1071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6591240" y="4624200"/>
            <a:ext cx="1071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55760" y="476280"/>
            <a:ext cx="86882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感知钟面，探究认识钟面整时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4" descr="152"/>
          <p:cNvPicPr/>
          <p:nvPr/>
        </p:nvPicPr>
        <p:blipFill>
          <a:blip r:embed="rId1"/>
          <a:stretch/>
        </p:blipFill>
        <p:spPr>
          <a:xfrm>
            <a:off x="695160" y="2336760"/>
            <a:ext cx="7525080" cy="2198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153"/>
          <p:cNvPicPr/>
          <p:nvPr/>
        </p:nvPicPr>
        <p:blipFill>
          <a:blip r:embed="rId2"/>
          <a:stretch/>
        </p:blipFill>
        <p:spPr>
          <a:xfrm>
            <a:off x="5364000" y="1341360"/>
            <a:ext cx="3527640" cy="11206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2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绿色圃中小学教育网http://www.lspjy.com</dc:creator>
  <dc:description>绿色圃中小学教育网http://www.lspjy.com</dc:description>
  <cp:keywords>绿色圃中小学教育网http://www.lspjy.com</cp:keywords>
  <dc:language>en-US</dc:language>
  <cp:lastModifiedBy>Administrator</cp:lastModifiedBy>
  <cp:lastPrinted>1899-12-30T00:00:00Z</cp:lastPrinted>
  <dcterms:modified xsi:type="dcterms:W3CDTF">2015-01-23T05:54:06Z</dcterms:modified>
  <cp:revision>289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