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applause.wav" ContentType="audio/x-wav"/>
  <Override PartName="/ppt/media/image16.png" ContentType="image/png"/>
  <Override PartName="/ppt/media/chimes.wav" ContentType="audio/x-wav"/>
  <Override PartName="/ppt/media/image22.jpeg" ContentType="image/jpeg"/>
  <Override PartName="/ppt/media/image1.jpeg" ContentType="image/jpeg"/>
  <Override PartName="/ppt/media/image7.png" ContentType="image/png"/>
  <Override PartName="/ppt/media/image27.gif" ContentType="image/gif"/>
  <Override PartName="/ppt/media/image12.png" ContentType="image/png"/>
  <Override PartName="/ppt/media/image5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9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3.png" ContentType="image/png"/>
  <Override PartName="/ppt/media/image14.wmf" ContentType="image/x-wmf"/>
  <Override PartName="/ppt/media/image20.jpeg" ContentType="image/jpeg"/>
  <Override PartName="/ppt/media/image26.gif" ContentType="image/gif"/>
  <Override PartName="/ppt/media/image15.jpeg" ContentType="image/jpeg"/>
  <Override PartName="/ppt/media/image17.jpeg" ContentType="image/jpeg"/>
  <Override PartName="/ppt/media/image6.jpeg" ContentType="image/jpeg"/>
  <Override PartName="/ppt/media/image18.png" ContentType="image/png"/>
  <Override PartName="/ppt/media/image25.png" ContentType="image/png"/>
  <Override PartName="/ppt/media/image19.jpeg" ContentType="image/jpeg"/>
  <Override PartName="/ppt/media/camera.wav" ContentType="audio/x-wav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692-43A8-4E40-80E8-D58E1142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5E9-F0BB-4416-80CD-064BA32A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85A-91BA-4EB6-8DEA-48A0D2A4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121-0B62-498A-BD07-65FD5866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FDEC-871C-4373-93DF-A175854C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6962-A653-43D2-A98C-CC4CFB40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2AAE-F9BA-426B-8622-B9EDA2BB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18B7-6555-4F4C-AB71-70DDAE13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F4E0-155B-407F-B333-B70D8139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D96D-98A0-43AD-9264-75F5175B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C1A5-F1A2-4E52-8B72-C5F0876C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705-F3E8-4AEE-A8FC-8C6790D3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5654-D8BF-40B2-A943-AB4296B6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ADF1-836D-4CC1-8A8E-0E747912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272F-0CA8-4CB6-875A-C7C8EFED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5432-5A75-4E29-8820-C4435D55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C06C-0B65-402F-BDE5-B076EEF0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E13-9816-4924-9B53-318B5C14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50C-DD55-4758-94ED-0519995D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EB8-8AF6-4FBC-B464-441B4112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B16-EE90-4106-854E-D5A14B64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031-9063-46CF-B90B-75AF5F7C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F79-0C24-44DB-9208-2305172D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DD66-900B-4D32-9374-72D1F795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3445-BD00-4E08-B7E3-027DC21BAD3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5B5D-B00D-4931-B222-8BA42FE6E64C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n.xinhuanet.com/gov/2004-08/25/content_2746274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hyperlink" Target="file:///C:/Documents%20and%20Settings/Administrator/&#26700;&#38754;/&#26032;&#24314;&#25991;&#20214;&#22841;/get.jpg" TargetMode="External"/><Relationship Id="rId4" Type="http://schemas.openxmlformats.org/officeDocument/2006/relationships/slide" Target="slide27.xml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lmcenter.com.cn/ypjs_dxp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" Target="slide38.xm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lmcenter.com.cn/ypjs_dxp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5.png"/><Relationship Id="rId15" Type="http://schemas.openxmlformats.org/officeDocument/2006/relationships/image" Target="../media/image2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7181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24360" y="692280"/>
            <a:ext cx="23004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难</a:t>
            </a:r>
            <a:br>
              <a:rPr sz="6600"/>
            </a:b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忘</a:t>
            </a:r>
            <a:br>
              <a:rPr sz="6600"/>
            </a:b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的</a:t>
            </a:r>
            <a:br>
              <a:rPr sz="6600"/>
            </a:b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一</a:t>
            </a:r>
            <a:br>
              <a:rPr sz="6600"/>
            </a:b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天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5"/>
          <p:cNvSpPr txBox="1"/>
          <p:nvPr/>
        </p:nvSpPr>
        <p:spPr>
          <a:xfrm>
            <a:off x="2411280" y="1052640"/>
            <a:ext cx="4319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solidFill>
                    <a:srgbClr val="00ff00"/>
                  </a:solidFill>
                </a:ln>
                <a:solidFill>
                  <a:srgbClr val="9900cc"/>
                </a:solidFill>
                <a:latin typeface="隶书"/>
              </a:rPr>
              <a:t>变变变</a:t>
            </a:r>
            <a:endParaRPr b="1" lang="en-US" sz="2400" spc="1" strike="noStrike">
              <a:ln w="0">
                <a:solidFill>
                  <a:srgbClr val="00ff00"/>
                </a:solidFill>
              </a:ln>
              <a:solidFill>
                <a:srgbClr val="9900cc"/>
              </a:solidFill>
              <a:latin typeface="隶书"/>
              <a:ea typeface="隶书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484360" y="-243000"/>
            <a:ext cx="4176720" cy="2405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老朋友常见面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476360" y="3068640"/>
            <a:ext cx="6408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谷         十         平         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屋         官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708360" y="436716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979a5"/>
                </a:solidFill>
                <a:latin typeface="Arial"/>
                <a:ea typeface="黑体"/>
              </a:rPr>
              <a:t>饣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403280" y="267192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979a5"/>
                </a:solidFill>
                <a:latin typeface="Arial"/>
                <a:ea typeface="黑体"/>
              </a:rPr>
              <a:t>宀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6516720" y="299880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979a5"/>
                </a:solidFill>
                <a:latin typeface="Arial"/>
                <a:ea typeface="黑体"/>
              </a:rPr>
              <a:t>忄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1116000" y="436572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979a5"/>
                </a:solidFill>
                <a:latin typeface="Arial"/>
                <a:ea typeface="黑体"/>
              </a:rPr>
              <a:t>扌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3780000" y="299736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979a5"/>
                </a:solidFill>
                <a:latin typeface="Arial"/>
                <a:ea typeface="黑体"/>
              </a:rPr>
              <a:t>讠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1403280" y="2924280"/>
            <a:ext cx="1295640" cy="1008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容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780000" y="3068640"/>
            <a:ext cx="1295280" cy="1008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计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6443640" y="3068640"/>
            <a:ext cx="1295280" cy="1008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怦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1187280" y="4437000"/>
            <a:ext cx="1295640" cy="1008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握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780000" y="4508640"/>
            <a:ext cx="1295280" cy="1008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馆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692360" y="981000"/>
            <a:ext cx="56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笑容       握手    计算机展览馆               怦怦跳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5" name="WordArt 26"/>
          <p:cNvSpPr txBox="1"/>
          <p:nvPr/>
        </p:nvSpPr>
        <p:spPr>
          <a:xfrm>
            <a:off x="5796000" y="4076640"/>
            <a:ext cx="2736720" cy="18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真聪明！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10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3059280" y="620640"/>
            <a:ext cx="251928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76191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我会读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238880" y="3886200"/>
            <a:ext cx="1371600" cy="1292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00000" y="1700280"/>
            <a:ext cx="806472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计算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机    表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演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冒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着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严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寒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展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览馆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紧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张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怦怦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地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慈祥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握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手     和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蔼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开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始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操纵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笑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容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普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及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抓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起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兴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灿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肩负    责任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树叶1"/>
          <p:cNvPicPr/>
          <p:nvPr/>
        </p:nvPicPr>
        <p:blipFill>
          <a:blip r:embed="rId2"/>
          <a:stretch/>
        </p:blipFill>
        <p:spPr>
          <a:xfrm>
            <a:off x="2268360" y="5300640"/>
            <a:ext cx="1117800" cy="1233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树叶1"/>
          <p:cNvPicPr/>
          <p:nvPr/>
        </p:nvPicPr>
        <p:blipFill>
          <a:blip r:embed="rId3"/>
          <a:stretch/>
        </p:blipFill>
        <p:spPr>
          <a:xfrm>
            <a:off x="3564000" y="5300640"/>
            <a:ext cx="1117440" cy="1233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树叶1"/>
          <p:cNvPicPr/>
          <p:nvPr/>
        </p:nvPicPr>
        <p:blipFill>
          <a:blip r:embed="rId4"/>
          <a:stretch/>
        </p:blipFill>
        <p:spPr>
          <a:xfrm>
            <a:off x="4859280" y="5373720"/>
            <a:ext cx="1117800" cy="1233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树叶1"/>
          <p:cNvPicPr/>
          <p:nvPr/>
        </p:nvPicPr>
        <p:blipFill>
          <a:blip r:embed="rId5"/>
          <a:stretch/>
        </p:blipFill>
        <p:spPr>
          <a:xfrm>
            <a:off x="6156360" y="5300640"/>
            <a:ext cx="1117440" cy="1233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树叶1"/>
          <p:cNvPicPr/>
          <p:nvPr/>
        </p:nvPicPr>
        <p:blipFill>
          <a:blip r:embed="rId6"/>
          <a:stretch/>
        </p:blipFill>
        <p:spPr>
          <a:xfrm>
            <a:off x="7451640" y="5300640"/>
            <a:ext cx="1117800" cy="1233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树叶1"/>
          <p:cNvPicPr/>
          <p:nvPr/>
        </p:nvPicPr>
        <p:blipFill>
          <a:blip r:embed="rId7"/>
          <a:stretch/>
        </p:blipFill>
        <p:spPr>
          <a:xfrm>
            <a:off x="971640" y="5300640"/>
            <a:ext cx="1117440" cy="123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树叶1"/>
          <p:cNvPicPr/>
          <p:nvPr/>
        </p:nvPicPr>
        <p:blipFill>
          <a:blip r:embed="rId8"/>
          <a:stretch/>
        </p:blipFill>
        <p:spPr>
          <a:xfrm>
            <a:off x="2411280" y="4005360"/>
            <a:ext cx="1117800" cy="1233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树叶1"/>
          <p:cNvPicPr/>
          <p:nvPr/>
        </p:nvPicPr>
        <p:blipFill>
          <a:blip r:embed="rId9"/>
          <a:stretch/>
        </p:blipFill>
        <p:spPr>
          <a:xfrm>
            <a:off x="4140360" y="3933720"/>
            <a:ext cx="1117440" cy="123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树叶1"/>
          <p:cNvPicPr/>
          <p:nvPr/>
        </p:nvPicPr>
        <p:blipFill>
          <a:blip r:embed="rId10"/>
          <a:stretch/>
        </p:blipFill>
        <p:spPr>
          <a:xfrm>
            <a:off x="5940360" y="3933720"/>
            <a:ext cx="1117800" cy="1233720"/>
          </a:xfrm>
          <a:prstGeom prst="rect">
            <a:avLst/>
          </a:prstGeom>
          <a:ln w="0">
            <a:noFill/>
          </a:ln>
        </p:spPr>
      </p:pic>
      <p:sp>
        <p:nvSpPr>
          <p:cNvPr id="159" name="WordArt 12"/>
          <p:cNvSpPr txBox="1"/>
          <p:nvPr/>
        </p:nvSpPr>
        <p:spPr>
          <a:xfrm>
            <a:off x="250920" y="620640"/>
            <a:ext cx="201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我会认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2627280" y="4292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计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4356000" y="4221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算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6156360" y="422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演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187280" y="55245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冒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484360" y="5589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严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3780000" y="558972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览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5076720" y="566100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馆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6372360" y="558972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紧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7667640" y="5589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怦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9" name="WordArt 24"/>
          <p:cNvSpPr txBox="1"/>
          <p:nvPr/>
        </p:nvSpPr>
        <p:spPr>
          <a:xfrm>
            <a:off x="3564000" y="2781360"/>
            <a:ext cx="4103640" cy="25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你真棒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cover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87 -0.02127 0.00087 -0.04254 0.00469 -0.06335 C 0.00868 -0.08508 0.01441 -0.10682 0.01736 -0.12901 C 0.02101 -0.1563 0.02378 -0.18843 0.03333 -0.21364 C 0.03611 -0.23676 0.03871 -0.25687 0.04444 -0.27907 C 0.04635 -0.2941 0.05035 -0.30705 0.05399 -0.32138 C 0.05712 -0.33341 0.05798 -0.34682 0.06024 -0.3593 C 0.06146 -0.37294 0.06354 -0.38265 0.06667 -0.39537 C 0.06788 -0.40855 0.07048 -0.41849 0.07292 -0.43121 C 0.075 -0.44254 0.07934 -0.46497 0.07934 -0.46497 C 0.08021 -0.50011 0.07864 -0.53572 0.08246 -0.57063 C 0.08281 -0.57387 0.08715 -0.57595 0.08889 -0.57711 E">
                                      <p:cBhvr>
                                        <p:cTn id="22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87 -0.02127 0.00087 -0.04254 0.00469 -0.06335 C 0.00868 -0.08508 0.01441 -0.10682 0.01736 -0.12901 C 0.02101 -0.1563 0.02378 -0.18843 0.03333 -0.21364 C 0.03611 -0.23676 0.03871 -0.25687 0.04444 -0.27907 C 0.04635 -0.2941 0.05035 -0.30705 0.05399 -0.32138 C 0.05712 -0.33341 0.05798 -0.34682 0.06024 -0.3593 C 0.06146 -0.37294 0.06354 -0.38265 0.06667 -0.39537 C 0.06788 -0.40855 0.07048 -0.41849 0.07292 -0.43121 C 0.075 -0.44254 0.07934 -0.46497 0.07934 -0.46497 C 0.08021 -0.50011 0.07864 -0.53572 0.08246 -0.57063 C 0.08281 -0.57387 0.08715 -0.57595 0.08889 -0.57711 E">
                                      <p:cBhvr>
                                        <p:cTn id="22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6 -0.0252 0.00347 -0.05086 0.00625 -0.07606 C 0.00677 -0.08046 0.00954 -0.08878 0.00954 -0.08878 C 0.01406 -0.12554 0.02014 -0.16231 0.02691 -0.19861 C 0.02986 -0.21456 0.0309 -0.23052 0.03645 -0.24531 C 0.03871 -0.2608 0.04184 -0.2763 0.04444 -0.29179 C 0.0467 -0.30566 0.04739 -0.31884 0.05225 -0.33179 C 0.05625 -0.35653 0.06024 -0.38127 0.0651 -0.40578 C 0.06562 -0.40855 0.06632 -0.41156 0.06666 -0.41433 C 0.06736 -0.41849 0.06753 -0.42289 0.06823 -0.42705 C 0.06909 -0.43144 0.07135 -0.43976 0.07135 -0.43976 C 0.07361 -0.49572 0.07621 -0.52763 0.07621 -0.58982 E">
                                      <p:cBhvr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6 -0.0252 0.00347 -0.05086 0.00625 -0.07606 C 0.00677 -0.08046 0.00954 -0.08878 0.00954 -0.08878 C 0.01406 -0.12554 0.02014 -0.16231 0.02691 -0.19861 C 0.02986 -0.21456 0.0309 -0.23052 0.03645 -0.24531 C 0.03871 -0.2608 0.04184 -0.2763 0.04444 -0.29179 C 0.0467 -0.30566 0.04739 -0.31884 0.05225 -0.33179 C 0.05625 -0.35653 0.06024 -0.38127 0.0651 -0.40578 C 0.06562 -0.40855 0.06632 -0.41156 0.06666 -0.41433 C 0.06736 -0.41849 0.06753 -0.42289 0.06823 -0.42705 C 0.06909 -0.43144 0.07135 -0.43976 0.07135 -0.43976 C 0.07361 -0.49572 0.07621 -0.52763 0.07621 -0.58982 E">
                                      <p:cBhvr>
                                        <p:cTn id="23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51 -0.03908 0.01007 -0.07746 0.0158 -0.1163 C 0.02031 -0.14682 0.02726 -0.17665 0.03177 -0.2074 C 0.03229 -0.21688 0.03385 -0.24879 0.03646 -0.25781 C 0.04167 -0.27584 0.04097 -0.27214 0.04444 -0.28948 C 0.04774 -0.3059 0.04878 -0.32023 0.05399 -0.33596 C 0.05503 -0.35515 0.05521 -0.37619 0.05868 -0.39515 C 0.06076 -0.40624 0.06458 -0.41596 0.06667 -0.42705 C 0.06771 -0.44301 0.06771 -0.46012 0.07135 -0.47561 C 0.07569 -0.52208 0.07465 -0.50544 0.07465 -0.58544 E">
                                      <p:cBhvr>
                                        <p:cTn id="23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51 -0.03908 0.01007 -0.07746 0.0158 -0.1163 C 0.02031 -0.14682 0.02726 -0.17665 0.03177 -0.2074 C 0.03229 -0.21688 0.03385 -0.24879 0.03646 -0.25781 C 0.04167 -0.27584 0.04097 -0.27214 0.04444 -0.28948 C 0.04774 -0.3059 0.04878 -0.32023 0.05399 -0.33596 C 0.05503 -0.35515 0.05521 -0.37619 0.05868 -0.39515 C 0.06076 -0.40624 0.06458 -0.41596 0.06667 -0.42705 C 0.06771 -0.44301 0.06771 -0.46012 0.07135 -0.47561 C 0.07569 -0.52208 0.07465 -0.50544 0.07465 -0.58544 E">
                                      <p:cBhvr>
                                        <p:cTn id="23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49 0.00521 -0.01896 0.00955 -0.0296 C 0.01788 -0.04971 0.02274 -0.07283 0.03334 -0.09087 C 0.03646 -0.10752 0.04462 -0.12046 0.05087 -0.13526 C 0.05486 -0.14474 0.05365 -0.14821 0.05712 -0.15838 C 0.0625 -0.17411 0.06945 -0.18913 0.07465 -0.20486 C 0.0783 -0.21596 0.07969 -0.22821 0.0842 -0.23885 C 0.09844 -0.2726 0.10886 -0.30844 0.12222 -0.34243 C 0.12865 -0.35885 0.13629 -0.37457 0.14288 -0.39098 C 0.15122 -0.41202 0.15556 -0.43792 0.16667 -0.45642 C 0.16893 -0.4689 0.17604 -0.477 0.17934 -0.48833 C 0.18611 -0.51191 0.18837 -0.53757 0.19688 -0.56 C 0.20139 -0.58497 0.2 -0.61087 0.2 -0.6363 E">
                                      <p:cBhvr>
                                        <p:cTn id="24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49 0.00521 -0.01896 0.00955 -0.0296 C 0.01788 -0.04971 0.02274 -0.07283 0.03334 -0.09087 C 0.03646 -0.10752 0.04462 -0.12046 0.05087 -0.13526 C 0.05486 -0.14474 0.05365 -0.14821 0.05712 -0.15838 C 0.0625 -0.17411 0.06945 -0.18913 0.07465 -0.20486 C 0.0783 -0.21596 0.07969 -0.22821 0.0842 -0.23885 C 0.09844 -0.2726 0.10886 -0.30844 0.12222 -0.34243 C 0.12865 -0.35885 0.13629 -0.37457 0.14288 -0.39098 C 0.15122 -0.41202 0.15556 -0.43792 0.16667 -0.45642 C 0.16893 -0.4689 0.17604 -0.477 0.17934 -0.48833 C 0.18611 -0.51191 0.18837 -0.53757 0.19688 -0.56 C 0.20139 -0.58497 0.2 -0.61087 0.2 -0.6363 E">
                                      <p:cBhvr>
                                        <p:cTn id="24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1618 0.00035 -0.03237 0.00173 -0.04855 C 0.00191 -0.05109 0.00417 -0.05271 0.00486 -0.05503 C 0.01146 -0.07884 0.0151 -0.09572 0.02864 -0.11422 C 0.02969 -0.11768 0.03003 -0.12161 0.03177 -0.12462 C 0.03437 -0.12948 0.04132 -0.13734 0.04132 -0.13734 C 0.04496 -0.15237 0.05608 -0.1674 0.06354 -0.17965 C 0.07014 -0.19052 0.07691 -0.20393 0.08264 -0.21572 C 0.08385 -0.21826 0.0842 -0.22173 0.08576 -0.22404 C 0.0875 -0.22682 0.09045 -0.22774 0.09219 -0.23052 C 0.09462 -0.23422 0.09635 -0.23884 0.09844 -0.243 C 0.09948 -0.24508 0.10173 -0.24948 0.10173 -0.24948 C 0.1059 -0.27144 0.10017 -0.24531 0.10642 -0.26427 C 0.10937 -0.27329 0.1092 -0.28277 0.11441 -0.28971 C 0.11736 -0.30127 0.12066 -0.31283 0.12708 -0.32138 C 0.12934 -0.33017 0.13264 -0.33919 0.13663 -0.34659 C 0.13854 -0.35699 0.14167 -0.36531 0.14618 -0.3741 C 0.14809 -0.38196 0.15191 -0.38751 0.15399 -0.39537 C 0.15469 -0.39815 0.15451 -0.40115 0.15555 -0.4037 C 0.15677 -0.40624 0.15885 -0.40809 0.16042 -0.41017 C 0.16441 -0.42682 0.1618 -0.41919 0.1684 -0.43329 C 0.17048 -0.44508 0.1783 -0.46173 0.18264 -0.47352 C 0.18837 -0.48878 0.18976 -0.51005 0.19375 -0.52647 C 0.19514 -0.53965 0.19983 -0.5556 0.2 -0.56855 C 0.20052 -0.59815 0.2 -0.62774 0.2 -0.65734 E">
                                      <p:cBhvr>
                                        <p:cTn id="24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1618 0.00035 -0.03237 0.00173 -0.04855 C 0.00191 -0.05109 0.00417 -0.05271 0.00486 -0.05503 C 0.01146 -0.07884 0.0151 -0.09572 0.02864 -0.11422 C 0.02969 -0.11768 0.03003 -0.12161 0.03177 -0.12462 C 0.03437 -0.12948 0.04132 -0.13734 0.04132 -0.13734 C 0.04496 -0.15237 0.05608 -0.1674 0.06354 -0.17965 C 0.07014 -0.19052 0.07691 -0.20393 0.08264 -0.21572 C 0.08385 -0.21826 0.0842 -0.22173 0.08576 -0.22404 C 0.0875 -0.22682 0.09045 -0.22774 0.09219 -0.23052 C 0.09462 -0.23422 0.09635 -0.23884 0.09844 -0.243 C 0.09948 -0.24508 0.10173 -0.24948 0.10173 -0.24948 C 0.1059 -0.27144 0.10017 -0.24531 0.10642 -0.26427 C 0.10937 -0.27329 0.1092 -0.28277 0.11441 -0.28971 C 0.11736 -0.30127 0.12066 -0.31283 0.12708 -0.32138 C 0.12934 -0.33017 0.13264 -0.33919 0.13663 -0.34659 C 0.13854 -0.35699 0.14167 -0.36531 0.14618 -0.3741 C 0.14809 -0.38196 0.15191 -0.38751 0.15399 -0.39537 C 0.15469 -0.39815 0.15451 -0.40115 0.15555 -0.4037 C 0.15677 -0.40624 0.15885 -0.40809 0.16042 -0.41017 C 0.16441 -0.42682 0.1618 -0.41919 0.1684 -0.43329 C 0.17048 -0.44508 0.1783 -0.46173 0.18264 -0.47352 C 0.18837 -0.48878 0.18976 -0.51005 0.19375 -0.52647 C 0.19514 -0.53965 0.19983 -0.5556 0.2 -0.56855 C 0.20052 -0.59815 0.2 -0.62774 0.2 -0.65734 E">
                                      <p:cBhvr>
                                        <p:cTn id="25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61 -0.01688 0.01007 -0.02821 0.0191 -0.04 C 0.02466 -0.0474 0.02848 -0.05711 0.03334 -0.06566 C 0.03907 -0.07561 0.04705 -0.08439 0.05243 -0.09503 C 0.06025 -0.11052 0.06719 -0.12624 0.07292 -0.14358 C 0.07639 -0.15422 0.07309 -0.14636 0.07622 -0.16046 C 0.079 -0.17318 0.07952 -0.16971 0.08403 -0.18173 C 0.08646 -0.18821 0.08733 -0.19422 0.09045 -0.20069 C 0.09184 -0.20832 0.09375 -0.21711 0.09688 -0.22381 C 0.10417 -0.23977 0.09532 -0.21202 0.10313 -0.23653 C 0.10625 -0.24647 0.10747 -0.25642 0.11111 -0.26613 C 0.11441 -0.28439 0.11736 -0.30289 0.12066 -0.32116 C 0.12344 -0.33642 0.12396 -0.34983 0.13021 -0.36347 C 0.13542 -0.40624 0.14358 -0.44994 0.15556 -0.49017 C 0.15625 -0.49642 0.15729 -0.5089 0.15868 -0.51561 C 0.15955 -0.52 0.16077 -0.52416 0.16181 -0.52832 C 0.16233 -0.5304 0.16354 -0.53457 0.16354 -0.53457 C 0.16528 -0.5489 0.16736 -0.56347 0.17136 -0.57688 C 0.17361 -0.61503 0.17292 -0.59376 0.17292 -0.64046 E">
                                      <p:cBhvr>
                                        <p:cTn id="25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61 -0.01688 0.01007 -0.02821 0.0191 -0.04 C 0.02466 -0.0474 0.02848 -0.05711 0.03334 -0.06566 C 0.03907 -0.07561 0.04705 -0.08439 0.05243 -0.09503 C 0.06025 -0.11052 0.06719 -0.12624 0.07292 -0.14358 C 0.07639 -0.15422 0.07309 -0.14636 0.07622 -0.16046 C 0.079 -0.17318 0.07952 -0.16971 0.08403 -0.18173 C 0.08646 -0.18821 0.08733 -0.19422 0.09045 -0.20069 C 0.09184 -0.20832 0.09375 -0.21711 0.09688 -0.22381 C 0.10417 -0.23977 0.09532 -0.21202 0.10313 -0.23653 C 0.10625 -0.24647 0.10747 -0.25642 0.11111 -0.26613 C 0.11441 -0.28439 0.11736 -0.30289 0.12066 -0.32116 C 0.12344 -0.33642 0.12396 -0.34983 0.13021 -0.36347 C 0.13542 -0.40624 0.14358 -0.44994 0.15556 -0.49017 C 0.15625 -0.49642 0.15729 -0.5089 0.15868 -0.51561 C 0.15955 -0.52 0.16077 -0.52416 0.16181 -0.52832 C 0.16233 -0.5304 0.16354 -0.53457 0.16354 -0.53457 C 0.16528 -0.5489 0.16736 -0.56347 0.17136 -0.57688 C 0.17361 -0.61503 0.17292 -0.59376 0.17292 -0.64046 E">
                                      <p:cBhvr>
                                        <p:cTn id="25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521 -0.03538 0.0125 -0.06012 0.02222 -0.09295 C 0.02725 -0.11029 0.0309 -0.13041 0.04132 -0.14359 C 0.04271 -0.15538 0.04409 -0.16532 0.04913 -0.17526 C 0.0526 -0.19307 0.05677 -0.2111 0.0618 -0.22821 C 0.06337 -0.24 0.06458 -0.2437 0.06823 -0.25365 C 0.07153 -0.26266 0.07257 -0.27353 0.07465 -0.28324 C 0.07899 -0.30266 0.08073 -0.32347 0.08576 -0.34243 C 0.08906 -0.37758 0.09774 -0.41203 0.10469 -0.44602 C 0.10885 -0.46682 0.11076 -0.48902 0.1158 -0.50937 C 0.11857 -0.53411 0.12083 -0.55908 0.12534 -0.58336 C 0.12708 -0.64185 0.12691 -0.62012 0.12691 -0.64879 E">
                                      <p:cBhvr>
                                        <p:cTn id="26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521 -0.03538 0.0125 -0.06012 0.02222 -0.09295 C 0.02725 -0.11029 0.0309 -0.13041 0.04132 -0.14359 C 0.04271 -0.15538 0.04409 -0.16532 0.04913 -0.17526 C 0.0526 -0.19307 0.05677 -0.2111 0.0618 -0.22821 C 0.06337 -0.24 0.06458 -0.2437 0.06823 -0.25365 C 0.07153 -0.26266 0.07257 -0.27353 0.07465 -0.28324 C 0.07899 -0.30266 0.08073 -0.32347 0.08576 -0.34243 C 0.08906 -0.37758 0.09774 -0.41203 0.10469 -0.44602 C 0.10885 -0.46682 0.11076 -0.48902 0.1158 -0.50937 C 0.11857 -0.53411 0.12083 -0.55908 0.12534 -0.58336 C 0.12708 -0.64185 0.12691 -0.62012 0.12691 -0.64879 E">
                                      <p:cBhvr>
                                        <p:cTn id="262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87 -0.01781 0.00261 -0.05365 0.00469 -0.0696 C 0.00556 -0.07654 0.0092 -0.08232 0.01111 -0.08879 C 0.01337 -0.09665 0.01441 -0.10382 0.0191 -0.10983 C 0.0224 -0.12347 0.02657 -0.13758 0.03177 -0.15006 C 0.03299 -0.15307 0.03525 -0.15538 0.03646 -0.15839 C 0.04271 -0.17503 0.04792 -0.19261 0.054 -0.20925 C 0.05573 -0.21388 0.0632 -0.23538 0.06511 -0.23885 C 0.06719 -0.24301 0.07309 -0.24948 0.07309 -0.24948 C 0.07709 -0.27122 0.08039 -0.29318 0.0842 -0.31492 C 0.08629 -0.32694 0.08785 -0.33966 0.09202 -0.35076 C 0.09358 -0.37041 0.10139 -0.39307 0.10157 -0.41226 C 0.10209 -0.49249 0.10157 -0.57295 0.10157 -0.65318 E">
                                      <p:cBhvr>
                                        <p:cTn id="26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87 -0.01781 0.00261 -0.05365 0.00469 -0.0696 C 0.00556 -0.07654 0.0092 -0.08232 0.01111 -0.08879 C 0.01337 -0.09665 0.01441 -0.10382 0.0191 -0.10983 C 0.0224 -0.12347 0.02657 -0.13758 0.03177 -0.15006 C 0.03299 -0.15307 0.03525 -0.15538 0.03646 -0.15839 C 0.04271 -0.17503 0.04792 -0.19261 0.054 -0.20925 C 0.05573 -0.21388 0.0632 -0.23538 0.06511 -0.23885 C 0.06719 -0.24301 0.07309 -0.24948 0.07309 -0.24948 C 0.07709 -0.27122 0.08039 -0.29318 0.0842 -0.31492 C 0.08629 -0.32694 0.08785 -0.33966 0.09202 -0.35076 C 0.09358 -0.37041 0.10139 -0.39307 0.10157 -0.41226 C 0.10209 -0.49249 0.10157 -0.57295 0.10157 -0.65318 E">
                                      <p:cBhvr>
                                        <p:cTn id="26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1063 0.00052 -0.02127 0.00156 -0.03167 C 0.00208 -0.03745 0.00416 -0.04277 0.00468 -0.04855 C 0.00572 -0.06196 0.00538 -0.07537 0.00625 -0.08878 C 0.00711 -0.09988 0.01059 -0.11352 0.01267 -0.12462 C 0.01354 -0.12901 0.01579 -0.13734 0.01579 -0.13734 C 0.01788 -0.15953 0.02361 -0.18104 0.02691 -0.203 C 0.02951 -0.22011 0.03072 -0.23699 0.03489 -0.25364 C 0.03715 -0.28023 0.03715 -0.3119 0.046 -0.33618 C 0.04722 -0.35237 0.04826 -0.36739 0.05243 -0.38265 C 0.05451 -0.40023 0.05989 -0.41618 0.06354 -0.43329 C 0.06458 -0.44624 0.06961 -0.46127 0.06979 -0.47352 C 0.07031 -0.49757 0.06979 -0.52138 0.06979 -0.54543 E">
                                      <p:cBhvr>
                                        <p:cTn id="27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1063 0.00052 -0.02127 0.00156 -0.03167 C 0.00208 -0.03745 0.00416 -0.04277 0.00468 -0.04855 C 0.00572 -0.06196 0.00538 -0.07537 0.00625 -0.08878 C 0.00711 -0.09988 0.01059 -0.11352 0.01267 -0.12462 C 0.01354 -0.12901 0.01579 -0.13734 0.01579 -0.13734 C 0.01788 -0.15953 0.02361 -0.18104 0.02691 -0.203 C 0.02951 -0.22011 0.03072 -0.23699 0.03489 -0.25364 C 0.03715 -0.28023 0.03715 -0.3119 0.046 -0.33618 C 0.04722 -0.35237 0.04826 -0.36739 0.05243 -0.38265 C 0.05451 -0.40023 0.05989 -0.41618 0.06354 -0.43329 C 0.06458 -0.44624 0.06961 -0.46127 0.06979 -0.47352 C 0.07031 -0.49757 0.06979 -0.52138 0.06979 -0.54543 E">
                                      <p:cBhvr>
                                        <p:cTn id="274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树叶1"/>
          <p:cNvPicPr/>
          <p:nvPr/>
        </p:nvPicPr>
        <p:blipFill>
          <a:blip r:embed="rId2"/>
          <a:stretch/>
        </p:blipFill>
        <p:spPr>
          <a:xfrm>
            <a:off x="971640" y="5084640"/>
            <a:ext cx="1117440" cy="1233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树叶1"/>
          <p:cNvPicPr/>
          <p:nvPr/>
        </p:nvPicPr>
        <p:blipFill>
          <a:blip r:embed="rId3"/>
          <a:stretch/>
        </p:blipFill>
        <p:spPr>
          <a:xfrm>
            <a:off x="2195640" y="5084640"/>
            <a:ext cx="1117440" cy="123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树叶1"/>
          <p:cNvPicPr/>
          <p:nvPr/>
        </p:nvPicPr>
        <p:blipFill>
          <a:blip r:embed="rId4"/>
          <a:stretch/>
        </p:blipFill>
        <p:spPr>
          <a:xfrm>
            <a:off x="3564000" y="5157720"/>
            <a:ext cx="1117440" cy="123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树叶1"/>
          <p:cNvPicPr/>
          <p:nvPr/>
        </p:nvPicPr>
        <p:blipFill>
          <a:blip r:embed="rId5"/>
          <a:stretch/>
        </p:blipFill>
        <p:spPr>
          <a:xfrm>
            <a:off x="4932360" y="5157720"/>
            <a:ext cx="1117440" cy="1233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树叶1"/>
          <p:cNvPicPr/>
          <p:nvPr/>
        </p:nvPicPr>
        <p:blipFill>
          <a:blip r:embed="rId6"/>
          <a:stretch/>
        </p:blipFill>
        <p:spPr>
          <a:xfrm>
            <a:off x="6300720" y="5084640"/>
            <a:ext cx="1117800" cy="1233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树叶1"/>
          <p:cNvPicPr/>
          <p:nvPr/>
        </p:nvPicPr>
        <p:blipFill>
          <a:blip r:embed="rId7"/>
          <a:stretch/>
        </p:blipFill>
        <p:spPr>
          <a:xfrm>
            <a:off x="1763640" y="3789360"/>
            <a:ext cx="1117800" cy="1233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树叶1"/>
          <p:cNvPicPr/>
          <p:nvPr/>
        </p:nvPicPr>
        <p:blipFill>
          <a:blip r:embed="rId8"/>
          <a:stretch/>
        </p:blipFill>
        <p:spPr>
          <a:xfrm>
            <a:off x="3132000" y="3933720"/>
            <a:ext cx="1117800" cy="1233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树叶1"/>
          <p:cNvPicPr/>
          <p:nvPr/>
        </p:nvPicPr>
        <p:blipFill>
          <a:blip r:embed="rId9"/>
          <a:stretch/>
        </p:blipFill>
        <p:spPr>
          <a:xfrm>
            <a:off x="4500720" y="3860640"/>
            <a:ext cx="1117440" cy="1233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树叶1"/>
          <p:cNvPicPr/>
          <p:nvPr/>
        </p:nvPicPr>
        <p:blipFill>
          <a:blip r:embed="rId10"/>
          <a:stretch/>
        </p:blipFill>
        <p:spPr>
          <a:xfrm>
            <a:off x="5796000" y="3780000"/>
            <a:ext cx="1117440" cy="1233360"/>
          </a:xfrm>
          <a:prstGeom prst="rect">
            <a:avLst/>
          </a:prstGeom>
          <a:ln w="0">
            <a:noFill/>
          </a:ln>
        </p:spPr>
      </p:pic>
      <p:sp>
        <p:nvSpPr>
          <p:cNvPr id="179" name="WordArt 12"/>
          <p:cNvSpPr txBox="1"/>
          <p:nvPr/>
        </p:nvSpPr>
        <p:spPr>
          <a:xfrm>
            <a:off x="250920" y="620640"/>
            <a:ext cx="201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我会认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1979640" y="4076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慈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348000" y="422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祥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788000" y="4149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握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6084720" y="4076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蔼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1187280" y="5373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始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411280" y="5373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操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3780000" y="54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纵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5148360" y="54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44364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普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3564000" y="3141720"/>
            <a:ext cx="4103640" cy="21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你真棒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cover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1225 0.00417 -0.02497 0.00955 -0.03584 C 0.01389 -0.05942 0.00729 -0.03006 0.01598 -0.05063 C 0.01823 -0.05595 0.02414 -0.07653 0.02552 -0.08231 C 0.02778 -0.09133 0.02795 -0.10081 0.03021 -0.10983 C 0.03872 -0.14497 0.04827 -0.17919 0.05886 -0.21341 C 0.0625 -0.24347 0.0599 -0.23075 0.06511 -0.25179 C 0.06563 -0.25665 0.06563 -0.2615 0.06667 -0.26636 C 0.06841 -0.27491 0.07205 -0.28277 0.07309 -0.29156 C 0.07691 -0.32231 0.07361 -0.30913 0.08108 -0.33179 C 0.08386 -0.35468 0.08681 -0.37341 0.09219 -0.39514 C 0.09289 -0.45433 0.09532 -0.50566 0.09532 -0.56231 E">
                                      <p:cBhvr>
                                        <p:cTn id="28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1225 0.00417 -0.02497 0.00955 -0.03584 C 0.01389 -0.05942 0.00729 -0.03006 0.01598 -0.05063 C 0.01823 -0.05595 0.02414 -0.07653 0.02552 -0.08231 C 0.02778 -0.09133 0.02795 -0.10081 0.03021 -0.10983 C 0.03872 -0.14497 0.04827 -0.17919 0.05886 -0.21341 C 0.0625 -0.24347 0.0599 -0.23075 0.06511 -0.25179 C 0.06563 -0.25665 0.06563 -0.2615 0.06667 -0.26636 C 0.06841 -0.27491 0.07205 -0.28277 0.07309 -0.29156 C 0.07691 -0.32231 0.07361 -0.30913 0.08108 -0.33179 C 0.08386 -0.35468 0.08681 -0.37341 0.09219 -0.39514 C 0.09289 -0.45433 0.09532 -0.50566 0.09532 -0.56231 E">
                                      <p:cBhvr>
                                        <p:cTn id="290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42 -0.0259 0.00677 -0.05341 0.00955 -0.08023 C 0.01163 -0.09943 0.01597 -0.11792 0.01736 -0.13734 C 0.01736 -0.13758 0.01979 -0.1748 0.02066 -0.17966 C 0.02361 -0.19492 0.02916 -0.20856 0.03177 -0.22405 C 0.03472 -0.24162 0.03524 -0.25503 0.03646 -0.2726 C 0.03854 -0.36208 0.03107 -0.45573 0.04132 -0.54336 C 0.04184 -0.55677 0.04219 -0.56995 0.04288 -0.58336 C 0.04323 -0.58983 0.04375 -0.5963 0.04444 -0.60255 C 0.04479 -0.60463 0.04583 -0.61087 0.046 -0.60879 C 0.0467 -0.59908 0.046 -0.58914 0.046 -0.57919 E">
                                      <p:cBhvr>
                                        <p:cTn id="29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42 -0.0259 0.00677 -0.05341 0.00955 -0.08023 C 0.01163 -0.09943 0.01597 -0.11792 0.01736 -0.13734 C 0.01736 -0.13758 0.01979 -0.1748 0.02066 -0.17966 C 0.02361 -0.19492 0.02916 -0.20856 0.03177 -0.22405 C 0.03472 -0.24162 0.03524 -0.25503 0.03646 -0.2726 C 0.03854 -0.36208 0.03107 -0.45573 0.04132 -0.54336 C 0.04184 -0.55677 0.04219 -0.56995 0.04288 -0.58336 C 0.04323 -0.58983 0.04375 -0.5963 0.04444 -0.60255 C 0.04479 -0.60463 0.04583 -0.61087 0.046 -0.60879 C 0.0467 -0.59908 0.046 -0.58914 0.046 -0.57919 E">
                                      <p:cBhvr>
                                        <p:cTn id="29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3676 0.00104 -0.07329 0.00156 -0.11006 C 0.00209 -0.1452 0.00191 -0.18058 0.0033 -0.21572 C 0.00347 -0.22011 0.00643 -0.22844 0.00643 -0.22844 C 0.01007 -0.26381 0.01754 -0.29896 0.02222 -0.3341 C 0.02309 -0.34035 0.02709 -0.35098 0.02709 -0.35746 C 0.02761 -0.42867 0.02709 -0.49965 0.02709 -0.57087 E">
                                      <p:cBhvr>
                                        <p:cTn id="300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3676 0.00104 -0.07329 0.00156 -0.11006 C 0.00209 -0.1452 0.00191 -0.18058 0.0033 -0.21572 C 0.00347 -0.22011 0.00643 -0.22844 0.00643 -0.22844 C 0.01007 -0.26381 0.01754 -0.29896 0.02222 -0.3341 C 0.02309 -0.34035 0.02709 -0.35098 0.02709 -0.35746 C 0.02761 -0.42867 0.02709 -0.49965 0.02709 -0.57087 E">
                                      <p:cBhvr>
                                        <p:cTn id="30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6613 0.00069 -0.13248 0.00173 -0.19861 C 0.00191 -0.2104 0.00382 -0.21526 0.00642 -0.22613 C 0.00694 -0.22844 0.00798 -0.2326 0.00798 -0.2326 C 0.01701 -0.3304 0.01111 -0.44902 0.01111 -0.53688 E">
                                      <p:cBhvr>
                                        <p:cTn id="30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6613 0.00069 -0.13248 0.00173 -0.19861 C 0.00191 -0.2104 0.00382 -0.21526 0.00642 -0.22613 C 0.00694 -0.22844 0.00798 -0.2326 0.00798 -0.2326 C 0.01701 -0.3304 0.01111 -0.44902 0.01111 -0.53688 E">
                                      <p:cBhvr>
                                        <p:cTn id="30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4 -0.01109 0.0033 -0.02034 0.00799 -0.02959 C 0.01077 -0.04439 0.00851 -0.0356 0.01754 -0.05479 C 0.01858 -0.05688 0.02066 -0.06127 0.02066 -0.06127 C 0.02101 -0.06289 0.02292 -0.07399 0.02379 -0.07607 C 0.0257 -0.08046 0.03021 -0.08878 0.03021 -0.08878 C 0.03264 -0.09849 0.03403 -0.10844 0.03646 -0.11838 C 0.03698 -0.12046 0.03803 -0.12462 0.03803 -0.12462 C 0.03994 -0.14266 0.04306 -0.16 0.04601 -0.17757 C 0.04896 -0.19537 0.05018 -0.21248 0.05712 -0.2282 C 0.05869 -0.24948 0.06112 -0.27029 0.06823 -0.28948 C 0.06928 -0.29873 0.06962 -0.30797 0.07136 -0.31699 C 0.08056 -0.36323 0.07535 -0.3237 0.08091 -0.3593 C 0.08351 -0.37572 0.08455 -0.38982 0.08889 -0.40578 C 0.09341 -0.55005 0.09046 -0.43953 0.09046 -0.73757 E">
                                      <p:cBhvr>
                                        <p:cTn id="31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4 -0.01109 0.0033 -0.02034 0.00799 -0.02959 C 0.01077 -0.04439 0.00851 -0.0356 0.01754 -0.05479 C 0.01858 -0.05688 0.02066 -0.06127 0.02066 -0.06127 C 0.02101 -0.06289 0.02292 -0.07399 0.02379 -0.07607 C 0.0257 -0.08046 0.03021 -0.08878 0.03021 -0.08878 C 0.03264 -0.09849 0.03403 -0.10844 0.03646 -0.11838 C 0.03698 -0.12046 0.03803 -0.12462 0.03803 -0.12462 C 0.03994 -0.14266 0.04306 -0.16 0.04601 -0.17757 C 0.04896 -0.19537 0.05018 -0.21248 0.05712 -0.2282 C 0.05869 -0.24948 0.06112 -0.27029 0.06823 -0.28948 C 0.06928 -0.29873 0.06962 -0.30797 0.07136 -0.31699 C 0.08056 -0.36323 0.07535 -0.3237 0.08091 -0.3593 C 0.08351 -0.37572 0.08455 -0.38982 0.08889 -0.40578 C 0.09341 -0.55005 0.09046 -0.43953 0.09046 -0.73757 E">
                                      <p:cBhvr>
                                        <p:cTn id="31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0209 0.00052 -0.00463 0.00173 -0.00625 C 0.0033 -0.0081 0.01493 -0.01411 0.01597 -0.0148 C 0.02118 -0.01827 0.02639 -0.02174 0.03177 -0.02521 C 0.03889 -0.03769 0.04844 -0.04024 0.05555 -0.05064 C 0.0651 -0.06474 0.07344 -0.0807 0.08264 -0.09503 C 0.08993 -0.10636 0.08142 -0.09573 0.08889 -0.10983 C 0.09028 -0.11237 0.09236 -0.11376 0.09375 -0.11607 C 0.09878 -0.12463 0.10295 -0.1348 0.10798 -0.14359 C 0.11076 -0.14844 0.11753 -0.1563 0.11753 -0.1563 C 0.1243 -0.17943 0.1158 -0.15607 0.12708 -0.17318 C 0.12916 -0.17619 0.13003 -0.18058 0.13177 -0.18382 C 0.13576 -0.19099 0.14028 -0.19792 0.14444 -0.20486 C 0.14774 -0.21041 0.14826 -0.21781 0.15087 -0.22405 C 0.16024 -0.24694 0.16771 -0.27122 0.17778 -0.29365 C 0.18472 -0.3281 0.20191 -0.35862 0.21284 -0.39099 C 0.21962 -0.4111 0.2283 -0.43006 0.23507 -0.45018 C 0.23732 -0.45688 0.23732 -0.46474 0.23975 -0.47122 C 0.2408 -0.47399 0.24305 -0.47515 0.24444 -0.47769 C 0.24913 -0.48648 0.24896 -0.49873 0.25399 -0.50729 C 0.26007 -0.51769 0.25746 -0.51261 0.26198 -0.52209 C 0.26337 -0.52995 0.26371 -0.53827 0.26666 -0.54521 C 0.26857 -0.5496 0.27309 -0.55792 0.27309 -0.55792 C 0.27673 -0.58313 0.2842 -0.60833 0.2842 -0.63399 E">
                                      <p:cBhvr>
                                        <p:cTn id="31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0209 0.00052 -0.00463 0.00173 -0.00625 C 0.0033 -0.0081 0.01493 -0.01411 0.01597 -0.0148 C 0.02118 -0.01827 0.02639 -0.02174 0.03177 -0.02521 C 0.03889 -0.03769 0.04844 -0.04024 0.05555 -0.05064 C 0.0651 -0.06474 0.07344 -0.0807 0.08264 -0.09503 C 0.08993 -0.10636 0.08142 -0.09573 0.08889 -0.10983 C 0.09028 -0.11237 0.09236 -0.11376 0.09375 -0.11607 C 0.09878 -0.12463 0.10295 -0.1348 0.10798 -0.14359 C 0.11076 -0.14844 0.11753 -0.1563 0.11753 -0.1563 C 0.1243 -0.17943 0.1158 -0.15607 0.12708 -0.17318 C 0.12916 -0.17619 0.13003 -0.18058 0.13177 -0.18382 C 0.13576 -0.19099 0.14028 -0.19792 0.14444 -0.20486 C 0.14774 -0.21041 0.14826 -0.21781 0.15087 -0.22405 C 0.16024 -0.24694 0.16771 -0.27122 0.17778 -0.29365 C 0.18472 -0.3281 0.20191 -0.35862 0.21284 -0.39099 C 0.21962 -0.4111 0.2283 -0.43006 0.23507 -0.45018 C 0.23732 -0.45688 0.23732 -0.46474 0.23975 -0.47122 C 0.2408 -0.47399 0.24305 -0.47515 0.24444 -0.47769 C 0.24913 -0.48648 0.24896 -0.49873 0.25399 -0.50729 C 0.26007 -0.51769 0.25746 -0.51261 0.26198 -0.52209 C 0.26337 -0.52995 0.26371 -0.53827 0.26666 -0.54521 C 0.26857 -0.5496 0.27309 -0.55792 0.27309 -0.55792 C 0.27673 -0.58313 0.2842 -0.60833 0.2842 -0.63399 E">
                                      <p:cBhvr>
                                        <p:cTn id="32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73 -0.01248 0.00469 -0.00809 0.01424 -0.01479 C 0.01962 -0.02404 0.02466 -0.03098 0.03177 -0.03792 C 0.03594 -0.04925 0.04184 -0.05757 0.04757 -0.06751 C 0.05018 -0.07815 0.05677 -0.07792 0.06354 -0.08439 C 0.06893 -0.08948 0.07743 -0.09873 0.08091 -0.10566 C 0.08733 -0.11838 0.09393 -0.1304 0.1 -0.14358 C 0.10157 -0.14705 0.10243 -0.15121 0.10469 -0.15422 C 0.11511 -0.16809 0.12309 -0.18728 0.13021 -0.20485 C 0.13785 -0.22358 0.14271 -0.24531 0.15243 -0.26196 C 0.15521 -0.28046 0.16111 -0.29456 0.16823 -0.31075 C 0.17014 -0.32323 0.17275 -0.32555 0.17778 -0.33595 C 0.18091 -0.34242 0.18299 -0.35052 0.18577 -0.35722 C 0.19028 -0.36809 0.19202 -0.38034 0.19844 -0.3889 C 0.20052 -0.40023 0.20591 -0.4074 0.21111 -0.41641 C 0.21667 -0.42589 0.22101 -0.43491 0.22691 -0.44393 C 0.23143 -0.45086 0.23316 -0.46057 0.23802 -0.46705 C 0.23993 -0.46959 0.24271 -0.47075 0.24445 -0.47352 C 0.2507 -0.483 0.24983 -0.48531 0.254 -0.49456 C 0.25591 -0.49896 0.25747 -0.50381 0.26025 -0.50728 C 0.26129 -0.50867 0.26268 -0.50982 0.26354 -0.51144 C 0.26754 -0.51815 0.2691 -0.52578 0.27292 -0.53271 C 0.27466 -0.54566 0.27865 -0.55907 0.28733 -0.56647 C 0.28941 -0.57803 0.29098 -0.57595 0.29688 -0.58335 C 0.2974 -0.58543 0.29844 -0.58959 0.29844 -0.58959 E">
                                      <p:cBhvr>
                                        <p:cTn id="32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73 -0.01248 0.00469 -0.00809 0.01424 -0.01479 C 0.01962 -0.02404 0.02466 -0.03098 0.03177 -0.03792 C 0.03594 -0.04925 0.04184 -0.05757 0.04757 -0.06751 C 0.05018 -0.07815 0.05677 -0.07792 0.06354 -0.08439 C 0.06893 -0.08948 0.07743 -0.09873 0.08091 -0.10566 C 0.08733 -0.11838 0.09393 -0.1304 0.1 -0.14358 C 0.10157 -0.14705 0.10243 -0.15121 0.10469 -0.15422 C 0.11511 -0.16809 0.12309 -0.18728 0.13021 -0.20485 C 0.13785 -0.22358 0.14271 -0.24531 0.15243 -0.26196 C 0.15521 -0.28046 0.16111 -0.29456 0.16823 -0.31075 C 0.17014 -0.32323 0.17275 -0.32555 0.17778 -0.33595 C 0.18091 -0.34242 0.18299 -0.35052 0.18577 -0.35722 C 0.19028 -0.36809 0.19202 -0.38034 0.19844 -0.3889 C 0.20052 -0.40023 0.20591 -0.4074 0.21111 -0.41641 C 0.21667 -0.42589 0.22101 -0.43491 0.22691 -0.44393 C 0.23143 -0.45086 0.23316 -0.46057 0.23802 -0.46705 C 0.23993 -0.46959 0.24271 -0.47075 0.24445 -0.47352 C 0.2507 -0.483 0.24983 -0.48531 0.254 -0.49456 C 0.25591 -0.49896 0.25747 -0.50381 0.26025 -0.50728 C 0.26129 -0.50867 0.26268 -0.50982 0.26354 -0.51144 C 0.26754 -0.51815 0.2691 -0.52578 0.27292 -0.53271 C 0.27466 -0.54566 0.27865 -0.55907 0.28733 -0.56647 C 0.28941 -0.57803 0.29098 -0.57595 0.29688 -0.58335 C 0.2974 -0.58543 0.29844 -0.58959 0.29844 -0.58959 E">
                                      <p:cBhvr>
                                        <p:cTn id="326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08 -0.00809 0.01129 -0.01711 0.01736 -0.0252 C 0.02778 -0.03908 0.04063 -0.04948 0.05226 -0.06127 C 0.07327 -0.08254 0.05434 -0.06705 0.07136 -0.08023 C 0.07882 -0.09202 0.08351 -0.10405 0.09046 -0.1163 C 0.1066 -0.14474 0.08941 -0.10497 0.10782 -0.1415 C 0.11042 -0.14682 0.11164 -0.15306 0.11424 -0.15838 C 0.12292 -0.17549 0.13351 -0.19052 0.14271 -0.20717 C 0.14549 -0.21225 0.14636 -0.21896 0.14914 -0.22405 C 0.15278 -0.23098 0.15834 -0.23584 0.16181 -0.24301 C 0.16736 -0.25434 0.17136 -0.26705 0.17605 -0.27908 C 0.18368 -0.29873 0.19948 -0.31168 0.20625 -0.33179 C 0.21702 -0.3637 0.23091 -0.39329 0.24271 -0.42474 C 0.24653 -0.44832 0.24132 -0.42312 0.24914 -0.44393 C 0.25504 -0.45988 0.25921 -0.47353 0.26667 -0.48832 C 0.26893 -0.50613 0.27275 -0.52324 0.27605 -0.54104 C 0.27969 -0.56092 0.27605 -0.58197 0.27605 -0.60231 E">
                                      <p:cBhvr>
                                        <p:cTn id="33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08 -0.00809 0.01129 -0.01711 0.01736 -0.0252 C 0.02778 -0.03908 0.04063 -0.04948 0.05226 -0.06127 C 0.07327 -0.08254 0.05434 -0.06705 0.07136 -0.08023 C 0.07882 -0.09202 0.08351 -0.10405 0.09046 -0.1163 C 0.1066 -0.14474 0.08941 -0.10497 0.10782 -0.1415 C 0.11042 -0.14682 0.11164 -0.15306 0.11424 -0.15838 C 0.12292 -0.17549 0.13351 -0.19052 0.14271 -0.20717 C 0.14549 -0.21225 0.14636 -0.21896 0.14914 -0.22405 C 0.15278 -0.23098 0.15834 -0.23584 0.16181 -0.24301 C 0.16736 -0.25434 0.17136 -0.26705 0.17605 -0.27908 C 0.18368 -0.29873 0.19948 -0.31168 0.20625 -0.33179 C 0.21702 -0.3637 0.23091 -0.39329 0.24271 -0.42474 C 0.24653 -0.44832 0.24132 -0.42312 0.24914 -0.44393 C 0.25504 -0.45988 0.25921 -0.47353 0.26667 -0.48832 C 0.26893 -0.50613 0.27275 -0.52324 0.27605 -0.54104 C 0.27969 -0.56092 0.27605 -0.58197 0.27605 -0.60231 E">
                                      <p:cBhvr>
                                        <p:cTn id="332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1202 0.01007 -0.02359 0.01598 -0.03376 C 0.01893 -0.04601 0.03316 -0.06312 0.03976 -0.07191 C 0.04132 -0.07399 0.04341 -0.07561 0.04445 -0.07815 C 0.04914 -0.09018 0.05348 -0.1022 0.06198 -0.10983 C 0.06789 -0.12208 0.07327 -0.13341 0.08108 -0.14382 C 0.08612 -0.1607 0.09862 -0.17133 0.10487 -0.18821 C 0.11493 -0.21526 0.12396 -0.24324 0.13664 -0.26844 C 0.14323 -0.29989 0.1566 -0.32786 0.16667 -0.35723 C 0.17362 -0.37734 0.17344 -0.40116 0.18108 -0.42058 C 0.18334 -0.4363 0.18507 -0.45295 0.19063 -0.46729 C 0.19428 -0.49156 0.19983 -0.51468 0.2033 -0.53896 C 0.204 -0.54335 0.20608 -0.54729 0.20643 -0.55168 C 0.20712 -0.5637 0.20643 -0.57572 0.20643 -0.58775 E">
                                      <p:cBhvr>
                                        <p:cTn id="33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1202 0.01007 -0.02359 0.01598 -0.03376 C 0.01893 -0.04601 0.03316 -0.06312 0.03976 -0.07191 C 0.04132 -0.07399 0.04341 -0.07561 0.04445 -0.07815 C 0.04914 -0.09018 0.05348 -0.1022 0.06198 -0.10983 C 0.06789 -0.12208 0.07327 -0.13341 0.08108 -0.14382 C 0.08612 -0.1607 0.09862 -0.17133 0.10487 -0.18821 C 0.11493 -0.21526 0.12396 -0.24324 0.13664 -0.26844 C 0.14323 -0.29989 0.1566 -0.32786 0.16667 -0.35723 C 0.17362 -0.37734 0.17344 -0.40116 0.18108 -0.42058 C 0.18334 -0.4363 0.18507 -0.45295 0.19063 -0.46729 C 0.19428 -0.49156 0.19983 -0.51468 0.2033 -0.53896 C 0.204 -0.54335 0.20608 -0.54729 0.20643 -0.55168 C 0.20712 -0.5637 0.20643 -0.57572 0.20643 -0.58775 E">
                                      <p:cBhvr>
                                        <p:cTn id="33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树叶1"/>
          <p:cNvPicPr/>
          <p:nvPr/>
        </p:nvPicPr>
        <p:blipFill>
          <a:blip r:embed="rId2"/>
          <a:stretch/>
        </p:blipFill>
        <p:spPr>
          <a:xfrm>
            <a:off x="1187280" y="5084640"/>
            <a:ext cx="1117800" cy="1233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树叶1"/>
          <p:cNvPicPr/>
          <p:nvPr/>
        </p:nvPicPr>
        <p:blipFill>
          <a:blip r:embed="rId3"/>
          <a:stretch/>
        </p:blipFill>
        <p:spPr>
          <a:xfrm>
            <a:off x="2771640" y="5157720"/>
            <a:ext cx="1117800" cy="1233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树叶1"/>
          <p:cNvPicPr/>
          <p:nvPr/>
        </p:nvPicPr>
        <p:blipFill>
          <a:blip r:embed="rId4"/>
          <a:stretch/>
        </p:blipFill>
        <p:spPr>
          <a:xfrm>
            <a:off x="4716360" y="5300640"/>
            <a:ext cx="1117800" cy="1233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树叶1"/>
          <p:cNvPicPr/>
          <p:nvPr/>
        </p:nvPicPr>
        <p:blipFill>
          <a:blip r:embed="rId5"/>
          <a:stretch/>
        </p:blipFill>
        <p:spPr>
          <a:xfrm>
            <a:off x="6732720" y="5229360"/>
            <a:ext cx="1117440" cy="1233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树叶1"/>
          <p:cNvPicPr/>
          <p:nvPr/>
        </p:nvPicPr>
        <p:blipFill>
          <a:blip r:embed="rId6"/>
          <a:stretch/>
        </p:blipFill>
        <p:spPr>
          <a:xfrm>
            <a:off x="2484360" y="3716280"/>
            <a:ext cx="1117800" cy="1233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树叶1"/>
          <p:cNvPicPr/>
          <p:nvPr/>
        </p:nvPicPr>
        <p:blipFill>
          <a:blip r:embed="rId7"/>
          <a:stretch/>
        </p:blipFill>
        <p:spPr>
          <a:xfrm>
            <a:off x="4284720" y="3789360"/>
            <a:ext cx="1117440" cy="1233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树叶1"/>
          <p:cNvPicPr/>
          <p:nvPr/>
        </p:nvPicPr>
        <p:blipFill>
          <a:blip r:embed="rId8"/>
          <a:stretch/>
        </p:blipFill>
        <p:spPr>
          <a:xfrm>
            <a:off x="5867280" y="3780000"/>
            <a:ext cx="1117800" cy="1233360"/>
          </a:xfrm>
          <a:prstGeom prst="rect">
            <a:avLst/>
          </a:prstGeom>
          <a:ln w="0">
            <a:noFill/>
          </a:ln>
        </p:spPr>
      </p:pic>
      <p:sp>
        <p:nvSpPr>
          <p:cNvPr id="197" name="WordArt 11"/>
          <p:cNvSpPr txBox="1"/>
          <p:nvPr/>
        </p:nvSpPr>
        <p:spPr>
          <a:xfrm>
            <a:off x="250920" y="620640"/>
            <a:ext cx="201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我会认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2700360" y="4005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抓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4500720" y="4076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奋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6084720" y="4005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灿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332000" y="537372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肩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916360" y="5445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4932360" y="5589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责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6948360" y="558972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任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WordArt 20"/>
          <p:cNvSpPr txBox="1"/>
          <p:nvPr/>
        </p:nvSpPr>
        <p:spPr>
          <a:xfrm>
            <a:off x="3564000" y="2637000"/>
            <a:ext cx="3744720" cy="26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你真棒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04 -0.00555 0.00156 -0.01156 0.00313 -0.01688 C 0.00504 -0.02358 0.00903 -0.02913 0.01111 -0.03584 C 0.01233 -0.04 0.01233 -0.04485 0.01424 -0.04855 C 0.01632 -0.05271 0.02066 -0.06127 0.02066 -0.06127 C 0.02674 -0.08624 0.02934 -0.11352 0.03802 -0.13734 C 0.03941 -0.14659 0.04115 -0.1556 0.04288 -0.16485 C 0.04514 -0.19191 0.04879 -0.21849 0.05243 -0.24508 C 0.0566 -0.27607 0.05781 -0.30659 0.06667 -0.33595 C 0.06788 -0.3748 0.06684 -0.41688 0.07622 -0.45433 C 0.07761 -0.47052 0.07761 -0.48693 0.07934 -0.50312 C 0.07986 -0.50751 0.08247 -0.51584 0.08247 -0.51584 C 0.08351 -0.52624 0.08576 -0.53526 0.08576 -0.54543 E">
                                      <p:cBhvr>
                                        <p:cTn id="352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04 -0.00555 0.00156 -0.01156 0.00313 -0.01688 C 0.00504 -0.02358 0.00903 -0.02913 0.01111 -0.03584 C 0.01233 -0.04 0.01233 -0.04485 0.01424 -0.04855 C 0.01632 -0.05271 0.02066 -0.06127 0.02066 -0.06127 C 0.02674 -0.08624 0.02934 -0.11352 0.03802 -0.13734 C 0.03941 -0.14659 0.04115 -0.1556 0.04288 -0.16485 C 0.04514 -0.19191 0.04879 -0.21849 0.05243 -0.24508 C 0.0566 -0.27607 0.05781 -0.30659 0.06667 -0.33595 C 0.06788 -0.3748 0.06684 -0.41688 0.07622 -0.45433 C 0.07761 -0.47052 0.07761 -0.48693 0.07934 -0.50312 C 0.07986 -0.50751 0.08247 -0.51584 0.08247 -0.51584 C 0.08351 -0.52624 0.08576 -0.53526 0.08576 -0.54543 E">
                                      <p:cBhvr>
                                        <p:cTn id="35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-0.01688 0.00382 -0.02705 0.00643 -0.04231 C 0.00695 -0.04578 0.00747 -0.04948 0.00799 -0.05295 C 0.00903 -0.0585 0.01111 -0.06983 0.01111 -0.06983 C 0.01389 -0.11075 0.01163 -0.15191 0.02379 -0.19029 C 0.029 -0.24648 0.02292 -0.30336 0.02865 -0.35931 C 0.02917 -0.37827 0.029 -0.39746 0.03021 -0.41642 C 0.03091 -0.42659 0.0349 -0.43607 0.03646 -0.44601 C 0.03941 -0.46474 0.03768 -0.47769 0.05087 -0.48625 C 0.05469 -0.49411 0.05486 -0.50174 0.05868 -0.5096 C 0.0625 -0.52948 0.06007 -0.52139 0.06511 -0.5348 C 0.06597 -0.53966 0.06823 -0.54659 0.06823 -0.55168 E">
                                      <p:cBhvr>
                                        <p:cTn id="358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-0.01688 0.00382 -0.02705 0.00643 -0.04231 C 0.00695 -0.04578 0.00747 -0.04948 0.00799 -0.05295 C 0.00903 -0.0585 0.01111 -0.06983 0.01111 -0.06983 C 0.01389 -0.11075 0.01163 -0.15191 0.02379 -0.19029 C 0.029 -0.24648 0.02292 -0.30336 0.02865 -0.35931 C 0.02917 -0.37827 0.029 -0.39746 0.03021 -0.41642 C 0.03091 -0.42659 0.0349 -0.43607 0.03646 -0.44601 C 0.03941 -0.46474 0.03768 -0.47769 0.05087 -0.48625 C 0.05469 -0.49411 0.05486 -0.50174 0.05868 -0.5096 C 0.0625 -0.52948 0.06007 -0.52139 0.06511 -0.5348 C 0.06597 -0.53966 0.06823 -0.54659 0.06823 -0.55168 E">
                                      <p:cBhvr>
                                        <p:cTn id="36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8 -0.05711 0.00868 -0.11537 0.01892 -0.1711 C 0.02083 -0.20693 0.0177 -0.24347 0.0269 -0.27699 C 0.02743 -0.28254 0.02743 -0.28832 0.02847 -0.29387 C 0.02951 -0.29965 0.03246 -0.30497 0.03333 -0.31075 C 0.03454 -0.31838 0.03385 -0.32624 0.03489 -0.33387 C 0.03541 -0.33826 0.03715 -0.3422 0.03802 -0.34659 C 0.03871 -0.34936 0.03923 -0.35214 0.03958 -0.35514 C 0.04097 -0.36717 0.04184 -0.37387 0.04444 -0.38474 C 0.04444 -0.38636 0.04687 -0.49433 0.04756 -0.50312 C 0.04809 -0.51029 0.05069 -0.51722 0.05225 -0.52416 C 0.05329 -0.52855 0.05555 -0.53688 0.05555 -0.53688 E">
                                      <p:cBhvr>
                                        <p:cTn id="364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8 -0.05711 0.00868 -0.11537 0.01892 -0.1711 C 0.02083 -0.20693 0.0177 -0.24347 0.0269 -0.27699 C 0.02743 -0.28254 0.02743 -0.28832 0.02847 -0.29387 C 0.02951 -0.29965 0.03246 -0.30497 0.03333 -0.31075 C 0.03454 -0.31838 0.03385 -0.32624 0.03489 -0.33387 C 0.03541 -0.33826 0.03715 -0.3422 0.03802 -0.34659 C 0.03871 -0.34936 0.03923 -0.35214 0.03958 -0.35514 C 0.04097 -0.36717 0.04184 -0.37387 0.04444 -0.38474 C 0.04444 -0.38636 0.04687 -0.49433 0.04756 -0.50312 C 0.04809 -0.51029 0.05069 -0.51722 0.05225 -0.52416 C 0.05329 -0.52855 0.05555 -0.53688 0.05555 -0.53688 E">
                                      <p:cBhvr>
                                        <p:cTn id="366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8 -0.00925 0.00816 -0.01503 0.01268 -0.02336 C 0.01511 -0.02798 0.01563 -0.03446 0.01893 -0.03815 C 0.02986 -0.05018 0.04219 -0.05365 0.0507 -0.06983 C 0.05486 -0.07792 0.05816 -0.08671 0.06181 -0.09526 C 0.0658 -0.10428 0.07448 -0.10798 0.07934 -0.11631 C 0.09219 -0.13827 0.1007 -0.16232 0.11111 -0.18613 C 0.11459 -0.20209 0.11945 -0.22012 0.12535 -0.23469 C 0.12691 -0.23862 0.13004 -0.24139 0.13177 -0.24532 C 0.14236 -0.26821 0.1474 -0.2948 0.15868 -0.31723 C 0.16233 -0.35237 0.15625 -0.31538 0.16667 -0.34035 C 0.17118 -0.35122 0.17361 -0.36324 0.17778 -0.37434 C 0.17952 -0.38613 0.18438 -0.39261 0.18733 -0.40394 C 0.19011 -0.4148 0.19167 -0.42729 0.19514 -0.43769 C 0.19636 -0.44139 0.19861 -0.44463 0.2 -0.44833 C 0.20382 -0.45827 0.20521 -0.46937 0.20782 -0.48 C 0.20712 -0.51538 0.21268 -0.53781 0.20313 -0.56463 E">
                                      <p:cBhvr>
                                        <p:cTn id="37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48 -0.00925 0.00816 -0.01503 0.01268 -0.02336 C 0.01511 -0.02798 0.01563 -0.03446 0.01893 -0.03815 C 0.02986 -0.05018 0.04219 -0.05365 0.0507 -0.06983 C 0.05486 -0.07792 0.05816 -0.08671 0.06181 -0.09526 C 0.0658 -0.10428 0.07448 -0.10798 0.07934 -0.11631 C 0.09219 -0.13827 0.1007 -0.16232 0.11111 -0.18613 C 0.11459 -0.20209 0.11945 -0.22012 0.12535 -0.23469 C 0.12691 -0.23862 0.13004 -0.24139 0.13177 -0.24532 C 0.14236 -0.26821 0.1474 -0.2948 0.15868 -0.31723 C 0.16233 -0.35237 0.15625 -0.31538 0.16667 -0.34035 C 0.17118 -0.35122 0.17361 -0.36324 0.17778 -0.37434 C 0.17952 -0.38613 0.18438 -0.39261 0.18733 -0.40394 C 0.19011 -0.4148 0.19167 -0.42729 0.19514 -0.43769 C 0.19636 -0.44139 0.19861 -0.44463 0.2 -0.44833 C 0.20382 -0.45827 0.20521 -0.46937 0.20782 -0.48 C 0.20712 -0.51538 0.21268 -0.53781 0.20313 -0.56463 E">
                                      <p:cBhvr>
                                        <p:cTn id="37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049 -0.01203 0.03959 -0.02798 0.0573 -0.04648 C 0.0658 -0.06567 0.08004 -0.09203 0.09219 -0.10775 C 0.09428 -0.11492 0.09497 -0.12301 0.09844 -0.12902 C 0.1 -0.13179 0.10209 -0.13434 0.1033 -0.13734 C 0.11493 -0.16486 0.09879 -0.13133 0.10799 -0.15862 C 0.10903 -0.16185 0.11164 -0.1637 0.11285 -0.16694 C 0.11546 -0.17364 0.11563 -0.1822 0.1191 -0.18821 C 0.1257 -0.19954 0.12292 -0.1933 0.12709 -0.20717 C 0.13004 -0.23052 0.13664 -0.23353 0.14289 -0.25364 C 0.14688 -0.26636 0.14914 -0.28185 0.154 -0.29388 C 0.16389 -0.31815 0.15782 -0.28902 0.16511 -0.31931 C 0.16702 -0.32763 0.16823 -0.33619 0.16997 -0.34451 C 0.17084 -0.3489 0.17205 -0.35307 0.17309 -0.35723 C 0.17709 -0.4007 0.17118 -0.34659 0.17952 -0.39122 C 0.18681 -0.43006 0.17448 -0.38705 0.18577 -0.42289 C 0.18924 -0.4511 0.18716 -0.43977 0.19063 -0.45665 C 0.19167 -0.46844 0.1915 -0.47214 0.19375 -0.48208 C 0.19462 -0.48648 0.19688 -0.4948 0.19688 -0.4948 C 0.2 -0.52416 0.19844 -0.50451 0.19844 -0.55399 E">
                                      <p:cBhvr>
                                        <p:cTn id="37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049 -0.01203 0.03959 -0.02798 0.0573 -0.04648 C 0.0658 -0.06567 0.08004 -0.09203 0.09219 -0.10775 C 0.09428 -0.11492 0.09497 -0.12301 0.09844 -0.12902 C 0.1 -0.13179 0.10209 -0.13434 0.1033 -0.13734 C 0.11493 -0.16486 0.09879 -0.13133 0.10799 -0.15862 C 0.10903 -0.16185 0.11164 -0.1637 0.11285 -0.16694 C 0.11546 -0.17364 0.11563 -0.1822 0.1191 -0.18821 C 0.1257 -0.19954 0.12292 -0.1933 0.12709 -0.20717 C 0.13004 -0.23052 0.13664 -0.23353 0.14289 -0.25364 C 0.14688 -0.26636 0.14914 -0.28185 0.154 -0.29388 C 0.16389 -0.31815 0.15782 -0.28902 0.16511 -0.31931 C 0.16702 -0.32763 0.16823 -0.33619 0.16997 -0.34451 C 0.17084 -0.3489 0.17205 -0.35307 0.17309 -0.35723 C 0.17709 -0.4007 0.17118 -0.34659 0.17952 -0.39122 C 0.18681 -0.43006 0.17448 -0.38705 0.18577 -0.42289 C 0.18924 -0.4511 0.18716 -0.43977 0.19063 -0.45665 C 0.19167 -0.46844 0.1915 -0.47214 0.19375 -0.48208 C 0.19462 -0.48648 0.19688 -0.4948 0.19688 -0.4948 C 0.2 -0.52416 0.19844 -0.50451 0.19844 -0.55399 E">
                                      <p:cBhvr>
                                        <p:cTn id="37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43 -0.01271 0.0092 -0.02705 0.01597 -0.04023 C 0.01649 -0.04369 0.01649 -0.04763 0.01754 -0.05086 C 0.0191 -0.05549 0.02379 -0.06335 0.02379 -0.06335 C 0.02587 -0.07583 0.02882 -0.07815 0.03334 -0.08878 C 0.03768 -0.09895 0.04167 -0.11144 0.04445 -0.12254 C 0.04809 -0.13734 0.04774 -0.15121 0.05399 -0.16485 C 0.05452 -0.16901 0.05469 -0.17341 0.05556 -0.17757 C 0.05729 -0.18612 0.06198 -0.203 0.06198 -0.203 C 0.06528 -0.23768 0.06077 -0.20277 0.06823 -0.23468 C 0.07344 -0.25664 0.07257 -0.27884 0.07934 -0.30011 C 0.0809 -0.32369 0.08108 -0.34658 0.08889 -0.36786 C 0.09011 -0.40184 0.09236 -0.43398 0.09688 -0.46728 C 0.09792 -0.48369 0.09879 -0.50173 0.10156 -0.51791 C 0.10643 -0.54566 0.11268 -0.56947 0.11268 -0.59838 E">
                                      <p:cBhvr>
                                        <p:cTn id="382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43 -0.01271 0.0092 -0.02705 0.01597 -0.04023 C 0.01649 -0.04369 0.01649 -0.04763 0.01754 -0.05086 C 0.0191 -0.05549 0.02379 -0.06335 0.02379 -0.06335 C 0.02587 -0.07583 0.02882 -0.07815 0.03334 -0.08878 C 0.03768 -0.09895 0.04167 -0.11144 0.04445 -0.12254 C 0.04809 -0.13734 0.04774 -0.15121 0.05399 -0.16485 C 0.05452 -0.16901 0.05469 -0.17341 0.05556 -0.17757 C 0.05729 -0.18612 0.06198 -0.203 0.06198 -0.203 C 0.06528 -0.23768 0.06077 -0.20277 0.06823 -0.23468 C 0.07344 -0.25664 0.07257 -0.27884 0.07934 -0.30011 C 0.0809 -0.32369 0.08108 -0.34658 0.08889 -0.36786 C 0.09011 -0.40184 0.09236 -0.43398 0.09688 -0.46728 C 0.09792 -0.48369 0.09879 -0.50173 0.10156 -0.51791 C 0.10643 -0.54566 0.11268 -0.56947 0.11268 -0.59838 E">
                                      <p:cBhvr>
                                        <p:cTn id="38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0346 0.00052 -0.00716 0.00157 -0.01063 C 0.0033 -0.01641 0.00799 -0.02751 0.00799 -0.02751 C 0.00851 -0.03745 0.00851 -0.04739 0.00955 -0.0571 C 0.01146 -0.07421 0.01684 -0.09225 0.0191 -0.11005 C 0.02014 -0.14104 0.02153 -0.1704 0.02379 -0.20092 C 0.02483 -0.2763 0.02604 -0.35167 0.02709 -0.42705 C 0.02761 -0.46196 0.02639 -0.45271 0.03334 -0.47768 C 0.03542 -0.50104 0.03802 -0.52161 0.04445 -0.54335 C 0.0467 -0.56809 0.04514 -0.55468 0.04931 -0.58358 C 0.05018 -0.58936 0.05243 -0.59445 0.05243 -0.60046 E">
                                      <p:cBhvr>
                                        <p:cTn id="388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0346 0.00052 -0.00716 0.00157 -0.01063 C 0.0033 -0.01641 0.00799 -0.02751 0.00799 -0.02751 C 0.00851 -0.03745 0.00851 -0.04739 0.00955 -0.0571 C 0.01146 -0.07421 0.01684 -0.09225 0.0191 -0.11005 C 0.02014 -0.14104 0.02153 -0.1704 0.02379 -0.20092 C 0.02483 -0.2763 0.02604 -0.35167 0.02709 -0.42705 C 0.02761 -0.46196 0.02639 -0.45271 0.03334 -0.47768 C 0.03542 -0.50104 0.03802 -0.52161 0.04445 -0.54335 C 0.0467 -0.56809 0.04514 -0.55468 0.04931 -0.58358 C 0.05018 -0.58936 0.05243 -0.59445 0.05243 -0.60046 E">
                                      <p:cBhvr>
                                        <p:cTn id="39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邓小平：（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90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997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四川广安人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997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月被选为中央第十一届中央委员会副主席、军委主席。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1978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月当选为政协全国委员会主席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98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月当选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华人民共和国主席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央军事委员会主席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“邓小平南巡”，是指他的武昌、深圳、珠海、上海之行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    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98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邓小平同志在上海观看小学生操作电子计算机时说：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计算机的普及要从娃娃做起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”邓小平同志非常重视科学技术的作用，提出了“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科学技术是第一生产力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”的新观点，并强调抓技术的同时，必须同时抓教育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《春天的故事》《走进新时代》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等歌曲就是歌颂邓小平关于开放深圳决策的赞歌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826920" y="765000"/>
            <a:ext cx="2521080" cy="115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朗读感悟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2060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难忘的一天是指哪天？         是什么事情让人难忘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500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1984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年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月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16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日，是我最难忘的日子，我为邓小平爷爷做了电子计算机表演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4076640"/>
            <a:ext cx="3024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653000"/>
            <a:ext cx="482472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5229360"/>
            <a:ext cx="230508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826920" y="1700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1984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年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2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月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16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日，是我最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难忘的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日子，我为邓小平爷爷做了电子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计算机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表演。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1844640"/>
            <a:ext cx="504720" cy="50472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那天早晨，我</a:t>
            </a:r>
            <a:r>
              <a:rPr b="1" lang="zh-CN" sz="5400" spc="-1" strike="noStrike">
                <a:solidFill>
                  <a:srgbClr val="fc3b14"/>
                </a:solidFill>
                <a:latin typeface="Arial"/>
              </a:rPr>
              <a:t>冒着严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寒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，快步走到工业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展览馆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。想到马上就要见到邓爷爷，我又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紧张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又激动，心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怦怦地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跳跳个不停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907920"/>
            <a:ext cx="482760" cy="5540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6372360" y="620640"/>
            <a:ext cx="252072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朗读感悟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1916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那天早晨，我冒着严寒，快步走到工业展览馆。想到马上就要见到邓爷爷，我又紧张又激动，心怦怦地跳个不停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83664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为什么“我”的心会“怦怦地跳个不停”？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29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心怦怦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587700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以为国家领导人是威严的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19640" y="5300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邓爷爷是国家领导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0" y="4292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马上要见到邓爷爷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292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紧张激动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84360" y="4581360"/>
            <a:ext cx="647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32360" y="4581360"/>
            <a:ext cx="64764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4360" y="4869000"/>
            <a:ext cx="0" cy="504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572000" y="5661000"/>
            <a:ext cx="720720" cy="289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4897440" cy="5884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12000" y="2319480"/>
            <a:ext cx="205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我是中国人民的儿子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我深情地爱着我的祖国和人民。——     邓小平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邓爷爷来啦！他带着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慈祥的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微笑向我走来。我连忙敬了个队礼，说：“邓爷爷，您好！”邓爷爷高兴地点点头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紧紧地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握住了我的手。看着邓爷爷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和蔼可亲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的样子，我紧张的心情一下子就平静了下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981000"/>
            <a:ext cx="503280" cy="43200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6372360" y="620640"/>
            <a:ext cx="2520720" cy="115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朗读感悟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4762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为什么“我紧张的心情一下子就平静了下来”？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7280" y="2133720"/>
            <a:ext cx="75614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邓爷爷来啦！他带着慈祥的微笑向我走来。我连忙敬了个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3"/>
              </a:rPr>
              <a:t>队礼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，说：“邓爷爷，您好！”邓爷爷高兴地点点头，紧紧地握住了我的手。看着邓爷爷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4" action="ppaction://hlinksldjump"/>
              </a:rPr>
              <a:t>和蔼可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的样子，我紧张的心情一下子就平静了下来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6000" y="1557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邓爷爷是怎样的人？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2565360"/>
            <a:ext cx="158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79640" y="350028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500280"/>
            <a:ext cx="172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3860640"/>
            <a:ext cx="252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5877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黑体"/>
              </a:rPr>
              <a:t>心情平静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77080" y="5229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和蔼可亲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4508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慈祥微笑   高兴点头   紧紧握手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4797360"/>
            <a:ext cx="79236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651640" y="5661000"/>
            <a:ext cx="1296720" cy="43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09480" y="121932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开始表演了。我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沉着地操纵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着计算机，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顺利地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打出各种图形来。邓爷爷仔细地看了我的表演，脸上露出了满意的笑容。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76360" y="1484280"/>
            <a:ext cx="431640" cy="43200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280" y="1371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表演过后，邓爷爷还亲切地问了我的年龄。我说刚满十岁。邓爷爷听了，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赞许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地再一次和我握手，并对身边的人说，“计算机的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普及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要从娃娃抓起。”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1557360"/>
            <a:ext cx="504720" cy="4316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12193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离开展览馆，我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兴奋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地走在回家的路上。天，仿佛格外的蓝；阳光，仿佛更加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灿烂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我忘不了这一天，忘不了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肩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上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担负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的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责任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1413000"/>
            <a:ext cx="504720" cy="4316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0" y="531720"/>
            <a:ext cx="9144000" cy="6326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85800" y="12193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离开展览馆，我兴奋地走在回家的路上。天，仿佛格外的蓝；阳光，仿佛更加灿烂。我忘不了这一天，   忘不了肩上担负的责任。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2708280"/>
            <a:ext cx="129672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77080" y="1916280"/>
            <a:ext cx="1297080" cy="914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32000" y="3357720"/>
            <a:ext cx="1873440" cy="914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6920" y="4149720"/>
            <a:ext cx="1729080" cy="914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9280" y="0"/>
            <a:ext cx="8964720" cy="65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我能读好下面的句子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、我为邓小平爷爷做了电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算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机表演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、那天早晨，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冒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着严寒，快步走到工业展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览馆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、我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紧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张又激动，心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怦怦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地跳个不停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、邓爷爷高兴地点点头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紧紧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握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住我的手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、邓爷爷仔细地看了我的表演，脸上露出了满意的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容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计算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机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普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及要从娃娃抓起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、离开展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览馆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我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地走在回家的路上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、天，仿佛格外的蓝；阳光，仿佛更加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灿烂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09480" y="12193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    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开始表演了。我沉着地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操纵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着计算机，顺利地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打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出各种图形来。邓爷爷仔细地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看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了我的表演，脸上露出了满意的</a:t>
            </a:r>
            <a:r>
              <a:rPr b="1" lang="zh-CN" sz="4800" spc="-1" strike="noStrike">
                <a:solidFill>
                  <a:srgbClr val="790101"/>
                </a:solidFill>
                <a:latin typeface="Times New Roman"/>
                <a:ea typeface="楷体_GB2312"/>
              </a:rPr>
              <a:t>笑容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16720" y="1989000"/>
            <a:ext cx="1440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03640" y="2708280"/>
            <a:ext cx="172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00720" y="3429000"/>
            <a:ext cx="1727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4941720"/>
            <a:ext cx="16574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634120" y="228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在括号里填上合适的词语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85560" y="838080"/>
            <a:ext cx="66650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（         ）的日子     （        ）地握住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（          ）的样子    （         ）的心情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（          ）的笑容    （         ）地观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高兴地（           ）    亲切地（        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沉着地（            ）    顺利地（        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</a:rPr>
              <a:t>赞许地（             ）    兴奋地（        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39400" y="1066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难忘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06480" y="1066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紧紧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89000" y="2057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和蔼可亲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2800" y="1981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紧张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1680" y="2971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满意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66960" y="2971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仔细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91880" y="3886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点头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43480" y="38862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问候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68200" y="4800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操纵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11600" y="48006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打出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1880" y="5791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握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11600" y="571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楷体_GB2312"/>
              </a:rPr>
              <a:t>走来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50920" y="6206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五彩（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黑体"/>
              </a:rPr>
              <a:t>    </a:t>
            </a: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）世界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195640" y="692280"/>
            <a:ext cx="576000" cy="6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的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6002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可爱（　）小熊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47242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温暖（    ）家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371628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美丽（    ）梦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27082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幸福（    ）日子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195640" y="1773360"/>
            <a:ext cx="57600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的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95640" y="278136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的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195640" y="378936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的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95640" y="4797360"/>
            <a:ext cx="609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的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08000" y="3860640"/>
            <a:ext cx="5486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7a77"/>
                </a:solidFill>
                <a:latin typeface="Times New Roman"/>
                <a:ea typeface="黑体"/>
              </a:rPr>
              <a:t>尽情（         ）舞蹈</a:t>
            </a:r>
            <a:endParaRPr b="0" lang="en-US" sz="5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83664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7a77"/>
                </a:solidFill>
                <a:latin typeface="Times New Roman"/>
                <a:ea typeface="黑体"/>
              </a:rPr>
              <a:t>迅速（         ）爬树</a:t>
            </a:r>
            <a:endParaRPr b="0" lang="en-US" sz="5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35280" y="1844640"/>
            <a:ext cx="609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7a77"/>
                </a:solidFill>
                <a:latin typeface="Times New Roman"/>
                <a:ea typeface="黑体"/>
              </a:rPr>
              <a:t>快乐（         ）唱歌</a:t>
            </a:r>
            <a:endParaRPr b="0" lang="en-US" sz="5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08000" y="285264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7a77"/>
                </a:solidFill>
                <a:latin typeface="Times New Roman"/>
                <a:ea typeface="黑体"/>
              </a:rPr>
              <a:t>开心（         ）笑</a:t>
            </a:r>
            <a:endParaRPr b="0" lang="en-US" sz="5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284720" y="3933720"/>
            <a:ext cx="609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284720" y="292428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284720" y="1989000"/>
            <a:ext cx="609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11640" y="907920"/>
            <a:ext cx="609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-190440" y="-276120"/>
            <a:ext cx="9524880" cy="7410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195640" y="184464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急（   ）团团转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95640" y="270828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好（   ）没法说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357336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看（   ）认认真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95640" y="44370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Times New Roman"/>
                <a:ea typeface="黑体"/>
              </a:rPr>
              <a:t>玩（   ）开开心心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419640" y="191628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得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419640" y="278136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得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419640" y="3573360"/>
            <a:ext cx="6094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得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419640" y="4508640"/>
            <a:ext cx="609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得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500040"/>
            <a:ext cx="9144000" cy="63151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124000" y="206064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我忘不了这一天，忘不了肩上担负的责任。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5280" y="765000"/>
            <a:ext cx="2521080" cy="115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朗读感悟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98100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肩上担负的责任”指的是什么？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54936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说说“我”为什么忘不了这一天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  <a:ea typeface="黑体"/>
              </a:rPr>
              <a:t>?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314172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见到了邓爷爷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3789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邓爷爷和蔼可亲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40000" y="5157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认识到肩上责任的重大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40000" y="4437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我受到了邓爷爷的称赞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24000" y="3284640"/>
            <a:ext cx="144360" cy="223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42920" y="39337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难忘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3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7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84360" y="1844640"/>
            <a:ext cx="80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读一读，找一找，画一画：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请认真地读一读课文，找一找描写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我”心情的句子，用横线画出来，并自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己读一读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900000" y="1413000"/>
            <a:ext cx="7272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我又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紧张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又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激动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，心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怦怦地跳个不停。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900000" y="1413000"/>
            <a:ext cx="7272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我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紧张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的心情一下子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就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平静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了下来。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00000" y="1413000"/>
            <a:ext cx="7272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   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离开展览馆，我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兴奋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地走在回家的路上。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250920" y="836640"/>
            <a:ext cx="2655720" cy="1311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拓展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44" name=""/>
          <p:cNvSpPr/>
          <p:nvPr/>
        </p:nvSpPr>
        <p:spPr>
          <a:xfrm>
            <a:off x="1403280" y="2565360"/>
            <a:ext cx="6913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我能用“</a:t>
            </a:r>
            <a:r>
              <a:rPr b="0" lang="zh-CN" sz="3200" spc="-1" strike="noStrike" u="sng">
                <a:solidFill>
                  <a:srgbClr val="dc5900"/>
                </a:solidFill>
                <a:uFillTx/>
                <a:latin typeface="Arial"/>
                <a:ea typeface="黑体"/>
                <a:hlinkClick r:id="rId3" action="ppaction://hlinksldjump"/>
              </a:rPr>
              <a:t>仔细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说句子、写句子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84360" y="184464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高兴地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1773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仔细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2000" y="1773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亲切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3357720"/>
            <a:ext cx="24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紧紧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19640" y="342900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顺利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2000" y="350028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兴奋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5013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赞许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19640" y="494172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沉着地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9" dur="2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4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9" dur="2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4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116000" y="1700280"/>
            <a:ext cx="7273800" cy="26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作业；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积累文中的好词好句。      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黑体"/>
              </a:rPr>
              <a:t>通过阅读课外书、向别人请教或在爸爸、妈妈的帮助下查阅等途径，搜集邓小平爷爷的事迹、故事或他说过的一些名言，在班上展示、交流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140360" y="692280"/>
            <a:ext cx="216036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实践活动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0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6629400" y="685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37339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838080" y="609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6705720" y="41148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886200" y="4114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90720" y="609480"/>
            <a:ext cx="1752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及</a:t>
            </a:r>
            <a:endParaRPr b="0" lang="en-US" sz="117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81320" y="-152280"/>
            <a:ext cx="681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jí            shēn             zǐ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12640" y="3124080"/>
            <a:ext cx="69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xì</a:t>
            </a:r>
            <a:r>
              <a:rPr b="0" lang="zh-CN" sz="5400" spc="-1" strike="noStrike">
                <a:solidFill>
                  <a:srgbClr val="cc0066"/>
                </a:solidFill>
                <a:latin typeface="Arial"/>
              </a:rPr>
              <a:t>            cì           w</a:t>
            </a:r>
            <a:r>
              <a:rPr b="0" lang="zh-CN" sz="5400" spc="-1" strike="noStrike">
                <a:solidFill>
                  <a:srgbClr val="cc0066"/>
                </a:solidFill>
                <a:latin typeface="Comic Sans MS"/>
              </a:rPr>
              <a:t>à</a:t>
            </a:r>
            <a:r>
              <a:rPr b="0" lang="zh-CN" sz="5400" spc="-1" strike="noStrike">
                <a:solidFill>
                  <a:srgbClr val="cc0066"/>
                </a:solidFill>
                <a:latin typeface="Arial"/>
              </a:rPr>
              <a:t>i 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4068720"/>
            <a:ext cx="1752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细</a:t>
            </a:r>
            <a:endParaRPr b="0" lang="en-US" sz="117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37280" y="414504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次</a:t>
            </a:r>
            <a:endParaRPr b="0" lang="en-US" sz="117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80480" y="411480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外</a:t>
            </a:r>
            <a:endParaRPr b="0" lang="en-US" sz="117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08680" y="56340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身</a:t>
            </a:r>
            <a:endParaRPr b="0" lang="en-US" sz="117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75800" y="609480"/>
            <a:ext cx="1072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仔</a:t>
            </a:r>
            <a:endParaRPr b="0" lang="en-US" sz="117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0" y="0"/>
            <a:ext cx="343080" cy="17146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9"/>
          <a:stretch/>
        </p:blipFill>
        <p:spPr>
          <a:xfrm>
            <a:off x="0" y="1638360"/>
            <a:ext cx="343080" cy="17143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0"/>
          <a:stretch/>
        </p:blipFill>
        <p:spPr>
          <a:xfrm>
            <a:off x="0" y="3390840"/>
            <a:ext cx="343080" cy="17146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11"/>
          <a:stretch/>
        </p:blipFill>
        <p:spPr>
          <a:xfrm>
            <a:off x="0" y="5143680"/>
            <a:ext cx="343080" cy="17143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2"/>
          <a:stretch/>
        </p:blipFill>
        <p:spPr>
          <a:xfrm>
            <a:off x="8763120" y="0"/>
            <a:ext cx="342720" cy="17146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3"/>
          <a:stretch/>
        </p:blipFill>
        <p:spPr>
          <a:xfrm>
            <a:off x="8763120" y="1638360"/>
            <a:ext cx="342720" cy="17143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4"/>
          <a:stretch/>
        </p:blipFill>
        <p:spPr>
          <a:xfrm>
            <a:off x="8763120" y="3390840"/>
            <a:ext cx="342720" cy="17146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5"/>
          <a:stretch/>
        </p:blipFill>
        <p:spPr>
          <a:xfrm>
            <a:off x="8763120" y="5143680"/>
            <a:ext cx="342720" cy="17143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79280" y="256536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及时 及格  身体 身高  仔细 仔鸡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6033960"/>
            <a:ext cx="878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仔细 细心  一次 次品  外面 外边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6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6176880"/>
            <a:ext cx="9144000" cy="708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6934320" y="5297400"/>
            <a:ext cx="1447560" cy="12272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251460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228600" y="1371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15160" y="533520"/>
            <a:ext cx="35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cc0066"/>
                </a:solidFill>
                <a:latin typeface="Arial"/>
              </a:rPr>
              <a:t>jì       pēng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06480" y="1339920"/>
            <a:ext cx="2855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计 怦</a:t>
            </a:r>
            <a:endParaRPr b="0" lang="en-US" sz="117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6"/>
          <a:stretch/>
        </p:blipFill>
        <p:spPr>
          <a:xfrm>
            <a:off x="6934320" y="138600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7"/>
          <a:stretch/>
        </p:blipFill>
        <p:spPr>
          <a:xfrm>
            <a:off x="4648320" y="138600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146200" y="547560"/>
            <a:ext cx="309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cc0066"/>
                </a:solidFill>
                <a:latin typeface="Arial"/>
              </a:rPr>
              <a:t>lǐ           jiā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89680" y="1322280"/>
            <a:ext cx="18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49880" y="1309680"/>
            <a:ext cx="2855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礼 加</a:t>
            </a:r>
            <a:endParaRPr b="0" lang="en-US" sz="117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3645000"/>
            <a:ext cx="1584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计算 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计划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79640" y="3429000"/>
            <a:ext cx="2735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怦然心动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怦怦跳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59280" y="3500280"/>
            <a:ext cx="1513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礼物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礼品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164360" y="3429000"/>
            <a:ext cx="1511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更加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加法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7786800" y="6342120"/>
            <a:ext cx="1357200" cy="515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84360" y="1844640"/>
            <a:ext cx="806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及时    及格     身体    身边   仔细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这次   一次    计算    计时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怦怦地   礼节   敬礼   加法  更加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889308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词语    难忘的一天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难忘的日子  计算机  表演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冒着严寒  展览馆  紧张  激动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心怦怦地跳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慈祥的微笑  队礼   高兴的点点头   握住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和蔼可亲   紧张的心情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沉着地操纵   顺利的打出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各种各样的图形    仔细地看   满意的笑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1052640"/>
            <a:ext cx="828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亲切地问    普及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兴奋地走    格外 更加   灿烂  肩上担负的责任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83664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"/>
              </a:rPr>
              <a:t>计 算 机        冒 着     展 览 馆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924280"/>
            <a:ext cx="85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怦 怦 跳        紧  张       握 手  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30064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Times New Roman"/>
              </a:rPr>
              <a:t>笑 容     普 及     兴 奋      灿 烂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jì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0"/>
            <a:ext cx="165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ào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33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lǎn guǎn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20500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pēng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213372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jǐn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213372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wò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450864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róng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869000"/>
            <a:ext cx="15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27280" y="45086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pǔ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450864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fèn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59640" y="4437000"/>
            <a:ext cx="27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àn làn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23" descr="100838_800x600.jpg"/>
          <p:cNvPicPr/>
          <p:nvPr/>
        </p:nvPicPr>
        <p:blipFill>
          <a:blip r:embed="rId2"/>
          <a:srcRect l="0" t="0" r="860" b="147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4157640" y="54756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山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635280" y="54756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Times New Roman"/>
              </a:rPr>
              <a:t>火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708360" y="620640"/>
            <a:ext cx="1295280" cy="1008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灿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WordArt 8"/>
          <p:cNvSpPr txBox="1"/>
          <p:nvPr/>
        </p:nvSpPr>
        <p:spPr>
          <a:xfrm rot="5400000">
            <a:off x="-76320" y="1226880"/>
            <a:ext cx="289584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solidFill>
                    <a:srgbClr val="00ff00"/>
                  </a:solidFill>
                </a:ln>
                <a:solidFill>
                  <a:srgbClr val="9900cc"/>
                </a:solidFill>
                <a:latin typeface="隶书"/>
              </a:rPr>
              <a:t>变变变</a:t>
            </a:r>
            <a:endParaRPr b="1" lang="en-US" sz="2400" spc="1" strike="noStrike">
              <a:ln w="0">
                <a:solidFill>
                  <a:srgbClr val="00ff00"/>
                </a:solidFill>
              </a:ln>
              <a:solidFill>
                <a:srgbClr val="9900cc"/>
              </a:solidFill>
              <a:latin typeface="隶书"/>
              <a:ea typeface="隶书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084720" y="620640"/>
            <a:ext cx="18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黑体"/>
              </a:rPr>
              <a:t>灿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284720" y="1916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兰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635280" y="19162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Times New Roman"/>
              </a:rPr>
              <a:t>火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708360" y="1916280"/>
            <a:ext cx="1511280" cy="1008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6083280" y="1844640"/>
            <a:ext cx="18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黑体"/>
              </a:rPr>
              <a:t>灿烂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392436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田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924360" y="306864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大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3780000" y="3213000"/>
            <a:ext cx="1295280" cy="100836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奋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227640" y="3068640"/>
            <a:ext cx="18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黑体"/>
              </a:rPr>
              <a:t>奋力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3924360" y="501336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目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3851280" y="43639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Times New Roman"/>
              </a:rPr>
              <a:t>曰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3708360" y="4581360"/>
            <a:ext cx="1295280" cy="1312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冒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156360" y="4581360"/>
            <a:ext cx="187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黑体"/>
              </a:rPr>
              <a:t>冒着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30" name="WordArt 23"/>
          <p:cNvSpPr txBox="1"/>
          <p:nvPr/>
        </p:nvSpPr>
        <p:spPr>
          <a:xfrm>
            <a:off x="684360" y="3573360"/>
            <a:ext cx="266364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好样的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09:34:49Z</dcterms:created>
  <dc:creator>张堂栋</dc:creator>
  <dc:description/>
  <dc:language>en-US</dc:language>
  <cp:lastModifiedBy>User</cp:lastModifiedBy>
  <dcterms:modified xsi:type="dcterms:W3CDTF">2014-09-14T04:52:43Z</dcterms:modified>
  <cp:revision>70</cp:revision>
  <dc:subject/>
  <dc:title>PowerPoint 演示文稿</dc:title>
</cp:coreProperties>
</file>