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EB00-A26A-4037-8AE5-F5478917D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822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52680"/>
            <a:ext cx="822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71E5-0436-4FAB-A7E5-B18FA6FFE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5268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5268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A34E-F488-49C5-B552-0B98EE5EE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83996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83996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5268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5268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5268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B81E-B1F8-4B27-92F9-C79B30721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4052D-0243-4FB0-96D4-AB4FEB37A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83996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29757-92B4-4D46-80F7-AFCED3454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1759B-A98C-4B69-9D1F-2C9785ACF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CCC62-D0DF-4C29-AF9A-1C6965761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DA3A5-4647-45B3-84E6-23CDA0D17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828440" y="380880"/>
            <a:ext cx="6553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499B9-2E79-4187-A000-13E415C6A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25268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D7778-CFC4-497B-B40B-EBE1057C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83996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FCB4-32E2-4CFA-8000-82A086FD9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25268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D0898-3211-4160-842B-5F5A3749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252680"/>
            <a:ext cx="822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A6669-F335-4D30-9631-B157DEE1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822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252680"/>
            <a:ext cx="822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9252E-42EB-4EB0-BCAC-F6B1BC0B7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5268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25268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235DB-1AAC-4CBE-8276-2F7B7B263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83996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83996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25268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25268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25268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855C8-45A7-4A8E-B8C5-E22315C1E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DFD7-CCF0-4194-86EB-8E9B95EF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0689-8721-4B6A-8405-5DCD6951E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3236-77B8-4B29-961C-647FD7DFA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828440" y="380880"/>
            <a:ext cx="6553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E3EE-DD6F-4E61-948B-5ECDD9AA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5268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6635-C620-49B4-83C4-CE9DA5EC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5268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13A8-823F-48F4-90C5-32F232E1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52680"/>
            <a:ext cx="822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C0ED-D59B-4F11-BE51-273FC950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83996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55272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 baseline="-25000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 baseline="-25000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64400" y="6552720"/>
            <a:ext cx="2133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 baseline="-25000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25E1F-6D1B-40F5-BDF6-1A490360E9FF}" type="slidenum"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28240" y="655272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 baseline="-25000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 baseline="-25000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764400" y="6552720"/>
            <a:ext cx="2133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 baseline="-25000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F9D85-6B01-4A51-86CA-589E5B0037AB}" type="slidenum"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839960"/>
            <a:ext cx="822960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9T19:02:16Z</dcterms:created>
  <dc:creator>张岩</dc:creator>
  <dc:description/>
  <cp:keywords/>
  <dc:language>en-US</dc:language>
  <cp:lastModifiedBy>Sky123.Org</cp:lastModifiedBy>
  <cp:lastPrinted>1899-12-30T00:00:00Z</cp:lastPrinted>
  <dcterms:modified xsi:type="dcterms:W3CDTF">2015-04-17T08:02:36Z</dcterms:modified>
  <cp:revision>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55</vt:lpwstr>
  </property>
</Properties>
</file>