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C96-6387-4E80-9279-49B1FACF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4A79-CAE0-4B54-8709-A4210E58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CBA1-0B33-4892-9BEB-F0AE7366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A69F-6543-4E22-9ABA-AACCC3DB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4C43-BD9C-43F2-8B53-A495E89D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C9AA-7900-43AB-8E29-4E129B55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7038-DCB9-4054-9EDE-8E854AAE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8A31-0FEE-4F05-996F-0A299B89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5AFB-12D9-4929-A08C-16EA6BCF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B679-DC4C-421C-B2EC-B309400D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3F8B-66C6-4747-85D8-BE42292E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2CF2-D4C1-4298-84A0-09F41051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9FF4-1EF8-498E-B43E-F59C6508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22F3-33B5-4179-9078-8A02EDA5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54D9-0C3A-43C5-B3D6-904EF4EC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9B8E-FB75-4749-89E2-9368185E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803A-6332-4FB2-A005-70AF9B18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222-1CFA-4A7A-A698-07975812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94C-2F98-4BBE-A2C9-297A80A4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B259-509D-419C-93C4-BA59E111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BBF1-71D0-448E-8D1E-DE72DA2B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D2B-BE07-4111-9B93-016F1A74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DC87-8A5B-41F0-B23B-6FDDC06F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8C1A-9588-4550-AEED-481C50B3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A205-CCBB-48EA-B455-A962A47DB8E5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9AAD-46F3-455E-9243-FBA819E5F8D1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839960"/>
            <a:ext cx="82296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9:02:16Z</dcterms:created>
  <dc:creator>张岩</dc:creator>
  <dc:description/>
  <cp:keywords/>
  <dc:language>en-US</dc:language>
  <cp:lastModifiedBy>Sky123.Org</cp:lastModifiedBy>
  <cp:lastPrinted>1899-12-30T00:00:00Z</cp:lastPrinted>
  <dcterms:modified xsi:type="dcterms:W3CDTF">2015-04-17T08:02:36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