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C9B-5D5A-41B0-86D6-63D22CC6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F94-B3D5-4A4C-A6C9-DB6018D3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40D-FDFC-4A74-B9CA-F9B4271E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F4E-4054-44F8-B1C7-439473A5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1D32-7991-4364-BEDD-410D09F4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CD6C-FE6E-46FA-92A1-3D4BB7CD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6F75-BB7F-482C-99B9-850216DA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7EA2-2636-4A54-9D99-67C3026C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D0F2-FF3A-423E-95E1-5353750C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CBA1-52FE-4DD0-9BA2-E5A14838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42D1-3ACE-4AD7-92C3-6F8CD2C5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921-8DB0-43CB-BFB5-B8B41680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CDF6-9366-49F7-A024-3D0A5D86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9A41-9F51-4717-B93B-8AF52C2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6585-D1F3-48A7-BEB1-B2A90104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7A30-F662-4FE7-91D6-1B7905EB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74E6-3D4B-4AB4-A636-9DFFACC8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A26-199C-47BD-8EFE-AFA6DFEC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625-CC09-4C35-A886-87252355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9A8-6813-4F53-9677-F6B74021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940-E52F-4BA3-AFDC-664F88D3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6B7-2AE8-406D-A9BB-991F4019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615-AABC-4445-8FF4-492127AB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F72-13B3-4D3D-B322-2164944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63F0-9A47-4CB1-B43E-D7C40E89EF04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8861-B418-47BA-AA3B-9B4D06187D63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839960"/>
            <a:ext cx="8229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张岩</dc:creator>
  <dc:description/>
  <cp:keywords/>
  <dc:language>en-US</dc:language>
  <cp:lastModifiedBy>Sky123.Org</cp:lastModifiedBy>
  <cp:lastPrinted>1899-12-30T00:00:00Z</cp:lastPrinted>
  <dcterms:modified xsi:type="dcterms:W3CDTF">2015-04-17T08:02:36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