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3752-480C-49E3-BCF0-548D0A88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B022-D8EA-449C-BC19-54E4371A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6560-BA4F-4CAD-969A-DE6A93FE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7DB3-CC39-4532-9E3C-9CEAA93C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25EA-0DD3-4033-9FCD-BFE60A96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81B5-7C31-41E9-830E-DE03B9B2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7E2D-B3B5-437F-9F56-EFD58359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BA88-D0FF-40C8-B4A8-9E8C3266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400C-BB73-45D8-8C53-44858E62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440" y="380880"/>
            <a:ext cx="6553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868D-ABCC-47BC-A170-4DEF4669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AAF0-2D47-4E46-B29F-EA002EFB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9A70-1FE8-46F4-A9B8-2055AC27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6F59-6663-47A8-AB6D-3CB0B8CF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7F22-C8AA-420E-BCAD-50289A07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BDD7-12D7-47DF-AC94-336457FD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1048-D3D7-406C-83B8-6A3B6767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2B52-3FCD-4D4B-9175-0AB92E02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F68C-9833-4A92-9D89-A77B97F1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AEB2-8B90-47EF-9059-48AF3E68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17E-3509-4E57-B79F-59C336FF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440" y="380880"/>
            <a:ext cx="6553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1655-ABC2-47D9-8260-6BF58ECF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E88B-D41A-4FF6-9DB6-01B3F477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FD51-1D5C-403B-A754-16444B6B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829B-7E12-4B69-AF04-FCE0A4F3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6440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8D28-A1D5-4B78-AD92-B53B3F5778EF}" type="slidenum"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282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76440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51E7-936F-4384-9EFB-8D4345726DB1}" type="slidenum"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839960"/>
            <a:ext cx="82296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9:02:16Z</dcterms:created>
  <dc:creator>张岩</dc:creator>
  <dc:description/>
  <cp:keywords/>
  <dc:language>en-US</dc:language>
  <cp:lastModifiedBy>Sky123.Org</cp:lastModifiedBy>
  <cp:lastPrinted>1899-12-30T00:00:00Z</cp:lastPrinted>
  <dcterms:modified xsi:type="dcterms:W3CDTF">2015-04-17T08:02:36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</Properties>
</file>