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66D-5917-4C80-B2ED-783F84F3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8BA-5251-4C4B-950A-44BF7BBD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05C-1D87-4281-A1AF-44E1638B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F55-C97F-4A03-9CF6-6D00A1F7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AB00-604E-4007-8EB9-37E174F7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D923-99DD-4468-9F73-8B903071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A714-791E-4B1F-B07A-7C647D73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81E6-40B9-410B-8F10-03855794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4341-17A8-429C-817B-A27510F6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1087-0EDE-47D9-AD22-902D4F13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75D1-39F4-46C0-B71A-CFA37375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6C0-5EBD-4DFB-87AC-5D56A0C0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0354-CA1C-4000-B455-BFD05A52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97F3-14AF-4843-93FA-F58E506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4038-DD38-4CAD-BB74-E030C61B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4CAB-211C-4512-B212-A93BF901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29E9-E3EE-4EE3-B81D-A82203CE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A4F-CEB2-4029-BB16-F25B0DF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D80-F69A-4BCE-8B09-13F4C237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81E-5E93-4AE4-BF62-076091C6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E21-E86E-44A4-B70A-6F4A59A2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F11-2E8B-4CD1-A4E7-3B8DC70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A24-CBD2-4C9C-B749-153495D4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5B7-7D74-47CF-B374-E3807545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546C-CBB7-4177-A6E8-5EBC3CFBBA6D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9A13-EA32-4C7A-AE9B-C36B08CF052F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张岩</dc:creator>
  <dc:description/>
  <cp:keywords/>
  <dc:language>en-US</dc:language>
  <cp:lastModifiedBy>Sky123.Org</cp:lastModifiedBy>
  <cp:lastPrinted>1899-12-30T00:00:00Z</cp:lastPrinted>
  <dcterms:modified xsi:type="dcterms:W3CDTF">2015-04-17T08:02:36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