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C60-30B4-4144-898C-7D10C112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065-0386-4992-8331-AD054614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825-FE4D-4DC8-B206-8125345B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F40-F577-4A1E-B1A0-7F88894A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6AF9-19E5-420B-8579-007BCAF0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1E7C-04AB-4067-9258-8277C394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A21B-CB8C-456F-B15B-D661E032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AD49-11EE-4483-B0EF-2E3AB221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7732-C7D4-4B0E-AE43-91CB2BC7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8278-4764-4D02-A77C-2801E77A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5C87-2288-4750-86C6-23B12A15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84D-E243-4649-AC07-5A2D50E4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E372-F2A0-4C83-ADE0-6651DC2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19AC-E6CF-476D-85B8-842CD6D5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6A73-82BF-4409-A2EC-83F70F0C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C079-2AA3-49D3-8E17-5CD1A529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9C82-3984-4084-934E-28757516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FE5-AE33-42D3-8819-C657056C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794-ACCF-4F36-9288-13FAE439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39D-FE9F-41B4-A91A-460CF2C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2A5-D87B-4357-8C3E-330A2548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11C-F855-4085-B50F-32280A8D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81F-8E78-43BF-AACE-A28DE7C7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93E-11C0-4621-9508-BABD8D42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469D-AA7D-4045-86EF-2B206CAAD4A5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371F-E1C9-4EAF-ACC3-934FC67EDC07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839960"/>
            <a:ext cx="8229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张岩</dc:creator>
  <dc:description/>
  <cp:keywords/>
  <dc:language>en-US</dc:language>
  <cp:lastModifiedBy>Sky123.Org</cp:lastModifiedBy>
  <cp:lastPrinted>1899-12-30T00:00:00Z</cp:lastPrinted>
  <dcterms:modified xsi:type="dcterms:W3CDTF">2015-04-17T08:02:36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