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0FF6-3BB2-419F-A7F8-095D7361A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5268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B487-D446-4415-BDCF-BFECF9B4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7061-086B-40DE-989F-759A8BD95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7F42-4C07-4014-A8AC-34DAA192A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4F80-A024-49E3-8CDD-3C2047AB8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83996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CA3F-0B63-41C5-B1E4-435E1B25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9BE1-6ED3-4BFD-B5A4-D75327E0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F2A8-7FFB-4466-BEDE-5FBEFF9F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2E30-A798-4EE7-8F3B-6519D142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828440" y="380880"/>
            <a:ext cx="6553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6809-5D50-46AF-B1F3-C6705ACE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3F81-D072-4052-A70A-C42C7A92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83996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CE64-E45C-4C1C-9793-8C2ECB8F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3A03-2676-48E1-9327-4F245D67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AEB4-3F92-43D9-9CB9-829ACC4B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25268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99EA6-4E8F-4727-B622-CE1FFD76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7C8C-CE96-459C-9ADD-0DFB8D991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4F910-0DF3-4089-86CE-A98AA71FF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94D7-3DE4-47B4-B0C8-96014E8E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5512-B8A5-4F6A-A94F-91D4ABF0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B396-AABA-4B99-99A3-5FF1740E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28440" y="380880"/>
            <a:ext cx="6553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A716-E31F-466C-A4A9-1515A11B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17D4-F865-4477-8BE9-C3E487EA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CE14-AD2B-4562-97CA-56F8536F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F975-BD74-40BB-A81A-83406802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83996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64400" y="655272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30D7-63D0-4F25-8F94-36B3E643BA6B}" type="slidenum"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2824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764400" y="655272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046C-CB4E-4408-AB5D-BA6FFB9B0430}" type="slidenum"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839960"/>
            <a:ext cx="822960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19:02:16Z</dcterms:created>
  <dc:creator>张岩</dc:creator>
  <dc:description/>
  <cp:keywords/>
  <dc:language>en-US</dc:language>
  <cp:lastModifiedBy>Sky123.Org</cp:lastModifiedBy>
  <cp:lastPrinted>1899-12-30T00:00:00Z</cp:lastPrinted>
  <dcterms:modified xsi:type="dcterms:W3CDTF">2015-04-17T08:02:36Z</dcterms:modified>
  <cp:revision>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55</vt:lpwstr>
  </property>
</Properties>
</file>