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TextBox 3"/>
          <p:cNvSpPr/>
          <p:nvPr/>
        </p:nvSpPr>
        <p:spPr>
          <a:xfrm>
            <a:off x="1187280" y="4221000"/>
            <a:ext cx="766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卡通城堡幻灯片模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矩形 3"/>
          <p:cNvSpPr/>
          <p:nvPr/>
        </p:nvSpPr>
        <p:spPr>
          <a:xfrm>
            <a:off x="0" y="2052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7f6d2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7f6d2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7f6d2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7f6d2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7f6d2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7f6d2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7f6d2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7f6d2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7f6d2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7f6d2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7f6d2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7f6d2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7f6d2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7f6d2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7f6d2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7f6d2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7f6d2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7f6d2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7f6d2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7f6d2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7f6d2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7f6d2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7f6d2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7f6d2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7f6d2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7f6d2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7f6d2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7f6d2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7f6d2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7f6d2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7f6d2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7f6d2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7f6d2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7f6d2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7f6d2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7f6d2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7f6d2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7f6d2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7f6d2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7f6d2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组合 1"/>
          <p:cNvGrpSpPr/>
          <p:nvPr/>
        </p:nvGrpSpPr>
        <p:grpSpPr>
          <a:xfrm>
            <a:off x="2556000" y="1268280"/>
            <a:ext cx="4176720" cy="505080"/>
            <a:chOff x="2556000" y="1268280"/>
            <a:chExt cx="4176720" cy="505080"/>
          </a:xfrm>
        </p:grpSpPr>
        <p:sp>
          <p:nvSpPr>
            <p:cNvPr id="41" name="圆角矩形 2"/>
            <p:cNvSpPr/>
            <p:nvPr/>
          </p:nvSpPr>
          <p:spPr>
            <a:xfrm>
              <a:off x="2556000" y="1268280"/>
              <a:ext cx="4176720" cy="505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dfbec"/>
                </a:gs>
                <a:gs pos="100000">
                  <a:srgbClr val="3f3f3f"/>
                </a:gs>
              </a:gsLst>
              <a:lin ang="5400000"/>
            </a:gradFill>
            <a:ln w="2844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圆角矩形 3"/>
            <p:cNvSpPr/>
            <p:nvPr/>
          </p:nvSpPr>
          <p:spPr>
            <a:xfrm>
              <a:off x="2802600" y="1297800"/>
              <a:ext cx="3683520" cy="445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80000"/>
                </a:gs>
                <a:gs pos="100000">
                  <a:srgbClr val="ff0101"/>
                </a:gs>
              </a:gsLst>
              <a:lin ang="5400000"/>
            </a:gradFill>
            <a:ln w="936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" name="组合 4"/>
          <p:cNvGrpSpPr/>
          <p:nvPr/>
        </p:nvGrpSpPr>
        <p:grpSpPr>
          <a:xfrm>
            <a:off x="2556000" y="1971720"/>
            <a:ext cx="4176720" cy="503280"/>
            <a:chOff x="2556000" y="1971720"/>
            <a:chExt cx="4176720" cy="503280"/>
          </a:xfrm>
        </p:grpSpPr>
        <p:sp>
          <p:nvSpPr>
            <p:cNvPr id="44" name="圆角矩形 5"/>
            <p:cNvSpPr/>
            <p:nvPr/>
          </p:nvSpPr>
          <p:spPr>
            <a:xfrm>
              <a:off x="2556000" y="1971720"/>
              <a:ext cx="417672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dfbec"/>
                </a:gs>
                <a:gs pos="100000">
                  <a:srgbClr val="3f3f3f"/>
                </a:gs>
              </a:gsLst>
              <a:lin ang="5400000"/>
            </a:gradFill>
            <a:ln w="284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圆角矩形 6"/>
            <p:cNvSpPr/>
            <p:nvPr/>
          </p:nvSpPr>
          <p:spPr>
            <a:xfrm>
              <a:off x="2802600" y="2001240"/>
              <a:ext cx="3683520" cy="443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80000"/>
                </a:gs>
                <a:gs pos="100000">
                  <a:srgbClr val="ff0101"/>
                </a:gs>
              </a:gsLst>
              <a:lin ang="5400000"/>
            </a:gradFill>
            <a:ln w="936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组合 7"/>
          <p:cNvGrpSpPr/>
          <p:nvPr/>
        </p:nvGrpSpPr>
        <p:grpSpPr>
          <a:xfrm>
            <a:off x="2556000" y="2673360"/>
            <a:ext cx="4176720" cy="503280"/>
            <a:chOff x="2556000" y="2673360"/>
            <a:chExt cx="4176720" cy="503280"/>
          </a:xfrm>
        </p:grpSpPr>
        <p:sp>
          <p:nvSpPr>
            <p:cNvPr id="47" name="圆角矩形 8"/>
            <p:cNvSpPr/>
            <p:nvPr/>
          </p:nvSpPr>
          <p:spPr>
            <a:xfrm>
              <a:off x="2556000" y="2673360"/>
              <a:ext cx="417672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dfbec"/>
                </a:gs>
                <a:gs pos="100000">
                  <a:srgbClr val="3f3f3f"/>
                </a:gs>
              </a:gsLst>
              <a:lin ang="5400000"/>
            </a:gradFill>
            <a:ln w="284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圆角矩形 9"/>
            <p:cNvSpPr/>
            <p:nvPr/>
          </p:nvSpPr>
          <p:spPr>
            <a:xfrm>
              <a:off x="2802600" y="2702880"/>
              <a:ext cx="3683520" cy="443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80000"/>
                </a:gs>
                <a:gs pos="100000">
                  <a:srgbClr val="ff0101"/>
                </a:gs>
              </a:gsLst>
              <a:lin ang="5400000"/>
            </a:gradFill>
            <a:ln w="936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组合 10"/>
          <p:cNvGrpSpPr/>
          <p:nvPr/>
        </p:nvGrpSpPr>
        <p:grpSpPr>
          <a:xfrm>
            <a:off x="2556000" y="3375000"/>
            <a:ext cx="4176720" cy="504720"/>
            <a:chOff x="2556000" y="3375000"/>
            <a:chExt cx="4176720" cy="504720"/>
          </a:xfrm>
        </p:grpSpPr>
        <p:sp>
          <p:nvSpPr>
            <p:cNvPr id="50" name="圆角矩形 11"/>
            <p:cNvSpPr/>
            <p:nvPr/>
          </p:nvSpPr>
          <p:spPr>
            <a:xfrm>
              <a:off x="2556000" y="3375000"/>
              <a:ext cx="4176720" cy="50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dfbec"/>
                </a:gs>
                <a:gs pos="100000">
                  <a:srgbClr val="3f3f3f"/>
                </a:gs>
              </a:gsLst>
              <a:lin ang="5400000"/>
            </a:gradFill>
            <a:ln w="284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圆角矩形 12"/>
            <p:cNvSpPr/>
            <p:nvPr/>
          </p:nvSpPr>
          <p:spPr>
            <a:xfrm>
              <a:off x="2802600" y="3404520"/>
              <a:ext cx="3683520" cy="445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80000"/>
                </a:gs>
                <a:gs pos="100000">
                  <a:srgbClr val="ff0101"/>
                </a:gs>
              </a:gsLst>
              <a:lin ang="5400000"/>
            </a:gradFill>
            <a:ln w="936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组合 13"/>
          <p:cNvGrpSpPr/>
          <p:nvPr/>
        </p:nvGrpSpPr>
        <p:grpSpPr>
          <a:xfrm>
            <a:off x="2556000" y="4076640"/>
            <a:ext cx="4176720" cy="504720"/>
            <a:chOff x="2556000" y="4076640"/>
            <a:chExt cx="4176720" cy="504720"/>
          </a:xfrm>
        </p:grpSpPr>
        <p:sp>
          <p:nvSpPr>
            <p:cNvPr id="53" name="圆角矩形 14"/>
            <p:cNvSpPr/>
            <p:nvPr/>
          </p:nvSpPr>
          <p:spPr>
            <a:xfrm>
              <a:off x="2556000" y="4076640"/>
              <a:ext cx="4176720" cy="50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dfbec"/>
                </a:gs>
                <a:gs pos="100000">
                  <a:srgbClr val="3f3f3f"/>
                </a:gs>
              </a:gsLst>
              <a:lin ang="5400000"/>
            </a:gradFill>
            <a:ln w="284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圆角矩形 15"/>
            <p:cNvSpPr/>
            <p:nvPr/>
          </p:nvSpPr>
          <p:spPr>
            <a:xfrm>
              <a:off x="2802600" y="4106160"/>
              <a:ext cx="3683520" cy="445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80000"/>
                </a:gs>
                <a:gs pos="100000">
                  <a:srgbClr val="ff0101"/>
                </a:gs>
              </a:gsLst>
              <a:lin ang="5400000"/>
            </a:gradFill>
            <a:ln w="936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31553E-006 L 0.42517 -0.58444 E">
                                      <p:cBhvr>
                                        <p:cTn id="45" dur="4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577800" y="947880"/>
            <a:ext cx="766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谢谢观看</a:t>
            </a:r>
            <a:r>
              <a:rPr b="1" lang="en-US" sz="6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bj</dc:creator>
  <dc:description/>
  <cp:keywords/>
  <dc:language>en-US</dc:language>
  <cp:lastModifiedBy>admin</cp:lastModifiedBy>
  <dcterms:modified xsi:type="dcterms:W3CDTF">2014-12-31T06:31:16Z</dcterms:modified>
  <cp:revision>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