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wind.wav" ContentType="audio/x-wav"/>
  <Override PartName="/ppt/media/image41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2.png" ContentType="image/png"/>
  <Override PartName="/ppt/media/laser.wav" ContentType="audio/x-wav"/>
  <Override PartName="/ppt/media/image27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29.wmf" ContentType="image/x-wmf"/>
  <Override PartName="/ppt/media/image31.png" ContentType="image/png"/>
  <Override PartName="/ppt/media/image43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suction.wav" ContentType="audio/x-wav"/>
  <Override PartName="/ppt/media/image4.jpeg" ContentType="image/jpeg"/>
  <Override PartName="/ppt/media/image25.png" ContentType="image/png"/>
  <Override PartName="/ppt/media/image30.png" ContentType="image/png"/>
  <Override PartName="/ppt/media/voltage.wav" ContentType="audio/x-wav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843C-6D35-4770-AA59-84129B4FF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2E15-9538-429C-B0BA-37D5541B9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53ED1D-01CD-4FBE-BAA3-75995283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B109-7DE7-47CF-8A8B-CE22AC2AF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F4F599-3F78-4BF1-B6AC-F4C491F0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AD4EB-1979-4979-977F-1B618EC1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E4559-E06D-4331-A6AA-A04397BD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BCDA08-B876-4B60-A2E1-690DE3B1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BE8B1-5571-45B0-90DF-683533A9B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FDB91D-F3E0-418F-87AE-FA0642EB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EF00FD-E61E-4C20-BBCC-C8A178B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11B165-3D73-46C7-9BF6-0691205E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4D1B11-A3AA-4D2F-8970-74D0E2B4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18352-9F71-4C84-A171-B60DE6F4B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C095-CC93-4D30-B559-9D99CE077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3105C-9AC9-4023-9776-6FE80D9AF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18310-0CD6-40FC-9A0A-1AFD4BB0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E2551-88EC-4B50-89D5-16BDC022A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27A2-018A-462E-B15A-D904D13D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55027-4673-437C-A84F-AD46115F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7250-57CA-40F8-801D-03FBA445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95F7-E96E-4251-B8F8-B509C300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456B-15CF-4EE7-B839-50C36A03E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97DF-D9E7-42AC-A058-1DF6A340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6965-62C2-48ED-B523-6BFD95A3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6A4D-AA48-40F8-B6C2-43FEB8C2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B761-C1E6-4FE4-BBBE-FA6714D8C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06BB6-26CB-443F-AB7E-BD80FCD6E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98E6F-36E2-474A-AB62-C669E660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F921-B7AA-4526-A3D1-52D56289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B98A1-6962-461C-9538-57648CA11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52233-9114-4EC2-A5E4-150266306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69FD-2769-4B30-887C-5AFE7EB61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2273C-4605-4E89-8ED2-558737A3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557E-371B-41D0-B578-85EF8C5A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36C30-1529-47D0-AB39-3AFFF0ED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6959-1E32-4DF1-A5EC-5A7B850A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06546-C769-47B5-9C67-6DF9D307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62829-A93F-4B90-A41A-2FE935624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530FC-A0D0-4E08-8F2A-4107C06E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9DAE2-010B-4D07-B7A7-0BF47F24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06810-4C2C-461A-9CED-E83055B8E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68F8DF-04BF-4C14-923F-06569B8885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767A1D-A2C2-4424-A020-30992A0DF7B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86D2C8-2977-4B83-9E85-33315AFB41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978E-BD40-486B-8A7A-B2E52F43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504E7B-1EF0-45A8-91C7-1522F0B9F7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D4B51D-EB08-41EA-A235-AFBAB918A1F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5C9227-54EC-410E-9D2E-91E2A6F8C5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C743C-0C8D-4142-BD9B-A8C803164B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88DC6F-9E62-4386-B3C1-4BBC81B10FA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39077D-6925-466B-A1E9-A9C7A65F40E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5BB04-6077-48AF-9E78-E058C540B41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C1F628-DA3C-460A-993F-885932426F2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5E1BA-DCFF-4067-B8D8-E734C59DFC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302E80-2565-4DEA-ACAA-3AB140A80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F48-C5D7-40EC-BA1E-83EADC2FF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D5D067-BC13-47B6-B89A-3E91AEFDB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8EF996-D8A0-4D6B-8140-92A449AA4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DDEFB7-EE6F-478A-9E2A-A315E753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C45EBD-BF06-4C01-84C0-CFCE1B7E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81841B-521F-4B0D-BF93-3D10DBA4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3EF22A-8246-4EEA-B826-8C256378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2970B7-D12F-4034-BFE9-CAA851F0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3486D27-0193-4D50-B97E-C1DD5411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1A1D741-D949-47CD-823E-E5D5AC35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FEA0A4-1F8A-4EA2-B751-D1A3BEE6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C66F-C8A5-4D1C-9CAE-C72F8277B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9A0F3C-A0A6-4FE5-A97F-CEAB5BEE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75ACC2-0826-4B98-AC37-60DAF962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372655-8A4A-40F1-AEEA-A3349C87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537129-CCAD-4731-91C4-59FF3897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A8AE78-4C12-4E08-95A6-670F4AE4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A0A10B-D5B5-4185-A541-829EA6734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8164A9-64A9-40F6-81F9-987B52250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7E517B-FD47-4C0B-9811-F4953B3D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1B7B4A-C2C2-498F-A919-C13CA04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5F57C6-E439-4177-8260-21DBBCE6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4C27-D9B2-4CF3-8952-E8715DE2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F15406-385D-4732-9CA2-86A1B6C3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6D97B6-32AE-4F90-89E1-922EAAE80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A99123-22F7-4485-AF24-872FDFC9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18FFBE-1F39-420B-BA2D-1DA4C987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60AF95-543C-4A5A-ABE1-51FF313D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0CE5C9-B93E-4406-96FA-1962D3618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72F66A-F827-4992-9AE0-507DD28E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35C7C87-7B71-49CE-ADCA-261DA262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73E333-5202-45E0-8529-97ACA9FE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CED73E-7651-4DD2-A95D-DEDEDB04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F888-A664-4819-832D-D9E5EAEC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D95229-1D98-4E47-A6AD-4E05560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087E18-6789-4F16-B282-7E2EFF1F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3A40E6-8711-45C7-9755-BA22BD34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E46FBA-A46A-43FF-B51B-AA0084397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1C29ED-3366-4BF1-8C86-121733AD2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655D32-6371-4B29-9D90-0C069B6B8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AA4B63-205D-45B8-8AA3-BD139A61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756C09-5158-47C9-812F-D6951EFF0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FDD9CC-D6E1-4708-B348-E3E1CA83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F2A0FD-09A8-403C-B5E1-ACDC5481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E1E-1677-4868-B8C3-92A4A2A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DCBDC72-E93D-4D7F-9C7C-30824437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5E45A34-F7DE-4402-B0E6-FC537D8B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E91E77-8331-44CD-8F99-0F4E7FDC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AC3890-8567-4EC9-8C03-99F24D58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392F9A-B442-41D2-815E-7F7F41090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AEFD872-763C-4C42-BACD-F35BE4135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7E7E5B-7B93-4D71-B1AD-0C36200F0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CC7B-AA71-4F69-BDB1-6FA9DE5F5E0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B8EA-D391-41A1-8AE1-936534A8EC1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58558-0884-4FB6-9875-2D0BDC36FD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C0A0-29C4-48C6-82C3-8FF9817275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EDB01FE-F855-4588-A030-2669AFBF53C2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359BA-3C19-4B8B-A33C-FEE9DEFA01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1F6C-A36D-4385-83F7-C26A36C1591E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97A6-3EE1-42F6-B82B-EC91B08E68B2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43C2-A397-4216-BC4A-B4F45189C5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image" Target="../media/image32.png"/><Relationship Id="rId5" Type="http://schemas.openxmlformats.org/officeDocument/2006/relationships/audio" Target="../media/hammer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26.jpeg"/><Relationship Id="rId4" Type="http://schemas.openxmlformats.org/officeDocument/2006/relationships/image" Target="../media/image34.png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6.png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audio" Target="../media/type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4920" y="189000"/>
            <a:ext cx="4105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小学数学第七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人教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268360" y="2421000"/>
            <a:ext cx="532800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角的分类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8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半周所成的角叫做平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527" name="AutoShape 5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6"/>
            <p:cNvGrpSpPr/>
            <p:nvPr/>
          </p:nvGrpSpPr>
          <p:grpSpPr>
            <a:xfrm>
              <a:off x="1332000" y="1844640"/>
              <a:ext cx="6624000" cy="642600"/>
              <a:chOff x="1332000" y="1844640"/>
              <a:chExt cx="6624000" cy="642600"/>
            </a:xfrm>
          </p:grpSpPr>
          <p:sp>
            <p:nvSpPr>
              <p:cNvPr id="529" name="Line 7"/>
              <p:cNvSpPr/>
              <p:nvPr/>
            </p:nvSpPr>
            <p:spPr>
              <a:xfrm>
                <a:off x="1332000" y="248724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8" descr="图片1"/>
              <p:cNvPicPr/>
              <p:nvPr/>
            </p:nvPicPr>
            <p:blipFill>
              <a:blip r:embed="rId2"/>
              <a:srcRect l="0" t="0" r="-503" b="37813"/>
              <a:stretch/>
            </p:blipFill>
            <p:spPr>
              <a:xfrm>
                <a:off x="3893400" y="1844640"/>
                <a:ext cx="1565640" cy="64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Line 9"/>
            <p:cNvSpPr/>
            <p:nvPr/>
          </p:nvSpPr>
          <p:spPr>
            <a:xfrm flipH="1">
              <a:off x="3893400" y="2275920"/>
              <a:ext cx="195480" cy="21780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Picture 10" descr="teacher01"/>
          <p:cNvPicPr/>
          <p:nvPr/>
        </p:nvPicPr>
        <p:blipFill>
          <a:blip r:embed="rId3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2016000" cy="1798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2016000" cy="1692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04292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4360" y="220500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020000" y="220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50920" y="3789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因为这三个角的度数都小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088000" y="4941720"/>
            <a:ext cx="453600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小于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的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叫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锐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81540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362376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82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657648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74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547" name="AutoShape 5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于直角的角叫锐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7" descr="ren11"/>
            <p:cNvPicPr/>
            <p:nvPr/>
          </p:nvPicPr>
          <p:blipFill>
            <a:blip r:embed="rId4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60720" cy="1798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2087640" cy="1708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1944720" cy="16783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971640" y="2133720"/>
            <a:ext cx="140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25772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699444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941120" y="3645000"/>
            <a:ext cx="5367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因为它们的度数既大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18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780000" y="4365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这叫做</a:t>
            </a:r>
            <a:r>
              <a:rPr b="1" lang="zh-CN" sz="4400" spc="-1" strike="noStrike" u="sng">
                <a:solidFill>
                  <a:srgbClr val="3b812f"/>
                </a:solidFill>
                <a:uFillTx/>
                <a:latin typeface="Times New Roman"/>
              </a:rPr>
              <a:t>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55760" y="2708280"/>
            <a:ext cx="23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15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3621960" y="263700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552720" y="2708280"/>
            <a:ext cx="23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4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565" name="AutoShape 5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于直角而小于平角的角叫钝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7" descr="ren09"/>
            <p:cNvPicPr/>
            <p:nvPr/>
          </p:nvPicPr>
          <p:blipFill>
            <a:blip r:embed="rId4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1676520" y="0"/>
            <a:ext cx="4267080" cy="29512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1187280" y="206064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是周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250920" y="29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Times New Roman"/>
              </a:rPr>
              <a:t>因为这个角也有顶点和两条边，只不过两边重合了</a:t>
            </a:r>
            <a:r>
              <a:rPr b="0" lang="zh-CN" sz="5400" spc="-1" strike="noStrike">
                <a:solidFill>
                  <a:srgbClr val="3b812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0" y="4724280"/>
            <a:ext cx="875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注意：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1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周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2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平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4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直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                      </a:t>
            </a:r>
            <a:r>
              <a:rPr b="0" lang="zh-CN" sz="6600" spc="-1" strike="noStrike" u="sng">
                <a:solidFill>
                  <a:srgbClr val="996600"/>
                </a:solidFill>
                <a:uFillTx/>
                <a:latin typeface="Times New Roman"/>
              </a:rPr>
              <a:t>=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360</a:t>
            </a:r>
            <a:r>
              <a:rPr b="1" lang="zh-CN" sz="4400" spc="-1" strike="noStrike" u="sng">
                <a:solidFill>
                  <a:srgbClr val="cc9900"/>
                </a:solidFill>
                <a:uFillTx/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周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6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一周所成的角叫做周角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576" name="AutoShape 5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"/>
            <p:cNvSpPr/>
            <p:nvPr/>
          </p:nvSpPr>
          <p:spPr>
            <a:xfrm flipV="1">
              <a:off x="2523600" y="2397240"/>
              <a:ext cx="19080" cy="489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teacher02"/>
          <p:cNvPicPr/>
          <p:nvPr/>
        </p:nvPicPr>
        <p:blipFill>
          <a:blip r:embed="rId2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2050920" y="549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5128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"/>
          <p:cNvPicPr/>
          <p:nvPr/>
        </p:nvPicPr>
        <p:blipFill>
          <a:blip r:embed="rId6"/>
          <a:stretch/>
        </p:blipFill>
        <p:spPr>
          <a:xfrm>
            <a:off x="7451640" y="54936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"/>
          <p:cNvPicPr/>
          <p:nvPr/>
        </p:nvPicPr>
        <p:blipFill>
          <a:blip r:embed="rId10"/>
          <a:stretch/>
        </p:blipFill>
        <p:spPr>
          <a:xfrm>
            <a:off x="5292720" y="3716280"/>
            <a:ext cx="1655640" cy="12193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637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093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596664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774072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51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575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2340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14796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586728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05632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385596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2127600" y="530064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147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656320" y="249228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385668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48080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5511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468360" y="580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4140360" y="5805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012000" y="306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2268360" y="306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406728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234000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46836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740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558000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41"/>
          <p:cNvGrpSpPr/>
          <p:nvPr/>
        </p:nvGrpSpPr>
        <p:grpSpPr>
          <a:xfrm>
            <a:off x="7236000" y="3789360"/>
            <a:ext cx="1692000" cy="1152360"/>
            <a:chOff x="7236000" y="3789360"/>
            <a:chExt cx="1692000" cy="1152360"/>
          </a:xfrm>
        </p:grpSpPr>
        <p:sp>
          <p:nvSpPr>
            <p:cNvPr id="621" name="Rectangle 42"/>
            <p:cNvSpPr/>
            <p:nvPr/>
          </p:nvSpPr>
          <p:spPr>
            <a:xfrm>
              <a:off x="7236000" y="3789360"/>
              <a:ext cx="169200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3"/>
            <p:cNvGrpSpPr/>
            <p:nvPr/>
          </p:nvGrpSpPr>
          <p:grpSpPr>
            <a:xfrm>
              <a:off x="7362360" y="3840480"/>
              <a:ext cx="1385280" cy="830880"/>
              <a:chOff x="7362360" y="3840480"/>
              <a:chExt cx="1385280" cy="830880"/>
            </a:xfrm>
          </p:grpSpPr>
          <p:grpSp>
            <p:nvGrpSpPr>
              <p:cNvPr id="623" name="Group 44"/>
              <p:cNvGrpSpPr/>
              <p:nvPr/>
            </p:nvGrpSpPr>
            <p:grpSpPr>
              <a:xfrm>
                <a:off x="7884720" y="4163760"/>
                <a:ext cx="862920" cy="216000"/>
                <a:chOff x="7884720" y="4163760"/>
                <a:chExt cx="862920" cy="216000"/>
              </a:xfrm>
            </p:grpSpPr>
            <p:sp>
              <p:nvSpPr>
                <p:cNvPr id="624" name="Line 45"/>
                <p:cNvSpPr/>
                <p:nvPr/>
              </p:nvSpPr>
              <p:spPr>
                <a:xfrm>
                  <a:off x="7884720" y="4294080"/>
                  <a:ext cx="86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46"/>
                <p:cNvSpPr/>
                <p:nvPr/>
              </p:nvSpPr>
              <p:spPr>
                <a:xfrm>
                  <a:off x="7884720" y="416376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7"/>
              <p:cNvGrpSpPr/>
              <p:nvPr/>
            </p:nvGrpSpPr>
            <p:grpSpPr>
              <a:xfrm>
                <a:off x="7362360" y="3840480"/>
                <a:ext cx="844200" cy="830880"/>
                <a:chOff x="7362360" y="3840480"/>
                <a:chExt cx="844200" cy="830880"/>
              </a:xfrm>
            </p:grpSpPr>
            <p:sp>
              <p:nvSpPr>
                <p:cNvPr id="627" name="Arc 48"/>
                <p:cNvSpPr/>
                <p:nvPr/>
              </p:nvSpPr>
              <p:spPr>
                <a:xfrm rot="6580800">
                  <a:off x="7462080" y="3922920"/>
                  <a:ext cx="644400" cy="6660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" name="Group 49"/>
                <p:cNvGrpSpPr/>
                <p:nvPr/>
              </p:nvGrpSpPr>
              <p:grpSpPr>
                <a:xfrm>
                  <a:off x="7931160" y="4472640"/>
                  <a:ext cx="160560" cy="93960"/>
                  <a:chOff x="7931160" y="4472640"/>
                  <a:chExt cx="160560" cy="93960"/>
                </a:xfrm>
              </p:grpSpPr>
              <p:sp>
                <p:nvSpPr>
                  <p:cNvPr id="629" name="Line 50"/>
                  <p:cNvSpPr/>
                  <p:nvPr/>
                </p:nvSpPr>
                <p:spPr>
                  <a:xfrm flipH="1">
                    <a:off x="7931160" y="448884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51"/>
                  <p:cNvSpPr/>
                  <p:nvPr/>
                </p:nvSpPr>
                <p:spPr>
                  <a:xfrm>
                    <a:off x="8026560" y="447264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1" name="Rectangle 52"/>
          <p:cNvSpPr/>
          <p:nvPr/>
        </p:nvSpPr>
        <p:spPr>
          <a:xfrm>
            <a:off x="7694280" y="4941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24720" y="5445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7211880" y="5300640"/>
            <a:ext cx="17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360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5"/>
          <p:cNvSpPr/>
          <p:nvPr/>
        </p:nvSpPr>
        <p:spPr>
          <a:xfrm>
            <a:off x="7575480" y="5810400"/>
            <a:ext cx="10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95280" y="26028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刚才我们把角分成了哪几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按从大到小的顺序应怎样排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它们分别有什么特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611280" y="333360"/>
          <a:ext cx="8064360" cy="6245280"/>
        </p:xfrm>
        <a:graphic>
          <a:graphicData uri="http://schemas.openxmlformats.org/drawingml/2006/table">
            <a:tbl>
              <a:tblPr/>
              <a:tblGrid>
                <a:gridCol w="1598400"/>
                <a:gridCol w="6465960"/>
              </a:tblGrid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周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平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＝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钝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而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锐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  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9"/>
          <p:cNvSpPr/>
          <p:nvPr/>
        </p:nvSpPr>
        <p:spPr>
          <a:xfrm>
            <a:off x="2315880" y="2067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小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锐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280960" y="3453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钝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2156040" y="470952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平角就是一条直线。      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7394400" y="3249720"/>
            <a:ext cx="10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7429680" y="18572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7451640" y="4545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10"/>
          <p:cNvSpPr/>
          <p:nvPr/>
        </p:nvSpPr>
        <p:spPr>
          <a:xfrm>
            <a:off x="2864520" y="642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判  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557280" y="84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已知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=12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其他三个角各是多少度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836720" y="510048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=60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649" name="Line 6"/>
            <p:cNvSpPr/>
            <p:nvPr/>
          </p:nvSpPr>
          <p:spPr>
            <a:xfrm>
              <a:off x="2848320" y="334296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"/>
            <p:cNvSpPr/>
            <p:nvPr/>
          </p:nvSpPr>
          <p:spPr>
            <a:xfrm>
              <a:off x="2923200" y="3261960"/>
              <a:ext cx="2727720" cy="13093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9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0"/>
            <p:cNvSpPr/>
            <p:nvPr/>
          </p:nvSpPr>
          <p:spPr>
            <a:xfrm rot="5167800">
              <a:off x="3798000" y="368964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1"/>
            <p:cNvSpPr/>
            <p:nvPr/>
          </p:nvSpPr>
          <p:spPr>
            <a:xfrm rot="16200000">
              <a:off x="3702960" y="360612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2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4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5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6"/>
            <p:cNvSpPr/>
            <p:nvPr/>
          </p:nvSpPr>
          <p:spPr>
            <a:xfrm>
              <a:off x="299880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7"/>
          <p:cNvSpPr/>
          <p:nvPr/>
        </p:nvSpPr>
        <p:spPr>
          <a:xfrm>
            <a:off x="320364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=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5148360" y="52293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=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9" descr="量角器"/>
          <p:cNvPicPr/>
          <p:nvPr/>
        </p:nvPicPr>
        <p:blipFill>
          <a:blip r:embed="rId2"/>
          <a:stretch/>
        </p:blipFill>
        <p:spPr>
          <a:xfrm rot="20290800">
            <a:off x="1407600" y="553680"/>
            <a:ext cx="4681800" cy="268452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3"/>
          <p:cNvGrpSpPr/>
          <p:nvPr/>
        </p:nvGrpSpPr>
        <p:grpSpPr>
          <a:xfrm>
            <a:off x="2124000" y="2133720"/>
            <a:ext cx="4032000" cy="1726920"/>
            <a:chOff x="2124000" y="2133720"/>
            <a:chExt cx="4032000" cy="1726920"/>
          </a:xfrm>
        </p:grpSpPr>
        <p:sp>
          <p:nvSpPr>
            <p:cNvPr id="664" name="Line 5"/>
            <p:cNvSpPr/>
            <p:nvPr/>
          </p:nvSpPr>
          <p:spPr>
            <a:xfrm flipV="1">
              <a:off x="2124000" y="2133720"/>
              <a:ext cx="3696120" cy="1480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796120" y="2133720"/>
              <a:ext cx="3359880" cy="1726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rc 7"/>
          <p:cNvSpPr/>
          <p:nvPr/>
        </p:nvSpPr>
        <p:spPr>
          <a:xfrm flipV="1">
            <a:off x="4429080" y="2637000"/>
            <a:ext cx="216000" cy="320400"/>
          </a:xfrm>
          <a:custGeom>
            <a:avLst/>
            <a:gdLst>
              <a:gd name="textAreaLeft" fmla="*/ 0 w 216000"/>
              <a:gd name="textAreaRight" fmla="*/ 216360 w 216000"/>
              <a:gd name="textAreaTop" fmla="*/ 360 h 320400"/>
              <a:gd name="textAreaBottom" fmla="*/ 321120 h 320400"/>
            </a:gdLst>
            <a:ahLst/>
            <a:rect l="textAreaLeft" t="textAreaTop" r="textAreaRight" b="textAreaBottom"/>
            <a:pathLst>
              <a:path fill="none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</a:path>
              <a:path stroke="0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rc 9"/>
          <p:cNvSpPr/>
          <p:nvPr/>
        </p:nvSpPr>
        <p:spPr>
          <a:xfrm flipV="1" rot="13329600">
            <a:off x="3924000" y="2491560"/>
            <a:ext cx="431640" cy="385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385920"/>
              <a:gd name="textAreaBottom" fmla="*/ 386640 h 385920"/>
            </a:gdLst>
            <a:ahLst/>
            <a:rect l="textAreaLeft" t="textAreaTop" r="textAreaRight" b="textAreaBottom"/>
            <a:pathLst>
              <a:path fill="none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</a:path>
              <a:path stroke="0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rc 11"/>
          <p:cNvSpPr/>
          <p:nvPr/>
        </p:nvSpPr>
        <p:spPr>
          <a:xfrm flipV="1" rot="2161200">
            <a:off x="3852360" y="2784960"/>
            <a:ext cx="432360" cy="355680"/>
          </a:xfrm>
          <a:custGeom>
            <a:avLst/>
            <a:gdLst>
              <a:gd name="textAreaLeft" fmla="*/ 0 w 432360"/>
              <a:gd name="textAreaRight" fmla="*/ 432720 w 43236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</a:path>
              <a:path stroke="0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14"/>
          <p:cNvSpPr/>
          <p:nvPr/>
        </p:nvSpPr>
        <p:spPr>
          <a:xfrm flipV="1" rot="7461000">
            <a:off x="3576960" y="2623680"/>
            <a:ext cx="260280" cy="287280"/>
          </a:xfrm>
          <a:custGeom>
            <a:avLst/>
            <a:gdLst>
              <a:gd name="textAreaLeft" fmla="*/ 0 w 260280"/>
              <a:gd name="textAreaRight" fmla="*/ 260640 w 260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</a:path>
              <a:path stroke="0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  <a:lnTo>
                  <a:pt x="691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24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148360" y="2685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3780000" y="3189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2771640" y="261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2689200" y="38577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13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2833560" y="436248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4273560" y="4362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4"/>
          <p:cNvSpPr/>
          <p:nvPr/>
        </p:nvSpPr>
        <p:spPr>
          <a:xfrm>
            <a:off x="4202280" y="4938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4273560" y="5586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6" descr="5"/>
          <p:cNvPicPr/>
          <p:nvPr/>
        </p:nvPicPr>
        <p:blipFill>
          <a:blip r:embed="rId3"/>
          <a:stretch/>
        </p:blipFill>
        <p:spPr>
          <a:xfrm>
            <a:off x="6516720" y="5764320"/>
            <a:ext cx="2627280" cy="109368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27"/>
          <p:cNvSpPr/>
          <p:nvPr/>
        </p:nvSpPr>
        <p:spPr>
          <a:xfrm rot="17848800">
            <a:off x="4253400" y="20293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8"/>
          <p:cNvSpPr/>
          <p:nvPr/>
        </p:nvSpPr>
        <p:spPr>
          <a:xfrm rot="4069800">
            <a:off x="3989520" y="23551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250920" y="26028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量一量    算一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"/>
          <p:cNvPicPr/>
          <p:nvPr/>
        </p:nvPicPr>
        <p:blipFill>
          <a:blip r:embed="rId2"/>
          <a:stretch/>
        </p:blipFill>
        <p:spPr>
          <a:xfrm>
            <a:off x="252360" y="260280"/>
            <a:ext cx="8658360" cy="62168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2700360" y="1917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844720" y="38606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916360" y="4726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844720" y="5445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WordArt 3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2706840" cy="13287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4"/>
          <p:cNvSpPr/>
          <p:nvPr/>
        </p:nvSpPr>
        <p:spPr>
          <a:xfrm>
            <a:off x="1614960" y="1557360"/>
            <a:ext cx="11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826920" y="2492280"/>
            <a:ext cx="79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把下面各角归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7°   8°     90°    8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0°   360° 145°  5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1 °   70°    89 °  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角各是哪一种角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695" name="Picture 5" descr="09"/>
            <p:cNvPicPr/>
            <p:nvPr/>
          </p:nvPicPr>
          <p:blipFill>
            <a:blip r:embed="rId2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6"/>
            <p:cNvSpPr/>
            <p:nvPr/>
          </p:nvSpPr>
          <p:spPr>
            <a:xfrm>
              <a:off x="900000" y="275400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 Box 7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钝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直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锐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1"/>
          <p:cNvGrpSpPr/>
          <p:nvPr/>
        </p:nvGrpSpPr>
        <p:grpSpPr>
          <a:xfrm>
            <a:off x="2627280" y="2923920"/>
            <a:ext cx="5940360" cy="1222560"/>
            <a:chOff x="2627280" y="2923920"/>
            <a:chExt cx="5940360" cy="1222560"/>
          </a:xfrm>
        </p:grpSpPr>
        <p:sp>
          <p:nvSpPr>
            <p:cNvPr id="702" name="Line 12"/>
            <p:cNvSpPr/>
            <p:nvPr/>
          </p:nvSpPr>
          <p:spPr>
            <a:xfrm>
              <a:off x="2627280" y="393804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 flipV="1">
              <a:off x="3851280" y="2924280"/>
              <a:ext cx="64764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4498920" y="393804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5"/>
            <p:cNvSpPr/>
            <p:nvPr/>
          </p:nvSpPr>
          <p:spPr>
            <a:xfrm flipV="1">
              <a:off x="5506920" y="2924280"/>
              <a:ext cx="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5651640" y="3866400"/>
              <a:ext cx="165564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7451640" y="386640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7451640" y="2923920"/>
              <a:ext cx="1042920" cy="9421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6443640" y="3794040"/>
              <a:ext cx="0" cy="7200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 rot="3205200">
              <a:off x="3482640" y="3498120"/>
              <a:ext cx="5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>
              <a:off x="5362560" y="3720600"/>
              <a:ext cx="144360" cy="21708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2"/>
            <p:cNvSpPr/>
            <p:nvPr/>
          </p:nvSpPr>
          <p:spPr>
            <a:xfrm rot="9359400">
              <a:off x="7596000" y="34333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3"/>
            <p:cNvSpPr/>
            <p:nvPr/>
          </p:nvSpPr>
          <p:spPr>
            <a:xfrm>
              <a:off x="3419280" y="3272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4"/>
            <p:cNvSpPr/>
            <p:nvPr/>
          </p:nvSpPr>
          <p:spPr>
            <a:xfrm>
              <a:off x="5002200" y="32148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5"/>
            <p:cNvSpPr/>
            <p:nvPr/>
          </p:nvSpPr>
          <p:spPr>
            <a:xfrm>
              <a:off x="6227640" y="319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6"/>
            <p:cNvSpPr/>
            <p:nvPr/>
          </p:nvSpPr>
          <p:spPr>
            <a:xfrm>
              <a:off x="7885080" y="3415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27"/>
            <p:cNvSpPr/>
            <p:nvPr/>
          </p:nvSpPr>
          <p:spPr>
            <a:xfrm flipV="1">
              <a:off x="6227640" y="3648240"/>
              <a:ext cx="360360" cy="217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217080"/>
                <a:gd name="textAreaBottom" fmla="*/ 217080 h 217080"/>
              </a:gdLst>
              <a:ahLst/>
              <a:rect l="textAreaLeft" t="textAreaTop" r="textAreaRight" b="textAreaBottom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98100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判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平角其实就是一条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周角是一条射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角是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两个直角等于一个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钝角总比锐角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直角的一半是锐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 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02"/>
          <p:cNvPicPr/>
          <p:nvPr/>
        </p:nvPicPr>
        <p:blipFill>
          <a:blip r:embed="rId2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图片1"/>
          <p:cNvPicPr/>
          <p:nvPr/>
        </p:nvPicPr>
        <p:blipFill>
          <a:blip r:embed="rId1"/>
          <a:stretch/>
        </p:blipFill>
        <p:spPr>
          <a:xfrm>
            <a:off x="-3417840" y="-168120"/>
            <a:ext cx="9139320" cy="68911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17480" y="173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请看下面的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1230120" cy="1295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7"/>
          <a:stretch/>
        </p:blipFill>
        <p:spPr>
          <a:xfrm>
            <a:off x="324000" y="278136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8"/>
          <a:stretch/>
        </p:blipFill>
        <p:spPr>
          <a:xfrm>
            <a:off x="2124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9"/>
          <a:stretch/>
        </p:blipFill>
        <p:spPr>
          <a:xfrm>
            <a:off x="3851280" y="278136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"/>
          <p:cNvPicPr/>
          <p:nvPr/>
        </p:nvPicPr>
        <p:blipFill>
          <a:blip r:embed="rId10"/>
          <a:stretch/>
        </p:blipFill>
        <p:spPr>
          <a:xfrm>
            <a:off x="5364000" y="278136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3"/>
          <p:cNvSpPr/>
          <p:nvPr/>
        </p:nvSpPr>
        <p:spPr>
          <a:xfrm>
            <a:off x="5936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712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38824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141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9698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77986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710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236592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166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5867280" y="40766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140328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、量出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个角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179280" y="45086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03280" y="4581360"/>
            <a:ext cx="770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、这些都是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6"/>
          <p:cNvGrpSpPr/>
          <p:nvPr/>
        </p:nvGrpSpPr>
        <p:grpSpPr>
          <a:xfrm>
            <a:off x="7451640" y="2852640"/>
            <a:ext cx="1692360" cy="1152360"/>
            <a:chOff x="7451640" y="2852640"/>
            <a:chExt cx="1692360" cy="1152360"/>
          </a:xfrm>
        </p:grpSpPr>
        <p:sp>
          <p:nvSpPr>
            <p:cNvPr id="445" name="Rectangle 27"/>
            <p:cNvSpPr/>
            <p:nvPr/>
          </p:nvSpPr>
          <p:spPr>
            <a:xfrm>
              <a:off x="7451640" y="285264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8"/>
            <p:cNvGrpSpPr/>
            <p:nvPr/>
          </p:nvGrpSpPr>
          <p:grpSpPr>
            <a:xfrm>
              <a:off x="7578000" y="2903760"/>
              <a:ext cx="1386000" cy="830880"/>
              <a:chOff x="7578000" y="2903760"/>
              <a:chExt cx="1386000" cy="830880"/>
            </a:xfrm>
          </p:grpSpPr>
          <p:grpSp>
            <p:nvGrpSpPr>
              <p:cNvPr id="447" name="Group 29"/>
              <p:cNvGrpSpPr/>
              <p:nvPr/>
            </p:nvGrpSpPr>
            <p:grpSpPr>
              <a:xfrm>
                <a:off x="8100720" y="3227040"/>
                <a:ext cx="863280" cy="216000"/>
                <a:chOff x="8100720" y="3227040"/>
                <a:chExt cx="863280" cy="216000"/>
              </a:xfrm>
            </p:grpSpPr>
            <p:sp>
              <p:nvSpPr>
                <p:cNvPr id="448" name="Line 30"/>
                <p:cNvSpPr/>
                <p:nvPr/>
              </p:nvSpPr>
              <p:spPr>
                <a:xfrm>
                  <a:off x="8100720" y="335736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31"/>
                <p:cNvSpPr/>
                <p:nvPr/>
              </p:nvSpPr>
              <p:spPr>
                <a:xfrm>
                  <a:off x="8100720" y="322704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7578000" y="2903760"/>
                <a:ext cx="844560" cy="830880"/>
                <a:chOff x="7578000" y="2903760"/>
                <a:chExt cx="844560" cy="830880"/>
              </a:xfrm>
            </p:grpSpPr>
            <p:sp>
              <p:nvSpPr>
                <p:cNvPr id="451" name="Arc 33"/>
                <p:cNvSpPr/>
                <p:nvPr/>
              </p:nvSpPr>
              <p:spPr>
                <a:xfrm rot="6580800">
                  <a:off x="7678080" y="298584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34"/>
                <p:cNvGrpSpPr/>
                <p:nvPr/>
              </p:nvGrpSpPr>
              <p:grpSpPr>
                <a:xfrm>
                  <a:off x="8147520" y="3535920"/>
                  <a:ext cx="160560" cy="93960"/>
                  <a:chOff x="8147520" y="3535920"/>
                  <a:chExt cx="160560" cy="93960"/>
                </a:xfrm>
              </p:grpSpPr>
              <p:sp>
                <p:nvSpPr>
                  <p:cNvPr id="453" name="Line 35"/>
                  <p:cNvSpPr/>
                  <p:nvPr/>
                </p:nvSpPr>
                <p:spPr>
                  <a:xfrm flipH="1">
                    <a:off x="8147520" y="355212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6"/>
                  <p:cNvSpPr/>
                  <p:nvPr/>
                </p:nvSpPr>
                <p:spPr>
                  <a:xfrm>
                    <a:off x="8242920" y="353592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5" name="Text Box 37"/>
          <p:cNvSpPr/>
          <p:nvPr/>
        </p:nvSpPr>
        <p:spPr>
          <a:xfrm>
            <a:off x="7864560" y="40831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8"/>
          <p:cNvSpPr/>
          <p:nvPr/>
        </p:nvSpPr>
        <p:spPr>
          <a:xfrm>
            <a:off x="4322520" y="32464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图片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10"/>
          <a:stretch/>
        </p:blipFill>
        <p:spPr>
          <a:xfrm>
            <a:off x="5364000" y="3716280"/>
            <a:ext cx="1800360" cy="12193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35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4064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8935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7646040" y="2133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243756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893560" y="502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238824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17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6324480" y="50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2094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3893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2163960" y="5300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437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5751720" y="2743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3846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75805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5619960" y="53006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7380360" y="3716280"/>
            <a:ext cx="1692360" cy="1152360"/>
            <a:chOff x="7380360" y="3716280"/>
            <a:chExt cx="1692360" cy="1152360"/>
          </a:xfrm>
        </p:grpSpPr>
        <p:sp>
          <p:nvSpPr>
            <p:cNvPr id="488" name="Rectangle 33"/>
            <p:cNvSpPr/>
            <p:nvPr/>
          </p:nvSpPr>
          <p:spPr>
            <a:xfrm>
              <a:off x="7380360" y="371628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34"/>
            <p:cNvGrpSpPr/>
            <p:nvPr/>
          </p:nvGrpSpPr>
          <p:grpSpPr>
            <a:xfrm>
              <a:off x="7506720" y="3767400"/>
              <a:ext cx="1386000" cy="830880"/>
              <a:chOff x="7506720" y="3767400"/>
              <a:chExt cx="1386000" cy="830880"/>
            </a:xfrm>
          </p:grpSpPr>
          <p:grpSp>
            <p:nvGrpSpPr>
              <p:cNvPr id="490" name="Group 35"/>
              <p:cNvGrpSpPr/>
              <p:nvPr/>
            </p:nvGrpSpPr>
            <p:grpSpPr>
              <a:xfrm>
                <a:off x="8029440" y="4090680"/>
                <a:ext cx="863280" cy="216000"/>
                <a:chOff x="8029440" y="4090680"/>
                <a:chExt cx="863280" cy="216000"/>
              </a:xfrm>
            </p:grpSpPr>
            <p:sp>
              <p:nvSpPr>
                <p:cNvPr id="491" name="Line 36"/>
                <p:cNvSpPr/>
                <p:nvPr/>
              </p:nvSpPr>
              <p:spPr>
                <a:xfrm>
                  <a:off x="8029440" y="422100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8029440" y="409068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38"/>
              <p:cNvGrpSpPr/>
              <p:nvPr/>
            </p:nvGrpSpPr>
            <p:grpSpPr>
              <a:xfrm>
                <a:off x="7506720" y="3767400"/>
                <a:ext cx="844560" cy="830880"/>
                <a:chOff x="7506720" y="3767400"/>
                <a:chExt cx="844560" cy="830880"/>
              </a:xfrm>
            </p:grpSpPr>
            <p:sp>
              <p:nvSpPr>
                <p:cNvPr id="494" name="Arc 39"/>
                <p:cNvSpPr/>
                <p:nvPr/>
              </p:nvSpPr>
              <p:spPr>
                <a:xfrm rot="6580800">
                  <a:off x="7606800" y="384948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40"/>
                <p:cNvGrpSpPr/>
                <p:nvPr/>
              </p:nvGrpSpPr>
              <p:grpSpPr>
                <a:xfrm>
                  <a:off x="8076240" y="4399560"/>
                  <a:ext cx="160560" cy="93960"/>
                  <a:chOff x="8076240" y="4399560"/>
                  <a:chExt cx="160560" cy="93960"/>
                </a:xfrm>
              </p:grpSpPr>
              <p:sp>
                <p:nvSpPr>
                  <p:cNvPr id="496" name="Line 41"/>
                  <p:cNvSpPr/>
                  <p:nvPr/>
                </p:nvSpPr>
                <p:spPr>
                  <a:xfrm flipH="1">
                    <a:off x="8076240" y="441576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2"/>
                  <p:cNvSpPr/>
                  <p:nvPr/>
                </p:nvSpPr>
                <p:spPr>
                  <a:xfrm>
                    <a:off x="8171640" y="439956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98" name="Rectangle 43"/>
          <p:cNvSpPr/>
          <p:nvPr/>
        </p:nvSpPr>
        <p:spPr>
          <a:xfrm>
            <a:off x="8054640" y="494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图片1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250920" y="1916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角可以分成哪几类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468360" y="6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想一想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24000" y="39337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各类角有什么特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268720" cy="1886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2162160" cy="17766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025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481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2127240" y="3068640"/>
            <a:ext cx="40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们的度数都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度，是直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2944440" y="3933720"/>
            <a:ext cx="222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一个直角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=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4000" y="472428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直角是一种特殊角，它的度数是固定不变的，是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3"/>
          <p:cNvGrpSpPr/>
          <p:nvPr/>
        </p:nvGrpSpPr>
        <p:grpSpPr>
          <a:xfrm>
            <a:off x="5045760" y="2348280"/>
            <a:ext cx="3447000" cy="3960360"/>
            <a:chOff x="5045760" y="2348280"/>
            <a:chExt cx="3447000" cy="3960360"/>
          </a:xfrm>
        </p:grpSpPr>
        <p:sp>
          <p:nvSpPr>
            <p:cNvPr id="513" name="AutoShape 4"/>
            <p:cNvSpPr/>
            <p:nvPr/>
          </p:nvSpPr>
          <p:spPr>
            <a:xfrm rot="220800">
              <a:off x="5076720" y="2455560"/>
              <a:ext cx="3384720" cy="107964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279760" y="2631960"/>
              <a:ext cx="313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角的一半是直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ren08"/>
            <p:cNvPicPr/>
            <p:nvPr/>
          </p:nvPicPr>
          <p:blipFill>
            <a:blip r:embed="rId3"/>
            <a:stretch/>
          </p:blipFill>
          <p:spPr>
            <a:xfrm>
              <a:off x="5748120" y="3816360"/>
              <a:ext cx="193860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7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79640" cy="1729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5534280" y="7650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种角叫做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0" y="2852640"/>
            <a:ext cx="1015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因为它比较特殊，角的两边成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直线，它的度数刚好是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80 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244520" y="4869000"/>
            <a:ext cx="39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平角＝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直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27120" y="2209680"/>
            <a:ext cx="74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1574280" y="227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8:55:16Z</dcterms:created>
  <dc:creator>杨权贵</dc:creator>
  <dc:description/>
  <cp:keywords/>
  <dc:language>en-US</dc:language>
  <cp:lastModifiedBy>Administrator</cp:lastModifiedBy>
  <dcterms:modified xsi:type="dcterms:W3CDTF">2015-01-24T02:11:52Z</dcterms:modified>
  <cp:revision>47</cp:revision>
  <dc:subject/>
  <dc:title>角的分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