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17.png" ContentType="image/png"/>
  <Override PartName="/ppt/media/chimes.wav" ContentType="audio/x-wav"/>
  <Override PartName="/ppt/media/wind.wav" ContentType="audio/x-wav"/>
  <Override PartName="/ppt/media/image41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3.png" ContentType="image/png"/>
  <Override PartName="/ppt/media/push.wav" ContentType="audio/x-wav"/>
  <Override PartName="/ppt/media/image13.jpeg" ContentType="image/jpeg"/>
  <Override PartName="/ppt/media/image4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hammer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2.png" ContentType="image/png"/>
  <Override PartName="/ppt/media/laser.wav" ContentType="audio/x-wav"/>
  <Override PartName="/ppt/media/image27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29.wmf" ContentType="image/x-wmf"/>
  <Override PartName="/ppt/media/image31.png" ContentType="image/png"/>
  <Override PartName="/ppt/media/image43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suction.wav" ContentType="audio/x-wav"/>
  <Override PartName="/ppt/media/image4.jpeg" ContentType="image/jpeg"/>
  <Override PartName="/ppt/media/image25.png" ContentType="image/png"/>
  <Override PartName="/ppt/media/image30.png" ContentType="image/png"/>
  <Override PartName="/ppt/media/voltage.wav" ContentType="audio/x-wav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AC5-090F-455C-9E71-40321776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48B-378D-4166-8A62-2DC9FDB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021AB-7DCE-4614-A81F-5A2A1335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ED3-3643-46F5-ABFD-287C9C6E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B2EF5-3726-4007-8465-83689D39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1403F-696F-442A-92D2-AE0CF322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BC656-49B1-459F-92AB-688F55F7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F68E6-F467-4B0F-87E2-5DE38C2F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70C14-A119-462B-9DBE-0192BE53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D42D1-EDC4-4E0C-8D5A-99CA3D69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58012-517A-4AFA-B63A-21BDBA3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2BABC-FEBF-4ED9-B542-911F5A6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49781-2CF4-44C7-8C7C-47ED343E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2BDCE-E80C-46A6-8458-C9BF9D07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EF1-BF1D-4F8A-80FE-6145A29A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C873A-B61E-4F42-86DE-A57BC68B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E00D-6762-4ED4-9A68-68C8A307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8BAD-9A8E-47EA-B6EA-71443C9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33B0-8D66-45DE-A1B7-82400976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C3AF-EF8C-4737-AF14-A7DEA6FF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B6B9-6AC0-4307-9E90-D7F9C44B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450-9D5B-4F08-9B00-D1D67B4D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47AF-DF48-4A99-A422-ED4B9F1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978-4B5D-47A5-B33B-017F3F17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7482-4D5C-414C-9622-D2C24A7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F12E-E836-49B3-B955-70303875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708A-8B73-4248-BE62-7757EF12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32B2-46B0-48A5-AB42-C0C49EA3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7277-EE8A-4F5E-A0A2-C1480A8A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5FBC-1223-4B11-BB24-2BBDA8D9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BB4F-08F6-4075-811A-917B3515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C8FB-C477-4012-A655-E865AE39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1D67-C1DF-4933-AF9B-F679126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EB04-8382-4E03-A585-3CA81881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FBF-9C71-4556-A492-167911D7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50C5-A14B-4E3F-BE93-3BD1ACF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DC36-4079-4624-BFE7-36FB01A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E4C7-599D-40D3-8431-061D0F1B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12DC-62C3-4CF7-A2EF-3ECE4CA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1E34-F00B-4A0F-B80C-84727F8F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DB15-A5AC-4413-A419-CF478DDD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9DBE-A013-4121-B888-6F9D18C1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450A0-21C9-4D57-8BF3-2467C0559D2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82919-790F-4357-882C-81478EA9E8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802445-CE3B-4326-9BAD-62B311C13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DA2-FE67-4204-8ACA-C22F0E13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BC7C8-3423-4227-8289-47DB4745A4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6BFED-6B2F-4DDD-B483-CA6D6BBDFE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3DDB0-6A95-4D0A-B62C-DC5252713F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DE8C2-30D8-41CE-BBD1-C483016011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84904-AD2D-44C0-A404-53DA590F44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1893F-A699-4F5D-B9E3-0FCBC4A39A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B27B8-30B7-4B67-A611-DC93B27F75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2C801-A3C0-450A-B1DE-AC0138BFF8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D3E3B-4DDC-4B55-9340-74C13566832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54C5CE-60A0-4A59-BFAF-C9302002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E6E-E090-4AA6-A987-EFBADA9B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78EDBD-AA1D-49FB-B942-D70FFD7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183E48-9A93-43EF-A2E4-6A9F4110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D3D244-0E48-417D-80A6-5A78743C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3EF165-D1A2-43CD-A371-D39AB27D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5CDE7E-3ED1-42F5-923F-0CBC3E57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CA947C-AC0D-435C-986A-7A7559D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092E42-3688-4586-A838-8EA5C976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5C10E4-5619-4B4D-86E6-9E36CA4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ED8439-B151-4519-8B83-7CCAD391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1ACF33-B5D9-4788-8FAF-76D3AE6F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3C0-1284-4963-8962-01AAF632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76048-BD51-46BD-999F-BA89BD20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3285D-00D7-4173-99E1-82393A55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415098-4938-4742-8CB2-FA7E66DA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6F3521-115D-4A12-B588-EF8C422F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C29EB5-71AE-4333-BC04-6F51E9A7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9324DB-D42F-44D7-83BF-5B9C0B29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730C5-7D93-4F83-BAC2-ED8E7A64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0B070D-884A-4C80-9A6A-BCF9BF7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BF73D4-F730-4182-87C2-49E8B3C7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FDDA5-9619-43D9-B6C1-FC4CC4F1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795-3D9B-408F-AFA2-20F85AC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D997D2-11B5-450B-B8C1-6A2CFAC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16B405-4BAB-4D73-9E0B-927D598D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7DC68A-1AF5-4C78-9323-F4CCDA74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D99250-2EAA-4552-AEB9-CF57095C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4EC42D-3620-40B5-894D-F323BD1C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6A4E16-7634-4820-904F-C55ABECC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9DADEA-8689-424B-B725-1A0C9E9F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775AD-4352-46C5-8C37-BF7C7719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69D9B9-907E-48A6-BA0A-316A66BD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D4205C-2DD1-4F69-A1C2-28F2E6C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CE8-6A07-4049-ABAC-2C256C3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47E9FD-A8DB-4424-B3FA-F6B0D66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D2C03E-83DD-46B7-A516-04D039D6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272164-49BE-4054-B24D-C6320D07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71E4BD-27C8-42EF-8402-B1B5A16D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62C848-F485-4419-9201-3E079E4A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37F59B-8231-416C-8EE1-21DA91E6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DBA90-62C0-4D49-9F28-C32465C4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3DA2F0-6CDE-4E46-A5D8-CCE05C38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D3341C-1247-4CE7-9C85-3BE64FB8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F35762-025A-47BE-BAE3-A0CA59BD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B09-525A-4CFC-AF44-351699F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B7888D-0BC3-4B6F-A3A6-1F1C9F04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6EFB8D-FB82-4444-B118-A6F8343B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4F3438-C3AC-4FC5-9922-2BA11489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8262D-5DF1-487B-A8EB-0DFF764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80616-ABDD-4EB9-AB80-1CCFD981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C2C520-B68C-47F4-A309-C07CD6C9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BA43AD-A0EB-42F9-AAD9-36507EF1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D6C7-DBD7-473F-8E28-24329CB984A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90F1-DBAB-432F-9891-65C86C436DA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F9F3-E5AB-4979-8AD2-7B28598C5F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4997-95C0-47EE-A991-D42077B9D1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855087F-929D-46AC-BEC5-F1BF914DDEB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ACD5-1883-40FB-9F23-BD4DAE799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776-E2DF-4325-8077-A9B58DDE9C3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B8E-9F62-40E2-A26C-7E4FB1572D8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BB0F-9381-43E2-AC14-F13AF294AB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image" Target="../media/image32.png"/><Relationship Id="rId5" Type="http://schemas.openxmlformats.org/officeDocument/2006/relationships/audio" Target="../media/hammer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26.jpeg"/><Relationship Id="rId4" Type="http://schemas.openxmlformats.org/officeDocument/2006/relationships/image" Target="../media/image34.png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6.png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audio" Target="../media/type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4920" y="189000"/>
            <a:ext cx="4105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小学数学第七册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人教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268360" y="2421000"/>
            <a:ext cx="532800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角的分类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1403280" y="3068640"/>
            <a:ext cx="43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8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半周所成的角叫做平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1332000" y="1844640"/>
            <a:ext cx="6624720" cy="649440"/>
            <a:chOff x="1332000" y="1844640"/>
            <a:chExt cx="6624720" cy="649440"/>
          </a:xfrm>
        </p:grpSpPr>
        <p:sp>
          <p:nvSpPr>
            <p:cNvPr id="527" name="AutoShape 5"/>
            <p:cNvSpPr/>
            <p:nvPr/>
          </p:nvSpPr>
          <p:spPr>
            <a:xfrm>
              <a:off x="1332000" y="1844640"/>
              <a:ext cx="6624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6"/>
            <p:cNvGrpSpPr/>
            <p:nvPr/>
          </p:nvGrpSpPr>
          <p:grpSpPr>
            <a:xfrm>
              <a:off x="1332000" y="1844640"/>
              <a:ext cx="6624000" cy="642600"/>
              <a:chOff x="1332000" y="1844640"/>
              <a:chExt cx="6624000" cy="642600"/>
            </a:xfrm>
          </p:grpSpPr>
          <p:sp>
            <p:nvSpPr>
              <p:cNvPr id="529" name="Line 7"/>
              <p:cNvSpPr/>
              <p:nvPr/>
            </p:nvSpPr>
            <p:spPr>
              <a:xfrm>
                <a:off x="1332000" y="2487240"/>
                <a:ext cx="662400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8" descr="图片1"/>
              <p:cNvPicPr/>
              <p:nvPr/>
            </p:nvPicPr>
            <p:blipFill>
              <a:blip r:embed="rId2"/>
              <a:srcRect l="0" t="0" r="-503" b="37813"/>
              <a:stretch/>
            </p:blipFill>
            <p:spPr>
              <a:xfrm>
                <a:off x="3893400" y="1844640"/>
                <a:ext cx="1565640" cy="64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Line 9"/>
            <p:cNvSpPr/>
            <p:nvPr/>
          </p:nvSpPr>
          <p:spPr>
            <a:xfrm flipH="1">
              <a:off x="3893400" y="2275920"/>
              <a:ext cx="195480" cy="21780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Picture 10" descr="teacher01"/>
          <p:cNvPicPr/>
          <p:nvPr/>
        </p:nvPicPr>
        <p:blipFill>
          <a:blip r:embed="rId3"/>
          <a:stretch/>
        </p:blipFill>
        <p:spPr>
          <a:xfrm>
            <a:off x="5651640" y="2852640"/>
            <a:ext cx="22352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2016000" cy="1798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3"/>
          <a:stretch/>
        </p:blipFill>
        <p:spPr>
          <a:xfrm>
            <a:off x="6516720" y="476280"/>
            <a:ext cx="2016000" cy="16923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104292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4360" y="220500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020000" y="220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250920" y="3789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因为这三个角的度数都小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088000" y="4941720"/>
            <a:ext cx="453600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小于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90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的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叫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锐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81540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41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362376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82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657648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74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44960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651600" y="1735920"/>
            <a:ext cx="3591000" cy="4401360"/>
            <a:chOff x="651600" y="1735920"/>
            <a:chExt cx="3591000" cy="4401360"/>
          </a:xfrm>
        </p:grpSpPr>
        <p:sp>
          <p:nvSpPr>
            <p:cNvPr id="547" name="AutoShape 5"/>
            <p:cNvSpPr/>
            <p:nvPr/>
          </p:nvSpPr>
          <p:spPr>
            <a:xfrm rot="220800">
              <a:off x="682200" y="1847880"/>
              <a:ext cx="3529080" cy="1079640"/>
            </a:xfrm>
            <a:prstGeom prst="cloudCallout">
              <a:avLst>
                <a:gd name="adj1" fmla="val 23888"/>
                <a:gd name="adj2" fmla="val 12931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934920" y="2021040"/>
              <a:ext cx="3276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于直角的角叫锐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7" descr="ren11"/>
            <p:cNvPicPr/>
            <p:nvPr/>
          </p:nvPicPr>
          <p:blipFill>
            <a:blip r:embed="rId4"/>
            <a:stretch/>
          </p:blipFill>
          <p:spPr>
            <a:xfrm>
              <a:off x="928800" y="3213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图片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160720" cy="1798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2087640" cy="1708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1944720" cy="16783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971640" y="2133720"/>
            <a:ext cx="140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25772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699444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941120" y="3645000"/>
            <a:ext cx="5367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因为它们的度数既大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小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18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3780000" y="4365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这叫做</a:t>
            </a:r>
            <a:r>
              <a:rPr b="1" lang="zh-CN" sz="4400" spc="-1" strike="noStrike" u="sng">
                <a:solidFill>
                  <a:srgbClr val="3b812f"/>
                </a:solidFill>
                <a:uFillTx/>
                <a:latin typeface="Times New Roman"/>
              </a:rPr>
              <a:t>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455760" y="2708280"/>
            <a:ext cx="23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15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3621960" y="2637000"/>
            <a:ext cx="22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6552720" y="2708280"/>
            <a:ext cx="23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851280" cy="194436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4"/>
          <p:cNvGrpSpPr/>
          <p:nvPr/>
        </p:nvGrpSpPr>
        <p:grpSpPr>
          <a:xfrm>
            <a:off x="4755600" y="1687320"/>
            <a:ext cx="3771000" cy="4810320"/>
            <a:chOff x="4755600" y="1687320"/>
            <a:chExt cx="3771000" cy="4810320"/>
          </a:xfrm>
        </p:grpSpPr>
        <p:sp>
          <p:nvSpPr>
            <p:cNvPr id="565" name="AutoShape 5"/>
            <p:cNvSpPr/>
            <p:nvPr/>
          </p:nvSpPr>
          <p:spPr>
            <a:xfrm rot="220800">
              <a:off x="4800600" y="1793880"/>
              <a:ext cx="3371760" cy="1514520"/>
            </a:xfrm>
            <a:prstGeom prst="cloudCallout">
              <a:avLst>
                <a:gd name="adj1" fmla="val -1555"/>
                <a:gd name="adj2" fmla="val 1188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5076720" y="1989000"/>
              <a:ext cx="30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于直角而小于平角的角叫钝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7" descr="ren09"/>
            <p:cNvPicPr/>
            <p:nvPr/>
          </p:nvPicPr>
          <p:blipFill>
            <a:blip r:embed="rId4"/>
            <a:stretch/>
          </p:blipFill>
          <p:spPr>
            <a:xfrm>
              <a:off x="6084720" y="3357720"/>
              <a:ext cx="2441880" cy="31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1676520" y="0"/>
            <a:ext cx="4267080" cy="29512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1187280" y="206064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是周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250920" y="292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812f"/>
                </a:solidFill>
                <a:latin typeface="Times New Roman"/>
              </a:rPr>
              <a:t>因为这个角也有顶点和两条边，只不过两边重合了</a:t>
            </a:r>
            <a:r>
              <a:rPr b="0" lang="zh-CN" sz="5400" spc="-1" strike="noStrike">
                <a:solidFill>
                  <a:srgbClr val="3b812f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0" y="4724280"/>
            <a:ext cx="875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注意：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1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周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2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平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4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直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                      </a:t>
            </a:r>
            <a:r>
              <a:rPr b="0" lang="zh-CN" sz="6600" spc="-1" strike="noStrike" u="sng">
                <a:solidFill>
                  <a:srgbClr val="996600"/>
                </a:solidFill>
                <a:uFillTx/>
                <a:latin typeface="Times New Roman"/>
              </a:rPr>
              <a:t>=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360</a:t>
            </a:r>
            <a:r>
              <a:rPr b="1" lang="zh-CN" sz="4400" spc="-1" strike="noStrike" u="sng">
                <a:solidFill>
                  <a:srgbClr val="cc9900"/>
                </a:solidFill>
                <a:uFillTx/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211640" y="3141720"/>
            <a:ext cx="431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周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6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一周所成的角叫做周角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476360" y="1844640"/>
            <a:ext cx="5400720" cy="1079640"/>
            <a:chOff x="1476360" y="1844640"/>
            <a:chExt cx="5400720" cy="1079640"/>
          </a:xfrm>
        </p:grpSpPr>
        <p:sp>
          <p:nvSpPr>
            <p:cNvPr id="576" name="AutoShape 5"/>
            <p:cNvSpPr/>
            <p:nvPr/>
          </p:nvSpPr>
          <p:spPr>
            <a:xfrm>
              <a:off x="1476360" y="1844640"/>
              <a:ext cx="5400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1476360" y="1844640"/>
              <a:ext cx="1047240" cy="107964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7"/>
            <p:cNvSpPr/>
            <p:nvPr/>
          </p:nvSpPr>
          <p:spPr>
            <a:xfrm flipV="1">
              <a:off x="2523600" y="2397240"/>
              <a:ext cx="19080" cy="489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2087280" y="2388240"/>
              <a:ext cx="47894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teacher02"/>
          <p:cNvPicPr/>
          <p:nvPr/>
        </p:nvPicPr>
        <p:blipFill>
          <a:blip r:embed="rId2"/>
          <a:stretch/>
        </p:blipFill>
        <p:spPr>
          <a:xfrm>
            <a:off x="1692360" y="3141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2050920" y="549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385128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"/>
          <p:cNvPicPr/>
          <p:nvPr/>
        </p:nvPicPr>
        <p:blipFill>
          <a:blip r:embed="rId5"/>
          <a:stretch/>
        </p:blipFill>
        <p:spPr>
          <a:xfrm>
            <a:off x="565164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"/>
          <p:cNvPicPr/>
          <p:nvPr/>
        </p:nvPicPr>
        <p:blipFill>
          <a:blip r:embed="rId6"/>
          <a:stretch/>
        </p:blipFill>
        <p:spPr>
          <a:xfrm>
            <a:off x="7451640" y="54936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"/>
          <p:cNvPicPr/>
          <p:nvPr/>
        </p:nvPicPr>
        <p:blipFill>
          <a:blip r:embed="rId10"/>
          <a:stretch/>
        </p:blipFill>
        <p:spPr>
          <a:xfrm>
            <a:off x="5292720" y="3716280"/>
            <a:ext cx="1655640" cy="12193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2"/>
          <p:cNvSpPr/>
          <p:nvPr/>
        </p:nvSpPr>
        <p:spPr>
          <a:xfrm>
            <a:off x="637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4093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596664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774072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51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575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2340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14796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586728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05632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385596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2127600" y="530064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147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5656320" y="249228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385668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48080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5511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468360" y="580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4140360" y="5805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012000" y="306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2268360" y="306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406728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234000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46836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74072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558000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41"/>
          <p:cNvGrpSpPr/>
          <p:nvPr/>
        </p:nvGrpSpPr>
        <p:grpSpPr>
          <a:xfrm>
            <a:off x="7236000" y="3789360"/>
            <a:ext cx="1692000" cy="1152360"/>
            <a:chOff x="7236000" y="3789360"/>
            <a:chExt cx="1692000" cy="1152360"/>
          </a:xfrm>
        </p:grpSpPr>
        <p:sp>
          <p:nvSpPr>
            <p:cNvPr id="621" name="Rectangle 42"/>
            <p:cNvSpPr/>
            <p:nvPr/>
          </p:nvSpPr>
          <p:spPr>
            <a:xfrm>
              <a:off x="7236000" y="3789360"/>
              <a:ext cx="169200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3"/>
            <p:cNvGrpSpPr/>
            <p:nvPr/>
          </p:nvGrpSpPr>
          <p:grpSpPr>
            <a:xfrm>
              <a:off x="7362360" y="3840480"/>
              <a:ext cx="1385280" cy="830880"/>
              <a:chOff x="7362360" y="3840480"/>
              <a:chExt cx="1385280" cy="830880"/>
            </a:xfrm>
          </p:grpSpPr>
          <p:grpSp>
            <p:nvGrpSpPr>
              <p:cNvPr id="623" name="Group 44"/>
              <p:cNvGrpSpPr/>
              <p:nvPr/>
            </p:nvGrpSpPr>
            <p:grpSpPr>
              <a:xfrm>
                <a:off x="7884720" y="4163760"/>
                <a:ext cx="862920" cy="216000"/>
                <a:chOff x="7884720" y="4163760"/>
                <a:chExt cx="862920" cy="216000"/>
              </a:xfrm>
            </p:grpSpPr>
            <p:sp>
              <p:nvSpPr>
                <p:cNvPr id="624" name="Line 45"/>
                <p:cNvSpPr/>
                <p:nvPr/>
              </p:nvSpPr>
              <p:spPr>
                <a:xfrm>
                  <a:off x="7884720" y="4294080"/>
                  <a:ext cx="86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46"/>
                <p:cNvSpPr/>
                <p:nvPr/>
              </p:nvSpPr>
              <p:spPr>
                <a:xfrm>
                  <a:off x="7884720" y="416376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47"/>
              <p:cNvGrpSpPr/>
              <p:nvPr/>
            </p:nvGrpSpPr>
            <p:grpSpPr>
              <a:xfrm>
                <a:off x="7362360" y="3840480"/>
                <a:ext cx="844200" cy="830880"/>
                <a:chOff x="7362360" y="3840480"/>
                <a:chExt cx="844200" cy="830880"/>
              </a:xfrm>
            </p:grpSpPr>
            <p:sp>
              <p:nvSpPr>
                <p:cNvPr id="627" name="Arc 48"/>
                <p:cNvSpPr/>
                <p:nvPr/>
              </p:nvSpPr>
              <p:spPr>
                <a:xfrm rot="6580800">
                  <a:off x="7462080" y="3922920"/>
                  <a:ext cx="644400" cy="66600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8" name="Group 49"/>
                <p:cNvGrpSpPr/>
                <p:nvPr/>
              </p:nvGrpSpPr>
              <p:grpSpPr>
                <a:xfrm>
                  <a:off x="7931160" y="4472640"/>
                  <a:ext cx="160560" cy="93960"/>
                  <a:chOff x="7931160" y="4472640"/>
                  <a:chExt cx="160560" cy="93960"/>
                </a:xfrm>
              </p:grpSpPr>
              <p:sp>
                <p:nvSpPr>
                  <p:cNvPr id="629" name="Line 50"/>
                  <p:cNvSpPr/>
                  <p:nvPr/>
                </p:nvSpPr>
                <p:spPr>
                  <a:xfrm flipH="1">
                    <a:off x="7931160" y="448884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51"/>
                  <p:cNvSpPr/>
                  <p:nvPr/>
                </p:nvSpPr>
                <p:spPr>
                  <a:xfrm>
                    <a:off x="8026560" y="447264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31" name="Rectangle 52"/>
          <p:cNvSpPr/>
          <p:nvPr/>
        </p:nvSpPr>
        <p:spPr>
          <a:xfrm>
            <a:off x="7694280" y="4941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24720" y="5445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4"/>
          <p:cNvSpPr/>
          <p:nvPr/>
        </p:nvSpPr>
        <p:spPr>
          <a:xfrm>
            <a:off x="7211880" y="5300640"/>
            <a:ext cx="17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360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5"/>
          <p:cNvSpPr/>
          <p:nvPr/>
        </p:nvSpPr>
        <p:spPr>
          <a:xfrm>
            <a:off x="7575480" y="5810400"/>
            <a:ext cx="10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395280" y="26028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刚才我们把角分成了哪几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按从大到小的顺序应怎样排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它们分别有什么特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611280" y="333360"/>
          <a:ext cx="8064360" cy="6245280"/>
        </p:xfrm>
        <a:graphic>
          <a:graphicData uri="http://schemas.openxmlformats.org/drawingml/2006/table">
            <a:tbl>
              <a:tblPr/>
              <a:tblGrid>
                <a:gridCol w="1598400"/>
                <a:gridCol w="6465960"/>
              </a:tblGrid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周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平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＝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钝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而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锐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3071880" cy="4608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550872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体  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9"/>
          <p:cNvSpPr/>
          <p:nvPr/>
        </p:nvSpPr>
        <p:spPr>
          <a:xfrm>
            <a:off x="2315880" y="2067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小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锐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2280960" y="3453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大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钝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1"/>
          <p:cNvSpPr/>
          <p:nvPr/>
        </p:nvSpPr>
        <p:spPr>
          <a:xfrm>
            <a:off x="2156040" y="4709520"/>
            <a:ext cx="49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平角就是一条直线。      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7394400" y="3249720"/>
            <a:ext cx="10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7429680" y="18572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7451640" y="4545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10"/>
          <p:cNvSpPr/>
          <p:nvPr/>
        </p:nvSpPr>
        <p:spPr>
          <a:xfrm>
            <a:off x="2864520" y="642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判  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557280" y="84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1332000" y="1584360"/>
            <a:ext cx="6408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已知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=12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其他三个角各是多少度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836720" y="510048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=60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2771640" y="2852640"/>
            <a:ext cx="2879280" cy="1800000"/>
            <a:chOff x="2771640" y="2852640"/>
            <a:chExt cx="2879280" cy="1800000"/>
          </a:xfrm>
        </p:grpSpPr>
        <p:sp>
          <p:nvSpPr>
            <p:cNvPr id="649" name="Line 6"/>
            <p:cNvSpPr/>
            <p:nvPr/>
          </p:nvSpPr>
          <p:spPr>
            <a:xfrm>
              <a:off x="2848320" y="3342960"/>
              <a:ext cx="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"/>
            <p:cNvSpPr/>
            <p:nvPr/>
          </p:nvSpPr>
          <p:spPr>
            <a:xfrm>
              <a:off x="2923200" y="3261960"/>
              <a:ext cx="2727720" cy="13093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 flipV="1">
              <a:off x="2771640" y="3180960"/>
              <a:ext cx="2577600" cy="147168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9"/>
            <p:cNvSpPr/>
            <p:nvPr/>
          </p:nvSpPr>
          <p:spPr>
            <a:xfrm>
              <a:off x="3529800" y="3507480"/>
              <a:ext cx="6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0"/>
            <p:cNvSpPr/>
            <p:nvPr/>
          </p:nvSpPr>
          <p:spPr>
            <a:xfrm rot="5167800">
              <a:off x="3798000" y="3689640"/>
              <a:ext cx="9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1"/>
            <p:cNvSpPr/>
            <p:nvPr/>
          </p:nvSpPr>
          <p:spPr>
            <a:xfrm rot="16200000">
              <a:off x="3702960" y="3606120"/>
              <a:ext cx="73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2"/>
            <p:cNvSpPr/>
            <p:nvPr/>
          </p:nvSpPr>
          <p:spPr>
            <a:xfrm flipH="1" rot="10800000">
              <a:off x="4059360" y="3659400"/>
              <a:ext cx="7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3"/>
            <p:cNvSpPr/>
            <p:nvPr/>
          </p:nvSpPr>
          <p:spPr>
            <a:xfrm>
              <a:off x="3984120" y="285264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4"/>
            <p:cNvSpPr/>
            <p:nvPr/>
          </p:nvSpPr>
          <p:spPr>
            <a:xfrm>
              <a:off x="489312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5"/>
            <p:cNvSpPr/>
            <p:nvPr/>
          </p:nvSpPr>
          <p:spPr>
            <a:xfrm>
              <a:off x="3984120" y="39978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6"/>
            <p:cNvSpPr/>
            <p:nvPr/>
          </p:nvSpPr>
          <p:spPr>
            <a:xfrm>
              <a:off x="299880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7"/>
          <p:cNvSpPr/>
          <p:nvPr/>
        </p:nvSpPr>
        <p:spPr>
          <a:xfrm>
            <a:off x="3203640" y="5157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=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5148360" y="52293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=6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9" descr="量角器"/>
          <p:cNvPicPr/>
          <p:nvPr/>
        </p:nvPicPr>
        <p:blipFill>
          <a:blip r:embed="rId2"/>
          <a:stretch/>
        </p:blipFill>
        <p:spPr>
          <a:xfrm rot="20290800">
            <a:off x="1407600" y="553680"/>
            <a:ext cx="4681800" cy="268452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3"/>
          <p:cNvGrpSpPr/>
          <p:nvPr/>
        </p:nvGrpSpPr>
        <p:grpSpPr>
          <a:xfrm>
            <a:off x="2124000" y="2133720"/>
            <a:ext cx="4032000" cy="1726920"/>
            <a:chOff x="2124000" y="2133720"/>
            <a:chExt cx="4032000" cy="1726920"/>
          </a:xfrm>
        </p:grpSpPr>
        <p:sp>
          <p:nvSpPr>
            <p:cNvPr id="664" name="Line 5"/>
            <p:cNvSpPr/>
            <p:nvPr/>
          </p:nvSpPr>
          <p:spPr>
            <a:xfrm flipV="1">
              <a:off x="2124000" y="2133720"/>
              <a:ext cx="3696120" cy="1480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2796120" y="2133720"/>
              <a:ext cx="3359880" cy="1726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Arc 7"/>
          <p:cNvSpPr/>
          <p:nvPr/>
        </p:nvSpPr>
        <p:spPr>
          <a:xfrm flipV="1">
            <a:off x="4429080" y="2637000"/>
            <a:ext cx="216000" cy="320400"/>
          </a:xfrm>
          <a:custGeom>
            <a:avLst/>
            <a:gdLst>
              <a:gd name="textAreaLeft" fmla="*/ 0 w 216000"/>
              <a:gd name="textAreaRight" fmla="*/ 216360 w 216000"/>
              <a:gd name="textAreaTop" fmla="*/ 360 h 320400"/>
              <a:gd name="textAreaBottom" fmla="*/ 321120 h 320400"/>
            </a:gdLst>
            <a:ahLst/>
            <a:rect l="textAreaLeft" t="textAreaTop" r="textAreaRight" b="textAreaBottom"/>
            <a:pathLst>
              <a:path fill="none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</a:path>
              <a:path stroke="0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rc 9"/>
          <p:cNvSpPr/>
          <p:nvPr/>
        </p:nvSpPr>
        <p:spPr>
          <a:xfrm flipV="1" rot="13329600">
            <a:off x="3924000" y="2491560"/>
            <a:ext cx="431640" cy="385920"/>
          </a:xfrm>
          <a:custGeom>
            <a:avLst/>
            <a:gdLst>
              <a:gd name="textAreaLeft" fmla="*/ 0 w 431640"/>
              <a:gd name="textAreaRight" fmla="*/ 432000 w 431640"/>
              <a:gd name="textAreaTop" fmla="*/ 360 h 385920"/>
              <a:gd name="textAreaBottom" fmla="*/ 386640 h 385920"/>
            </a:gdLst>
            <a:ahLst/>
            <a:rect l="textAreaLeft" t="textAreaTop" r="textAreaRight" b="textAreaBottom"/>
            <a:pathLst>
              <a:path fill="none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</a:path>
              <a:path stroke="0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rc 11"/>
          <p:cNvSpPr/>
          <p:nvPr/>
        </p:nvSpPr>
        <p:spPr>
          <a:xfrm flipV="1" rot="2161200">
            <a:off x="3852360" y="2784960"/>
            <a:ext cx="432360" cy="355680"/>
          </a:xfrm>
          <a:custGeom>
            <a:avLst/>
            <a:gdLst>
              <a:gd name="textAreaLeft" fmla="*/ 0 w 432360"/>
              <a:gd name="textAreaRight" fmla="*/ 432720 w 432360"/>
              <a:gd name="textAreaTop" fmla="*/ 360 h 355680"/>
              <a:gd name="textAreaBottom" fmla="*/ 356400 h 355680"/>
            </a:gdLst>
            <a:ahLst/>
            <a:rect l="textAreaLeft" t="textAreaTop" r="textAreaRight" b="textAreaBottom"/>
            <a:pathLst>
              <a:path fill="none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</a:path>
              <a:path stroke="0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rc 14"/>
          <p:cNvSpPr/>
          <p:nvPr/>
        </p:nvSpPr>
        <p:spPr>
          <a:xfrm flipV="1" rot="7461000">
            <a:off x="3576960" y="2623680"/>
            <a:ext cx="260280" cy="287280"/>
          </a:xfrm>
          <a:custGeom>
            <a:avLst/>
            <a:gdLst>
              <a:gd name="textAreaLeft" fmla="*/ 0 w 260280"/>
              <a:gd name="textAreaRight" fmla="*/ 260640 w 260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</a:path>
              <a:path stroke="0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  <a:lnTo>
                  <a:pt x="691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24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148360" y="26859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3780000" y="31892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2771640" y="2612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2689200" y="38577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 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13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2833560" y="4362480"/>
            <a:ext cx="309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3"/>
          <p:cNvSpPr/>
          <p:nvPr/>
        </p:nvSpPr>
        <p:spPr>
          <a:xfrm>
            <a:off x="4273560" y="4362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4"/>
          <p:cNvSpPr/>
          <p:nvPr/>
        </p:nvSpPr>
        <p:spPr>
          <a:xfrm>
            <a:off x="4202280" y="4938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4273560" y="5586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6" descr="5"/>
          <p:cNvPicPr/>
          <p:nvPr/>
        </p:nvPicPr>
        <p:blipFill>
          <a:blip r:embed="rId3"/>
          <a:stretch/>
        </p:blipFill>
        <p:spPr>
          <a:xfrm>
            <a:off x="6516720" y="5764320"/>
            <a:ext cx="2627280" cy="109368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27"/>
          <p:cNvSpPr/>
          <p:nvPr/>
        </p:nvSpPr>
        <p:spPr>
          <a:xfrm rot="17848800">
            <a:off x="4253400" y="20293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28"/>
          <p:cNvSpPr/>
          <p:nvPr/>
        </p:nvSpPr>
        <p:spPr>
          <a:xfrm rot="4069800">
            <a:off x="3989520" y="23551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250920" y="260280"/>
            <a:ext cx="17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量一量    算一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"/>
          <p:cNvPicPr/>
          <p:nvPr/>
        </p:nvPicPr>
        <p:blipFill>
          <a:blip r:embed="rId2"/>
          <a:stretch/>
        </p:blipFill>
        <p:spPr>
          <a:xfrm>
            <a:off x="252360" y="260280"/>
            <a:ext cx="8658360" cy="62168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2700360" y="1917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2844720" y="38606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916360" y="4726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844720" y="54450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WordArt 3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2706840" cy="132876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4"/>
          <p:cNvSpPr/>
          <p:nvPr/>
        </p:nvSpPr>
        <p:spPr>
          <a:xfrm>
            <a:off x="1614960" y="1557360"/>
            <a:ext cx="11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826920" y="2492280"/>
            <a:ext cx="792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把下面各角归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7°   8°     90°    88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0°   360° 145°  5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1 °   70°    89 °  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3348000" y="1989000"/>
            <a:ext cx="46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角各是哪一种角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900000" y="1773360"/>
            <a:ext cx="1513080" cy="2086920"/>
            <a:chOff x="900000" y="1773360"/>
            <a:chExt cx="1513080" cy="2086920"/>
          </a:xfrm>
        </p:grpSpPr>
        <p:pic>
          <p:nvPicPr>
            <p:cNvPr id="695" name="Picture 5" descr="09"/>
            <p:cNvPicPr/>
            <p:nvPr/>
          </p:nvPicPr>
          <p:blipFill>
            <a:blip r:embed="rId2"/>
            <a:stretch/>
          </p:blipFill>
          <p:spPr>
            <a:xfrm>
              <a:off x="900000" y="1773360"/>
              <a:ext cx="151308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6"/>
            <p:cNvSpPr/>
            <p:nvPr/>
          </p:nvSpPr>
          <p:spPr>
            <a:xfrm>
              <a:off x="900000" y="275400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想一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 Box 7"/>
          <p:cNvSpPr/>
          <p:nvPr/>
        </p:nvSpPr>
        <p:spPr>
          <a:xfrm>
            <a:off x="2986200" y="458136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钝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4500720" y="45957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直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5975280" y="4581360"/>
            <a:ext cx="14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7451640" y="4595760"/>
            <a:ext cx="13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锐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1"/>
          <p:cNvGrpSpPr/>
          <p:nvPr/>
        </p:nvGrpSpPr>
        <p:grpSpPr>
          <a:xfrm>
            <a:off x="2627280" y="2923920"/>
            <a:ext cx="5940360" cy="1222560"/>
            <a:chOff x="2627280" y="2923920"/>
            <a:chExt cx="5940360" cy="1222560"/>
          </a:xfrm>
        </p:grpSpPr>
        <p:sp>
          <p:nvSpPr>
            <p:cNvPr id="702" name="Line 12"/>
            <p:cNvSpPr/>
            <p:nvPr/>
          </p:nvSpPr>
          <p:spPr>
            <a:xfrm>
              <a:off x="2627280" y="3938040"/>
              <a:ext cx="1224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3"/>
            <p:cNvSpPr/>
            <p:nvPr/>
          </p:nvSpPr>
          <p:spPr>
            <a:xfrm flipV="1">
              <a:off x="3851280" y="2924280"/>
              <a:ext cx="64764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>
              <a:off x="4498920" y="3938040"/>
              <a:ext cx="1008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5"/>
            <p:cNvSpPr/>
            <p:nvPr/>
          </p:nvSpPr>
          <p:spPr>
            <a:xfrm flipV="1">
              <a:off x="5506920" y="2924280"/>
              <a:ext cx="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5651640" y="3866400"/>
              <a:ext cx="165564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7451640" y="3866400"/>
              <a:ext cx="1116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7451640" y="2923920"/>
              <a:ext cx="1042920" cy="9421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V="1">
              <a:off x="6443640" y="3794040"/>
              <a:ext cx="0" cy="7200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20"/>
            <p:cNvSpPr/>
            <p:nvPr/>
          </p:nvSpPr>
          <p:spPr>
            <a:xfrm rot="3205200">
              <a:off x="3482640" y="3498120"/>
              <a:ext cx="5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"/>
            <p:cNvSpPr/>
            <p:nvPr/>
          </p:nvSpPr>
          <p:spPr>
            <a:xfrm>
              <a:off x="5362560" y="3720600"/>
              <a:ext cx="144360" cy="217080"/>
            </a:xfrm>
            <a:prstGeom prst="rect">
              <a:avLst/>
            </a:prstGeom>
            <a:noFill/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2"/>
            <p:cNvSpPr/>
            <p:nvPr/>
          </p:nvSpPr>
          <p:spPr>
            <a:xfrm rot="9359400">
              <a:off x="7596000" y="34333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3"/>
            <p:cNvSpPr/>
            <p:nvPr/>
          </p:nvSpPr>
          <p:spPr>
            <a:xfrm>
              <a:off x="3419280" y="32720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4"/>
            <p:cNvSpPr/>
            <p:nvPr/>
          </p:nvSpPr>
          <p:spPr>
            <a:xfrm>
              <a:off x="5002200" y="32148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5"/>
            <p:cNvSpPr/>
            <p:nvPr/>
          </p:nvSpPr>
          <p:spPr>
            <a:xfrm>
              <a:off x="6227640" y="319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6"/>
            <p:cNvSpPr/>
            <p:nvPr/>
          </p:nvSpPr>
          <p:spPr>
            <a:xfrm>
              <a:off x="7885080" y="3415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27"/>
            <p:cNvSpPr/>
            <p:nvPr/>
          </p:nvSpPr>
          <p:spPr>
            <a:xfrm flipV="1">
              <a:off x="6227640" y="3648240"/>
              <a:ext cx="360360" cy="217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217080"/>
                <a:gd name="textAreaBottom" fmla="*/ 217080 h 217080"/>
              </a:gdLst>
              <a:ahLst/>
              <a:rect l="textAreaLeft" t="textAreaTop" r="textAreaRight" b="textAreaBottom"/>
              <a:pathLst>
                <a:path fill="none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</a:path>
                <a:path stroke="0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  <a:lnTo>
                    <a:pt x="21600" y="4247"/>
                  </a:lnTo>
                  <a:close/>
                </a:path>
              </a:pathLst>
            </a:cu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98100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判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平角其实就是一条直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周角是一条射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大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角是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两个直角等于一个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钝角总比锐角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直角的一半是锐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 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02"/>
          <p:cNvPicPr/>
          <p:nvPr/>
        </p:nvPicPr>
        <p:blipFill>
          <a:blip r:embed="rId2"/>
          <a:stretch/>
        </p:blipFill>
        <p:spPr>
          <a:xfrm>
            <a:off x="1619280" y="1773360"/>
            <a:ext cx="39225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图片1"/>
          <p:cNvPicPr/>
          <p:nvPr/>
        </p:nvPicPr>
        <p:blipFill>
          <a:blip r:embed="rId1"/>
          <a:stretch/>
        </p:blipFill>
        <p:spPr>
          <a:xfrm>
            <a:off x="-3417840" y="-168120"/>
            <a:ext cx="9139320" cy="68911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17480" y="173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请看下面的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1230120" cy="1295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7"/>
          <a:stretch/>
        </p:blipFill>
        <p:spPr>
          <a:xfrm>
            <a:off x="324000" y="278136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8"/>
          <a:stretch/>
        </p:blipFill>
        <p:spPr>
          <a:xfrm>
            <a:off x="2124000" y="2781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9"/>
          <a:stretch/>
        </p:blipFill>
        <p:spPr>
          <a:xfrm>
            <a:off x="3851280" y="278136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"/>
          <p:cNvPicPr/>
          <p:nvPr/>
        </p:nvPicPr>
        <p:blipFill>
          <a:blip r:embed="rId10"/>
          <a:stretch/>
        </p:blipFill>
        <p:spPr>
          <a:xfrm>
            <a:off x="5364000" y="278136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3"/>
          <p:cNvSpPr/>
          <p:nvPr/>
        </p:nvSpPr>
        <p:spPr>
          <a:xfrm>
            <a:off x="593640" y="223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712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38824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4141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9698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77986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710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236592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166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5867280" y="40766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1403280" y="522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、量出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个角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179280" y="45086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1403280" y="4581360"/>
            <a:ext cx="770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、这些都是角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6"/>
          <p:cNvGrpSpPr/>
          <p:nvPr/>
        </p:nvGrpSpPr>
        <p:grpSpPr>
          <a:xfrm>
            <a:off x="7451640" y="2852640"/>
            <a:ext cx="1692360" cy="1152360"/>
            <a:chOff x="7451640" y="2852640"/>
            <a:chExt cx="1692360" cy="1152360"/>
          </a:xfrm>
        </p:grpSpPr>
        <p:sp>
          <p:nvSpPr>
            <p:cNvPr id="445" name="Rectangle 27"/>
            <p:cNvSpPr/>
            <p:nvPr/>
          </p:nvSpPr>
          <p:spPr>
            <a:xfrm>
              <a:off x="7451640" y="285264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8"/>
            <p:cNvGrpSpPr/>
            <p:nvPr/>
          </p:nvGrpSpPr>
          <p:grpSpPr>
            <a:xfrm>
              <a:off x="7578000" y="2903760"/>
              <a:ext cx="1386000" cy="830880"/>
              <a:chOff x="7578000" y="2903760"/>
              <a:chExt cx="1386000" cy="830880"/>
            </a:xfrm>
          </p:grpSpPr>
          <p:grpSp>
            <p:nvGrpSpPr>
              <p:cNvPr id="447" name="Group 29"/>
              <p:cNvGrpSpPr/>
              <p:nvPr/>
            </p:nvGrpSpPr>
            <p:grpSpPr>
              <a:xfrm>
                <a:off x="8100720" y="3227040"/>
                <a:ext cx="863280" cy="216000"/>
                <a:chOff x="8100720" y="3227040"/>
                <a:chExt cx="863280" cy="216000"/>
              </a:xfrm>
            </p:grpSpPr>
            <p:sp>
              <p:nvSpPr>
                <p:cNvPr id="448" name="Line 30"/>
                <p:cNvSpPr/>
                <p:nvPr/>
              </p:nvSpPr>
              <p:spPr>
                <a:xfrm>
                  <a:off x="8100720" y="335736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31"/>
                <p:cNvSpPr/>
                <p:nvPr/>
              </p:nvSpPr>
              <p:spPr>
                <a:xfrm>
                  <a:off x="8100720" y="322704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32"/>
              <p:cNvGrpSpPr/>
              <p:nvPr/>
            </p:nvGrpSpPr>
            <p:grpSpPr>
              <a:xfrm>
                <a:off x="7578000" y="2903760"/>
                <a:ext cx="844560" cy="830880"/>
                <a:chOff x="7578000" y="2903760"/>
                <a:chExt cx="844560" cy="830880"/>
              </a:xfrm>
            </p:grpSpPr>
            <p:sp>
              <p:nvSpPr>
                <p:cNvPr id="451" name="Arc 33"/>
                <p:cNvSpPr/>
                <p:nvPr/>
              </p:nvSpPr>
              <p:spPr>
                <a:xfrm rot="6580800">
                  <a:off x="7678080" y="298584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Group 34"/>
                <p:cNvGrpSpPr/>
                <p:nvPr/>
              </p:nvGrpSpPr>
              <p:grpSpPr>
                <a:xfrm>
                  <a:off x="8147520" y="3535920"/>
                  <a:ext cx="160560" cy="93960"/>
                  <a:chOff x="8147520" y="3535920"/>
                  <a:chExt cx="160560" cy="93960"/>
                </a:xfrm>
              </p:grpSpPr>
              <p:sp>
                <p:nvSpPr>
                  <p:cNvPr id="453" name="Line 35"/>
                  <p:cNvSpPr/>
                  <p:nvPr/>
                </p:nvSpPr>
                <p:spPr>
                  <a:xfrm flipH="1">
                    <a:off x="8147520" y="355212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36"/>
                  <p:cNvSpPr/>
                  <p:nvPr/>
                </p:nvSpPr>
                <p:spPr>
                  <a:xfrm>
                    <a:off x="8242920" y="353592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55" name="Text Box 37"/>
          <p:cNvSpPr/>
          <p:nvPr/>
        </p:nvSpPr>
        <p:spPr>
          <a:xfrm>
            <a:off x="7864560" y="408312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8"/>
          <p:cNvSpPr/>
          <p:nvPr/>
        </p:nvSpPr>
        <p:spPr>
          <a:xfrm>
            <a:off x="4322520" y="32464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图片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"/>
          <p:cNvPicPr/>
          <p:nvPr/>
        </p:nvPicPr>
        <p:blipFill>
          <a:blip r:embed="rId10"/>
          <a:stretch/>
        </p:blipFill>
        <p:spPr>
          <a:xfrm>
            <a:off x="5364000" y="3716280"/>
            <a:ext cx="1800360" cy="12193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635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4064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8935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7646040" y="2133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243756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5893560" y="5029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238824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417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6324480" y="50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2094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3893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2163960" y="5300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437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5751720" y="2743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3846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75805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5619960" y="53006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2"/>
          <p:cNvGrpSpPr/>
          <p:nvPr/>
        </p:nvGrpSpPr>
        <p:grpSpPr>
          <a:xfrm>
            <a:off x="7380360" y="3716280"/>
            <a:ext cx="1692360" cy="1152360"/>
            <a:chOff x="7380360" y="3716280"/>
            <a:chExt cx="1692360" cy="1152360"/>
          </a:xfrm>
        </p:grpSpPr>
        <p:sp>
          <p:nvSpPr>
            <p:cNvPr id="488" name="Rectangle 33"/>
            <p:cNvSpPr/>
            <p:nvPr/>
          </p:nvSpPr>
          <p:spPr>
            <a:xfrm>
              <a:off x="7380360" y="371628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34"/>
            <p:cNvGrpSpPr/>
            <p:nvPr/>
          </p:nvGrpSpPr>
          <p:grpSpPr>
            <a:xfrm>
              <a:off x="7506720" y="3767400"/>
              <a:ext cx="1386000" cy="830880"/>
              <a:chOff x="7506720" y="3767400"/>
              <a:chExt cx="1386000" cy="830880"/>
            </a:xfrm>
          </p:grpSpPr>
          <p:grpSp>
            <p:nvGrpSpPr>
              <p:cNvPr id="490" name="Group 35"/>
              <p:cNvGrpSpPr/>
              <p:nvPr/>
            </p:nvGrpSpPr>
            <p:grpSpPr>
              <a:xfrm>
                <a:off x="8029440" y="4090680"/>
                <a:ext cx="863280" cy="216000"/>
                <a:chOff x="8029440" y="4090680"/>
                <a:chExt cx="863280" cy="216000"/>
              </a:xfrm>
            </p:grpSpPr>
            <p:sp>
              <p:nvSpPr>
                <p:cNvPr id="491" name="Line 36"/>
                <p:cNvSpPr/>
                <p:nvPr/>
              </p:nvSpPr>
              <p:spPr>
                <a:xfrm>
                  <a:off x="8029440" y="422100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8029440" y="409068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38"/>
              <p:cNvGrpSpPr/>
              <p:nvPr/>
            </p:nvGrpSpPr>
            <p:grpSpPr>
              <a:xfrm>
                <a:off x="7506720" y="3767400"/>
                <a:ext cx="844560" cy="830880"/>
                <a:chOff x="7506720" y="3767400"/>
                <a:chExt cx="844560" cy="830880"/>
              </a:xfrm>
            </p:grpSpPr>
            <p:sp>
              <p:nvSpPr>
                <p:cNvPr id="494" name="Arc 39"/>
                <p:cNvSpPr/>
                <p:nvPr/>
              </p:nvSpPr>
              <p:spPr>
                <a:xfrm rot="6580800">
                  <a:off x="7606800" y="384948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40"/>
                <p:cNvGrpSpPr/>
                <p:nvPr/>
              </p:nvGrpSpPr>
              <p:grpSpPr>
                <a:xfrm>
                  <a:off x="8076240" y="4399560"/>
                  <a:ext cx="160560" cy="93960"/>
                  <a:chOff x="8076240" y="4399560"/>
                  <a:chExt cx="160560" cy="93960"/>
                </a:xfrm>
              </p:grpSpPr>
              <p:sp>
                <p:nvSpPr>
                  <p:cNvPr id="496" name="Line 41"/>
                  <p:cNvSpPr/>
                  <p:nvPr/>
                </p:nvSpPr>
                <p:spPr>
                  <a:xfrm flipH="1">
                    <a:off x="8076240" y="441576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42"/>
                  <p:cNvSpPr/>
                  <p:nvPr/>
                </p:nvSpPr>
                <p:spPr>
                  <a:xfrm>
                    <a:off x="8171640" y="439956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98" name="Rectangle 43"/>
          <p:cNvSpPr/>
          <p:nvPr/>
        </p:nvSpPr>
        <p:spPr>
          <a:xfrm>
            <a:off x="8054640" y="4940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图片1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250920" y="1916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角可以分成哪几类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468360" y="69228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想一想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24000" y="393372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各类角有什么特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图片1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2268720" cy="1886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2162160" cy="17766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2025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481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2127240" y="3068640"/>
            <a:ext cx="40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它们的度数都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度，是直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2944440" y="3933720"/>
            <a:ext cx="222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一个直角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=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24000" y="472428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直角是一种特殊角，它的度数是固定不变的，是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3"/>
          <p:cNvGrpSpPr/>
          <p:nvPr/>
        </p:nvGrpSpPr>
        <p:grpSpPr>
          <a:xfrm>
            <a:off x="5045760" y="2348280"/>
            <a:ext cx="3447000" cy="3960360"/>
            <a:chOff x="5045760" y="2348280"/>
            <a:chExt cx="3447000" cy="3960360"/>
          </a:xfrm>
        </p:grpSpPr>
        <p:sp>
          <p:nvSpPr>
            <p:cNvPr id="513" name="AutoShape 4"/>
            <p:cNvSpPr/>
            <p:nvPr/>
          </p:nvSpPr>
          <p:spPr>
            <a:xfrm rot="220800">
              <a:off x="5076720" y="2455560"/>
              <a:ext cx="3384720" cy="1079640"/>
            </a:xfrm>
            <a:prstGeom prst="cloudCallout">
              <a:avLst>
                <a:gd name="adj1" fmla="val 31013"/>
                <a:gd name="adj2" fmla="val 1226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5279760" y="2631960"/>
              <a:ext cx="31323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角的一半是直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ren08"/>
            <p:cNvPicPr/>
            <p:nvPr/>
          </p:nvPicPr>
          <p:blipFill>
            <a:blip r:embed="rId3"/>
            <a:stretch/>
          </p:blipFill>
          <p:spPr>
            <a:xfrm>
              <a:off x="5748120" y="3816360"/>
              <a:ext cx="1938600" cy="24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Picture 7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40341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79640" cy="1729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5534280" y="7650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种角叫做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0" y="2852640"/>
            <a:ext cx="1015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因为它比较特殊，角的两边成一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直线，它的度数刚好是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80 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244520" y="4869000"/>
            <a:ext cx="39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平角＝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直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527120" y="2209680"/>
            <a:ext cx="74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1574280" y="227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8:55:16Z</dcterms:created>
  <dc:creator>杨权贵</dc:creator>
  <dc:description/>
  <cp:keywords/>
  <dc:language>en-US</dc:language>
  <cp:lastModifiedBy>Administrator</cp:lastModifiedBy>
  <dcterms:modified xsi:type="dcterms:W3CDTF">2015-01-24T02:11:52Z</dcterms:modified>
  <cp:revision>47</cp:revision>
  <dc:subject/>
  <dc:title>角的分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