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wind.wav" ContentType="audio/x-wav"/>
  <Override PartName="/ppt/media/image4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2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29.wmf" ContentType="image/x-wmf"/>
  <Override PartName="/ppt/media/image31.png" ContentType="image/png"/>
  <Override PartName="/ppt/media/image43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suction.wav" ContentType="audio/x-wav"/>
  <Override PartName="/ppt/media/image4.jpeg" ContentType="image/jpeg"/>
  <Override PartName="/ppt/media/image25.png" ContentType="image/png"/>
  <Override PartName="/ppt/media/image30.png" ContentType="image/png"/>
  <Override PartName="/ppt/media/voltage.wav" ContentType="audio/x-wav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D0D-BD27-4D5D-981F-593BBC25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941-DA0F-4B6E-BD55-870A83B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2145B-EFBB-4191-A5BA-ADB97FA8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EA1-4AE0-48E6-B07F-3CD62CB2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0BEDC-84E1-45E6-A0EE-1D4F9F79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342EB-E8A8-42A7-A129-68A2DE11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A3CE3-3207-4BCB-9BCC-B089D5A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94DA2-42CF-4724-B4D8-1B06C6F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C53B32-09BB-4182-B9E0-9AEA60FF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FBC7F7-90DF-4F47-B148-EB2D562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CE825-EB4B-41DF-91ED-8C18E1E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FF7DE-0058-4BC0-ACED-0D36C4C0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F47AB-BD01-46AD-BF25-461BAB49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8D2D2-DED3-4049-97E6-3ED0B373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835-9E93-447A-91E0-C306B0B4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E0E1F-0811-4BB7-8339-4006C5C3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B06-E08B-442B-84B2-F7DE9A05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EDB-E387-4CE0-BB37-3CE34FB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E795-2098-46A8-8192-2C371DAB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4A57-32FA-42CF-A8A3-D3D08964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98FC-B113-4124-9F59-552624F0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BCE5-7F30-4160-8510-4A1F52C2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5FFD-D2CE-475C-8690-2294DD4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EB2-06A3-4B44-A5EB-68812043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087D-4533-41C9-B6E9-FB422D02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F645-515F-4B55-AA48-68093F6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B95-4953-4FE6-A00A-F5ECFB42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615-B6BA-4EA7-AE78-C3296DCE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8407-DC78-49C6-9DB0-548B5547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6094-58FF-4202-A13E-43232FA5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C452-BD6E-42A4-8436-0EE762DF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BAFC-CC6D-4CB0-9380-8CF1279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D30B-F084-435A-A97A-028DB7C5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1201-BCA2-40E4-B13F-C7CAA71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398-B739-4E6B-B21B-FF8F04C3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D5D4-DEC2-42C6-8B22-005DA87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AF27-65BD-4BC3-A891-F612349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2CC5-B9D8-4A90-B617-03321CE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9F95-9614-4F29-B74B-570D48FF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779E-0A4E-467D-B489-82BAA50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1E95-EB07-4403-A3B0-CD200EE3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A6FA5-8DA2-46E7-9C59-DE2EAA43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B3F09-6F38-45B1-B06C-7678B27AF6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FF79C-A442-4D20-954F-F8A401A6FE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95050-C376-4C3A-AFAA-08E424507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A4E-DE19-47CD-A505-FC480159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62109-5675-42EF-A1F5-EE4EF95E47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6710C-D065-4EB2-A909-C620F54504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8AC2B-CEBA-45E1-A710-744694347A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0078F-BF19-468D-BEE8-30468B5FC8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D2E428-F6D6-4395-9323-DD3BA98A6A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1DC3E-A870-4470-9C9B-742E10F5A9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19D17-179A-4B45-B5FF-BC6F339E0B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641D2-7644-4454-9741-A88F277B46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78CEAD-DD15-42CB-9956-C37A36EE23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38A30-25E6-4026-92BD-0DD40FA0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340-28C5-4910-8C15-DD041B62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6401A6-E1DC-45B1-AD30-3A87C3A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93C6B-8C69-4B1E-8FE2-C4C6D116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AB113D-2989-4D19-BF64-E9391E1C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CAB4C7-8039-4EC7-BA2F-81B94C2D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C3F1D-4E24-4E36-9FA9-120F761C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D1C639-0A3A-4C8F-8325-D56102CB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904F83-6111-425F-BCBB-D72C1F1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CCD25-356A-4548-A780-DBE81AA6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1EB51F-5F70-4295-ACCA-AF2ADE5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C1D59-7FEC-43A2-8D87-C5CEDF57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118-EBC3-4558-B8CD-835E8E3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B63A4-28EC-4756-8DC2-773E208D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3A332-4802-40C4-BAFF-9FDE9A4C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D97052-F400-461A-B79B-882C7F15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297474-D9F6-459D-A0E1-701912C1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D7046-4555-4141-894F-4FC8550D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C66CB4-F034-4FDC-AECC-55FD866B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80B2F-CC04-4D3D-B5B5-9563C0C3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F7E5C-C109-4C06-94EF-8A36E05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2C442-F775-4577-A787-7B47561E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7D459-E8F1-45C5-9886-DC6113D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A72-307F-4A01-8300-FAACAE55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E2D2D1-C3FD-4EE3-815B-34F9015D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FDE74-6483-459F-9A09-F8378565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407A02-A214-4BEC-A26D-CFDDDD46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846190-C85C-4C61-B45A-B11854C1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C25A0-64B8-4BB1-8F8D-2CDF741C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4F99DC-DC0E-4322-846D-30AE891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0E7AF-9FF5-4772-9167-97B31B57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70FE3-F778-4B04-B1DD-F841D5E0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E9C9DE-D539-4B64-AF41-84355BF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E884E8-DD75-4326-8C7A-74A1B98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8ED-40C9-48FD-8E9D-16E94582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08B744-274C-41A1-A930-40D0731F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1797C7-E4E2-45F5-8856-F2453CC5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FCE67-DE1F-4171-802C-397421A3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5D772-3CD4-4533-B2AC-05E47796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991291-47BE-4BD9-9BDD-FC3D4A22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1DB3D-533D-4650-9C6C-C48DBABD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2EE3B-C040-4537-8D2F-052D1EF2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EA4EDD-A34F-4D44-A196-50876DFF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6116C-78C1-44C2-8E24-62517A91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F19EE2-EAF1-4122-9BF2-867670EC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E79-9728-46D5-8725-9E7657F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BB3A4B-C85F-4AFF-8818-D893772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81737E-20DA-4B77-A8C7-A0B4157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C747E9-4728-4103-97A0-DCB28004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76FC3-85C2-4E6E-95D8-0A4A48C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F6B659-53BB-4486-B389-E08EE744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B9EAD8-BEF7-4AFC-A27E-F95FC10C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6D4AD4-991C-45EC-B248-519190E4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8781-5EEA-4CE0-9242-D0A9E411F95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3F6-E31B-4E11-9FE7-78BA3169BA8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7E3-54BC-4CC4-9761-28998DFE5F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D21-9BBD-440C-B6D9-1E7AFA9162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9DA0F8A-F30D-4486-B563-B9E3DDD931D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24D-D286-410B-B4D4-779FA3740F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B6AF-9D71-4A87-8602-2AC27D68284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2213-E8F3-48C2-9552-1E5BC08A03D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5AC-825B-4C25-AA21-2E5FC9DDD1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image" Target="../media/image32.png"/><Relationship Id="rId5" Type="http://schemas.openxmlformats.org/officeDocument/2006/relationships/audio" Target="../media/hamm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26.jpeg"/><Relationship Id="rId4" Type="http://schemas.openxmlformats.org/officeDocument/2006/relationships/image" Target="../media/image34.png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pn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audio" Target="../media/type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4920" y="189000"/>
            <a:ext cx="4105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小学数学第七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268360" y="2421000"/>
            <a:ext cx="53280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角的分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半周所成的角叫做平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27" name="AutoShape 5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529" name="Line 7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8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Line 9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10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2016000" cy="1798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2016000" cy="1692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04292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4360" y="220500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02000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50920" y="3789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因为这三个角的度数都小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088000" y="4941720"/>
            <a:ext cx="453600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小于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的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叫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锐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81540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362376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82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657648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74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547" name="AutoShape 5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于直角的角叫锐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7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087640" cy="1708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1944720" cy="167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971640" y="213372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25772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699444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941120" y="3645000"/>
            <a:ext cx="5367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因为它们的度数既大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780000" y="4365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这叫做</a:t>
            </a:r>
            <a:r>
              <a:rPr b="1" lang="zh-CN" sz="4400" spc="-1" strike="noStrike" u="sng">
                <a:solidFill>
                  <a:srgbClr val="3b812f"/>
                </a:solidFill>
                <a:uFillTx/>
                <a:latin typeface="Times New Roman"/>
              </a:rPr>
              <a:t>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55760" y="2708280"/>
            <a:ext cx="23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15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3621960" y="263700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552720" y="2708280"/>
            <a:ext cx="23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4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565" name="AutoShape 5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于直角而小于平角的角叫钝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7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676520" y="0"/>
            <a:ext cx="4267080" cy="2951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187280" y="2060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是周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50920" y="29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Times New Roman"/>
              </a:rPr>
              <a:t>因为这个角也有顶点和两条边，只不过两边重合了</a:t>
            </a:r>
            <a:r>
              <a:rPr b="0" lang="zh-CN" sz="5400" spc="-1" strike="noStrike">
                <a:solidFill>
                  <a:srgbClr val="3b812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0" y="4724280"/>
            <a:ext cx="875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注意：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1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周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2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平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4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直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                      </a:t>
            </a:r>
            <a:r>
              <a:rPr b="0" lang="zh-CN" sz="6600" spc="-1" strike="noStrike" u="sng">
                <a:solidFill>
                  <a:srgbClr val="996600"/>
                </a:solidFill>
                <a:uFillTx/>
                <a:latin typeface="Times New Roman"/>
              </a:rPr>
              <a:t>=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360</a:t>
            </a:r>
            <a:r>
              <a:rPr b="1" lang="zh-CN" sz="4400" spc="-1" strike="noStrike" u="sng">
                <a:solidFill>
                  <a:srgbClr val="cc9900"/>
                </a:solidFill>
                <a:uFillTx/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周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6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一周所成的角叫做周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576" name="AutoShape 5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2050920" y="54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5128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6"/>
          <a:stretch/>
        </p:blipFill>
        <p:spPr>
          <a:xfrm>
            <a:off x="7451640" y="54936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1655640" cy="12193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637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093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596664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77407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51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75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340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4796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586728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05632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385596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127600" y="530064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47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656320" y="249228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385668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48080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5511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46836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4140360" y="5805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012000" y="306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2268360" y="306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4067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234000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46836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740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558000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41"/>
          <p:cNvGrpSpPr/>
          <p:nvPr/>
        </p:nvGrpSpPr>
        <p:grpSpPr>
          <a:xfrm>
            <a:off x="7236000" y="3789360"/>
            <a:ext cx="1692000" cy="1152360"/>
            <a:chOff x="7236000" y="3789360"/>
            <a:chExt cx="1692000" cy="1152360"/>
          </a:xfrm>
        </p:grpSpPr>
        <p:sp>
          <p:nvSpPr>
            <p:cNvPr id="621" name="Rectangle 42"/>
            <p:cNvSpPr/>
            <p:nvPr/>
          </p:nvSpPr>
          <p:spPr>
            <a:xfrm>
              <a:off x="7236000" y="3789360"/>
              <a:ext cx="169200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3"/>
            <p:cNvGrpSpPr/>
            <p:nvPr/>
          </p:nvGrpSpPr>
          <p:grpSpPr>
            <a:xfrm>
              <a:off x="7362360" y="3840480"/>
              <a:ext cx="1385280" cy="830880"/>
              <a:chOff x="7362360" y="3840480"/>
              <a:chExt cx="1385280" cy="830880"/>
            </a:xfrm>
          </p:grpSpPr>
          <p:grpSp>
            <p:nvGrpSpPr>
              <p:cNvPr id="623" name="Group 44"/>
              <p:cNvGrpSpPr/>
              <p:nvPr/>
            </p:nvGrpSpPr>
            <p:grpSpPr>
              <a:xfrm>
                <a:off x="7884720" y="4163760"/>
                <a:ext cx="862920" cy="216000"/>
                <a:chOff x="7884720" y="4163760"/>
                <a:chExt cx="862920" cy="216000"/>
              </a:xfrm>
            </p:grpSpPr>
            <p:sp>
              <p:nvSpPr>
                <p:cNvPr id="624" name="Line 45"/>
                <p:cNvSpPr/>
                <p:nvPr/>
              </p:nvSpPr>
              <p:spPr>
                <a:xfrm>
                  <a:off x="7884720" y="4294080"/>
                  <a:ext cx="86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>
                  <a:off x="7884720" y="416376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7"/>
              <p:cNvGrpSpPr/>
              <p:nvPr/>
            </p:nvGrpSpPr>
            <p:grpSpPr>
              <a:xfrm>
                <a:off x="7362360" y="3840480"/>
                <a:ext cx="844200" cy="830880"/>
                <a:chOff x="7362360" y="3840480"/>
                <a:chExt cx="844200" cy="830880"/>
              </a:xfrm>
            </p:grpSpPr>
            <p:sp>
              <p:nvSpPr>
                <p:cNvPr id="627" name="Arc 48"/>
                <p:cNvSpPr/>
                <p:nvPr/>
              </p:nvSpPr>
              <p:spPr>
                <a:xfrm rot="6580800">
                  <a:off x="7462080" y="3922920"/>
                  <a:ext cx="644400" cy="6660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49"/>
                <p:cNvGrpSpPr/>
                <p:nvPr/>
              </p:nvGrpSpPr>
              <p:grpSpPr>
                <a:xfrm>
                  <a:off x="7931160" y="4472640"/>
                  <a:ext cx="160560" cy="93960"/>
                  <a:chOff x="7931160" y="4472640"/>
                  <a:chExt cx="160560" cy="93960"/>
                </a:xfrm>
              </p:grpSpPr>
              <p:sp>
                <p:nvSpPr>
                  <p:cNvPr id="629" name="Line 50"/>
                  <p:cNvSpPr/>
                  <p:nvPr/>
                </p:nvSpPr>
                <p:spPr>
                  <a:xfrm flipH="1">
                    <a:off x="7931160" y="448884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51"/>
                  <p:cNvSpPr/>
                  <p:nvPr/>
                </p:nvSpPr>
                <p:spPr>
                  <a:xfrm>
                    <a:off x="8026560" y="447264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1" name="Rectangle 52"/>
          <p:cNvSpPr/>
          <p:nvPr/>
        </p:nvSpPr>
        <p:spPr>
          <a:xfrm>
            <a:off x="7694280" y="4941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2472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7211880" y="5300640"/>
            <a:ext cx="17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360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7575480" y="581040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95280" y="26028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刚才我们把角分成了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按从大到小的顺序应怎样排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它们分别有什么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611280" y="333360"/>
          <a:ext cx="8064360" cy="6245280"/>
        </p:xfrm>
        <a:graphic>
          <a:graphicData uri="http://schemas.openxmlformats.org/drawingml/2006/table">
            <a:tbl>
              <a:tblPr/>
              <a:tblGrid>
                <a:gridCol w="1598400"/>
                <a:gridCol w="646596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周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平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＝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钝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而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  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9"/>
          <p:cNvSpPr/>
          <p:nvPr/>
        </p:nvSpPr>
        <p:spPr>
          <a:xfrm>
            <a:off x="2315880" y="2067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锐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280960" y="3453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钝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2156040" y="470952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角就是一条直线。      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394400" y="3249720"/>
            <a:ext cx="10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7429680" y="18572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7451640" y="4545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0"/>
          <p:cNvSpPr/>
          <p:nvPr/>
        </p:nvSpPr>
        <p:spPr>
          <a:xfrm>
            <a:off x="2864520" y="64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判  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57280" y="8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已知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=12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其他三个角各是多少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836720" y="510048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=6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649" name="Line 6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9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0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1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2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320364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=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5148360" y="5229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=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9" descr="量角器"/>
          <p:cNvPicPr/>
          <p:nvPr/>
        </p:nvPicPr>
        <p:blipFill>
          <a:blip r:embed="rId2"/>
          <a:stretch/>
        </p:blipFill>
        <p:spPr>
          <a:xfrm rot="20290800">
            <a:off x="1407600" y="553680"/>
            <a:ext cx="4681800" cy="26845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3"/>
          <p:cNvGrpSpPr/>
          <p:nvPr/>
        </p:nvGrpSpPr>
        <p:grpSpPr>
          <a:xfrm>
            <a:off x="2124000" y="2133720"/>
            <a:ext cx="4032000" cy="1726920"/>
            <a:chOff x="2124000" y="2133720"/>
            <a:chExt cx="4032000" cy="1726920"/>
          </a:xfrm>
        </p:grpSpPr>
        <p:sp>
          <p:nvSpPr>
            <p:cNvPr id="664" name="Line 5"/>
            <p:cNvSpPr/>
            <p:nvPr/>
          </p:nvSpPr>
          <p:spPr>
            <a:xfrm flipV="1">
              <a:off x="2124000" y="2133720"/>
              <a:ext cx="3696120" cy="1480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796120" y="2133720"/>
              <a:ext cx="3359880" cy="1726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rc 7"/>
          <p:cNvSpPr/>
          <p:nvPr/>
        </p:nvSpPr>
        <p:spPr>
          <a:xfrm flipV="1">
            <a:off x="4429080" y="2637000"/>
            <a:ext cx="216000" cy="320400"/>
          </a:xfrm>
          <a:custGeom>
            <a:avLst/>
            <a:gdLst>
              <a:gd name="textAreaLeft" fmla="*/ 0 w 216000"/>
              <a:gd name="textAreaRight" fmla="*/ 216360 w 216000"/>
              <a:gd name="textAreaTop" fmla="*/ 360 h 320400"/>
              <a:gd name="textAreaBottom" fmla="*/ 321120 h 320400"/>
            </a:gdLst>
            <a:ahLst/>
            <a:rect l="textAreaLeft" t="textAreaTop" r="textAreaRight" b="textAreaBottom"/>
            <a:pathLst>
              <a:path fill="none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</a:path>
              <a:path stroke="0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rc 9"/>
          <p:cNvSpPr/>
          <p:nvPr/>
        </p:nvSpPr>
        <p:spPr>
          <a:xfrm flipV="1" rot="13329600">
            <a:off x="3924000" y="2491560"/>
            <a:ext cx="431640" cy="385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385920"/>
              <a:gd name="textAreaBottom" fmla="*/ 386640 h 385920"/>
            </a:gdLst>
            <a:ahLst/>
            <a:rect l="textAreaLeft" t="textAreaTop" r="textAreaRight" b="textAreaBottom"/>
            <a:pathLst>
              <a:path fill="none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</a:path>
              <a:path stroke="0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rc 11"/>
          <p:cNvSpPr/>
          <p:nvPr/>
        </p:nvSpPr>
        <p:spPr>
          <a:xfrm flipV="1" rot="2161200">
            <a:off x="3852360" y="2784960"/>
            <a:ext cx="432360" cy="355680"/>
          </a:xfrm>
          <a:custGeom>
            <a:avLst/>
            <a:gdLst>
              <a:gd name="textAreaLeft" fmla="*/ 0 w 432360"/>
              <a:gd name="textAreaRight" fmla="*/ 432720 w 43236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</a:path>
              <a:path stroke="0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14"/>
          <p:cNvSpPr/>
          <p:nvPr/>
        </p:nvSpPr>
        <p:spPr>
          <a:xfrm flipV="1" rot="7461000">
            <a:off x="3576960" y="2623680"/>
            <a:ext cx="260280" cy="287280"/>
          </a:xfrm>
          <a:custGeom>
            <a:avLst/>
            <a:gdLst>
              <a:gd name="textAreaLeft" fmla="*/ 0 w 260280"/>
              <a:gd name="textAreaRight" fmla="*/ 260640 w 260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</a:path>
              <a:path stroke="0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  <a:lnTo>
                  <a:pt x="691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148360" y="2685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3780000" y="3189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2771640" y="261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2689200" y="38577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1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833560" y="43624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4273560" y="4362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4202280" y="4938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4273560" y="5586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6" descr="5"/>
          <p:cNvPicPr/>
          <p:nvPr/>
        </p:nvPicPr>
        <p:blipFill>
          <a:blip r:embed="rId3"/>
          <a:stretch/>
        </p:blipFill>
        <p:spPr>
          <a:xfrm>
            <a:off x="6516720" y="5764320"/>
            <a:ext cx="2627280" cy="109368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27"/>
          <p:cNvSpPr/>
          <p:nvPr/>
        </p:nvSpPr>
        <p:spPr>
          <a:xfrm rot="17848800">
            <a:off x="4253400" y="20293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8"/>
          <p:cNvSpPr/>
          <p:nvPr/>
        </p:nvSpPr>
        <p:spPr>
          <a:xfrm rot="4069800">
            <a:off x="3989520" y="23551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250920" y="26028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量一量    算一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"/>
          <p:cNvPicPr/>
          <p:nvPr/>
        </p:nvPicPr>
        <p:blipFill>
          <a:blip r:embed="rId2"/>
          <a:stretch/>
        </p:blipFill>
        <p:spPr>
          <a:xfrm>
            <a:off x="252360" y="260280"/>
            <a:ext cx="8658360" cy="6216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2700360" y="1917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44720" y="38606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16360" y="4726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844720" y="5445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WordArt 3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2706840" cy="1328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4"/>
          <p:cNvSpPr/>
          <p:nvPr/>
        </p:nvSpPr>
        <p:spPr>
          <a:xfrm>
            <a:off x="1614960" y="155736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826920" y="2492280"/>
            <a:ext cx="79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把下面各角归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7°   8°     90°    8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0°   360° 145°  5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1 °   70°    89 °  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角各是哪一种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695" name="Picture 5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6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7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锐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702" name="Line 12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2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3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4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5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6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27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217080"/>
                <a:gd name="textAreaBottom" fmla="*/ 217080 h 217080"/>
              </a:gdLst>
              <a:ahLst/>
              <a:rect l="textAreaLeft" t="textAreaTop" r="textAreaRight" b="textAreaBottom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98100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平角其实就是一条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周角是一条射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角是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直角等于一个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钝角总比锐角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直角的一半是锐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 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图片1"/>
          <p:cNvPicPr/>
          <p:nvPr/>
        </p:nvPicPr>
        <p:blipFill>
          <a:blip r:embed="rId1"/>
          <a:stretch/>
        </p:blipFill>
        <p:spPr>
          <a:xfrm>
            <a:off x="-3417840" y="-168120"/>
            <a:ext cx="9139320" cy="68911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17480" y="173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请看下面的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230120" cy="1295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7"/>
          <a:stretch/>
        </p:blipFill>
        <p:spPr>
          <a:xfrm>
            <a:off x="324000" y="278136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8"/>
          <a:stretch/>
        </p:blipFill>
        <p:spPr>
          <a:xfrm>
            <a:off x="2124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3851280" y="278136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10"/>
          <a:stretch/>
        </p:blipFill>
        <p:spPr>
          <a:xfrm>
            <a:off x="5364000" y="278136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3"/>
          <p:cNvSpPr/>
          <p:nvPr/>
        </p:nvSpPr>
        <p:spPr>
          <a:xfrm>
            <a:off x="5936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712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38824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141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9698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77986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710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36592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166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5867280" y="40766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40328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、量出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个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79280" y="4508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03280" y="4581360"/>
            <a:ext cx="770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、这些都是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6"/>
          <p:cNvGrpSpPr/>
          <p:nvPr/>
        </p:nvGrpSpPr>
        <p:grpSpPr>
          <a:xfrm>
            <a:off x="7451640" y="2852640"/>
            <a:ext cx="1692360" cy="1152360"/>
            <a:chOff x="7451640" y="2852640"/>
            <a:chExt cx="1692360" cy="1152360"/>
          </a:xfrm>
        </p:grpSpPr>
        <p:sp>
          <p:nvSpPr>
            <p:cNvPr id="445" name="Rectangle 27"/>
            <p:cNvSpPr/>
            <p:nvPr/>
          </p:nvSpPr>
          <p:spPr>
            <a:xfrm>
              <a:off x="7451640" y="285264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8"/>
            <p:cNvGrpSpPr/>
            <p:nvPr/>
          </p:nvGrpSpPr>
          <p:grpSpPr>
            <a:xfrm>
              <a:off x="7578000" y="2903760"/>
              <a:ext cx="1386000" cy="830880"/>
              <a:chOff x="7578000" y="2903760"/>
              <a:chExt cx="1386000" cy="830880"/>
            </a:xfrm>
          </p:grpSpPr>
          <p:grpSp>
            <p:nvGrpSpPr>
              <p:cNvPr id="447" name="Group 29"/>
              <p:cNvGrpSpPr/>
              <p:nvPr/>
            </p:nvGrpSpPr>
            <p:grpSpPr>
              <a:xfrm>
                <a:off x="8100720" y="3227040"/>
                <a:ext cx="863280" cy="216000"/>
                <a:chOff x="8100720" y="3227040"/>
                <a:chExt cx="863280" cy="216000"/>
              </a:xfrm>
            </p:grpSpPr>
            <p:sp>
              <p:nvSpPr>
                <p:cNvPr id="448" name="Line 30"/>
                <p:cNvSpPr/>
                <p:nvPr/>
              </p:nvSpPr>
              <p:spPr>
                <a:xfrm>
                  <a:off x="8100720" y="335736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31"/>
                <p:cNvSpPr/>
                <p:nvPr/>
              </p:nvSpPr>
              <p:spPr>
                <a:xfrm>
                  <a:off x="8100720" y="322704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7578000" y="2903760"/>
                <a:ext cx="844560" cy="830880"/>
                <a:chOff x="7578000" y="2903760"/>
                <a:chExt cx="844560" cy="830880"/>
              </a:xfrm>
            </p:grpSpPr>
            <p:sp>
              <p:nvSpPr>
                <p:cNvPr id="451" name="Arc 33"/>
                <p:cNvSpPr/>
                <p:nvPr/>
              </p:nvSpPr>
              <p:spPr>
                <a:xfrm rot="6580800">
                  <a:off x="7678080" y="298584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34"/>
                <p:cNvGrpSpPr/>
                <p:nvPr/>
              </p:nvGrpSpPr>
              <p:grpSpPr>
                <a:xfrm>
                  <a:off x="8147520" y="3535920"/>
                  <a:ext cx="160560" cy="93960"/>
                  <a:chOff x="8147520" y="3535920"/>
                  <a:chExt cx="160560" cy="93960"/>
                </a:xfrm>
              </p:grpSpPr>
              <p:sp>
                <p:nvSpPr>
                  <p:cNvPr id="453" name="Line 35"/>
                  <p:cNvSpPr/>
                  <p:nvPr/>
                </p:nvSpPr>
                <p:spPr>
                  <a:xfrm flipH="1">
                    <a:off x="8147520" y="355212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6"/>
                  <p:cNvSpPr/>
                  <p:nvPr/>
                </p:nvSpPr>
                <p:spPr>
                  <a:xfrm>
                    <a:off x="8242920" y="353592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5" name="Text Box 37"/>
          <p:cNvSpPr/>
          <p:nvPr/>
        </p:nvSpPr>
        <p:spPr>
          <a:xfrm>
            <a:off x="7864560" y="40831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8"/>
          <p:cNvSpPr/>
          <p:nvPr/>
        </p:nvSpPr>
        <p:spPr>
          <a:xfrm>
            <a:off x="4322520" y="32464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图片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10"/>
          <a:stretch/>
        </p:blipFill>
        <p:spPr>
          <a:xfrm>
            <a:off x="5364000" y="3716280"/>
            <a:ext cx="1800360" cy="1219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35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064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8935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7646040" y="2133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243756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893560" y="502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238824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17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63244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2094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93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2163960" y="5300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437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751720" y="2743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846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75805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5619960" y="5300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7380360" y="3716280"/>
            <a:ext cx="1692360" cy="1152360"/>
            <a:chOff x="7380360" y="3716280"/>
            <a:chExt cx="1692360" cy="1152360"/>
          </a:xfrm>
        </p:grpSpPr>
        <p:sp>
          <p:nvSpPr>
            <p:cNvPr id="488" name="Rectangle 33"/>
            <p:cNvSpPr/>
            <p:nvPr/>
          </p:nvSpPr>
          <p:spPr>
            <a:xfrm>
              <a:off x="7380360" y="371628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34"/>
            <p:cNvGrpSpPr/>
            <p:nvPr/>
          </p:nvGrpSpPr>
          <p:grpSpPr>
            <a:xfrm>
              <a:off x="7506720" y="3767400"/>
              <a:ext cx="1386000" cy="830880"/>
              <a:chOff x="7506720" y="3767400"/>
              <a:chExt cx="1386000" cy="830880"/>
            </a:xfrm>
          </p:grpSpPr>
          <p:grpSp>
            <p:nvGrpSpPr>
              <p:cNvPr id="490" name="Group 35"/>
              <p:cNvGrpSpPr/>
              <p:nvPr/>
            </p:nvGrpSpPr>
            <p:grpSpPr>
              <a:xfrm>
                <a:off x="8029440" y="4090680"/>
                <a:ext cx="863280" cy="216000"/>
                <a:chOff x="8029440" y="4090680"/>
                <a:chExt cx="863280" cy="216000"/>
              </a:xfrm>
            </p:grpSpPr>
            <p:sp>
              <p:nvSpPr>
                <p:cNvPr id="491" name="Line 36"/>
                <p:cNvSpPr/>
                <p:nvPr/>
              </p:nvSpPr>
              <p:spPr>
                <a:xfrm>
                  <a:off x="8029440" y="422100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8029440" y="409068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38"/>
              <p:cNvGrpSpPr/>
              <p:nvPr/>
            </p:nvGrpSpPr>
            <p:grpSpPr>
              <a:xfrm>
                <a:off x="7506720" y="3767400"/>
                <a:ext cx="844560" cy="830880"/>
                <a:chOff x="7506720" y="3767400"/>
                <a:chExt cx="844560" cy="830880"/>
              </a:xfrm>
            </p:grpSpPr>
            <p:sp>
              <p:nvSpPr>
                <p:cNvPr id="494" name="Arc 39"/>
                <p:cNvSpPr/>
                <p:nvPr/>
              </p:nvSpPr>
              <p:spPr>
                <a:xfrm rot="6580800">
                  <a:off x="7606800" y="384948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40"/>
                <p:cNvGrpSpPr/>
                <p:nvPr/>
              </p:nvGrpSpPr>
              <p:grpSpPr>
                <a:xfrm>
                  <a:off x="8076240" y="4399560"/>
                  <a:ext cx="160560" cy="93960"/>
                  <a:chOff x="8076240" y="4399560"/>
                  <a:chExt cx="160560" cy="93960"/>
                </a:xfrm>
              </p:grpSpPr>
              <p:sp>
                <p:nvSpPr>
                  <p:cNvPr id="496" name="Line 41"/>
                  <p:cNvSpPr/>
                  <p:nvPr/>
                </p:nvSpPr>
                <p:spPr>
                  <a:xfrm flipH="1">
                    <a:off x="8076240" y="441576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2"/>
                  <p:cNvSpPr/>
                  <p:nvPr/>
                </p:nvSpPr>
                <p:spPr>
                  <a:xfrm>
                    <a:off x="8171640" y="439956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8" name="Rectangle 43"/>
          <p:cNvSpPr/>
          <p:nvPr/>
        </p:nvSpPr>
        <p:spPr>
          <a:xfrm>
            <a:off x="8054640" y="494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1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250920" y="1916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角可以分成哪几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68360" y="6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想一想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24000" y="3933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各类角有什么特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268720" cy="1886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2162160" cy="17766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025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481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127240" y="3068640"/>
            <a:ext cx="40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们的度数都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度，是直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944440" y="393372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一个直角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=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4000" y="47242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513" name="AutoShape 4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角的一半是直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729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5534280" y="7650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种角叫做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0" y="2852640"/>
            <a:ext cx="1015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因为它比较特殊，角的两边成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直线，它的度数刚好是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80 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244520" y="4869000"/>
            <a:ext cx="39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27120" y="2209680"/>
            <a:ext cx="7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574280" y="22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8:55:16Z</dcterms:created>
  <dc:creator>杨权贵</dc:creator>
  <dc:description/>
  <cp:keywords/>
  <dc:language>en-US</dc:language>
  <cp:lastModifiedBy>Administrator</cp:lastModifiedBy>
  <dcterms:modified xsi:type="dcterms:W3CDTF">2015-01-24T02:11:52Z</dcterms:modified>
  <cp:revision>47</cp:revision>
  <dc:subject/>
  <dc:title>角的分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