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42B9-3FFF-4843-86CF-6028F626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82A-9D6B-4B09-8442-0CD4C7D6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4A0-BA8A-4360-A54B-3169FB8D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431-16C2-4F53-9A4F-BE4F7DD8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4CB-8A7A-4BC6-92D6-43CBD264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4AD-DE49-4FB2-917A-8CA7C2AC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790-2EA2-467A-8063-8FF6C553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392-8F8B-47DD-847F-C3D8EED2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F4C-3071-4574-A418-25247FE6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533-6565-4302-9667-5998F84F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241-77AE-405B-9953-25D9EFF8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49D-35BE-4CFB-AC80-1F6924B5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564A-522A-4E49-BB1B-3220C91D0C50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hyperlink" Target="jddl_jddl.exe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2196720" y="1600200"/>
            <a:ext cx="4731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你能用量角器量出五角星的每个角是多少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度吗？你能画出一个五角星吗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581280" y="3124080"/>
            <a:ext cx="2743200" cy="2606760"/>
          </a:xfrm>
          <a:custGeom>
            <a:avLst/>
            <a:gdLst>
              <a:gd name="textAreaLeft" fmla="*/ 847800 w 2743200"/>
              <a:gd name="textAreaRight" fmla="*/ 1895400 w 2743200"/>
              <a:gd name="textAreaTop" fmla="*/ 995760 h 2606760"/>
              <a:gd name="textAreaBottom" fmla="*/ 1991520 h 2606760"/>
            </a:gdLst>
            <a:ahLst/>
            <a:rect l="textAreaLeft" t="textAreaTop" r="textAreaRight" b="textAreaBottom"/>
            <a:pathLst>
              <a:path w="2743200" h="2606675">
                <a:moveTo>
                  <a:pt x="3" y="995658"/>
                </a:moveTo>
                <a:lnTo>
                  <a:pt x="1047815" y="995666"/>
                </a:lnTo>
                <a:lnTo>
                  <a:pt x="1371600" y="0"/>
                </a:lnTo>
                <a:lnTo>
                  <a:pt x="1695385" y="995666"/>
                </a:lnTo>
                <a:lnTo>
                  <a:pt x="2743197" y="995658"/>
                </a:lnTo>
                <a:lnTo>
                  <a:pt x="1895496" y="1611006"/>
                </a:lnTo>
                <a:lnTo>
                  <a:pt x="2219296" y="2606666"/>
                </a:lnTo>
                <a:lnTo>
                  <a:pt x="1371600" y="1991309"/>
                </a:lnTo>
                <a:lnTo>
                  <a:pt x="523904" y="2606666"/>
                </a:lnTo>
                <a:lnTo>
                  <a:pt x="847704" y="16110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04912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>
            <a:off x="3124080" y="2797200"/>
            <a:ext cx="3581640" cy="0"/>
          </a:xfrm>
          <a:prstGeom prst="line">
            <a:avLst/>
          </a:prstGeom>
          <a:ln w="2844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929760" y="2887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无限长，没有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2110680" y="438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3048120" y="4648320"/>
            <a:ext cx="3733560" cy="152280"/>
            <a:chOff x="3048120" y="4648320"/>
            <a:chExt cx="3733560" cy="152280"/>
          </a:xfrm>
        </p:grpSpPr>
        <p:sp>
          <p:nvSpPr>
            <p:cNvPr id="47" name="Line 13"/>
            <p:cNvSpPr/>
            <p:nvPr/>
          </p:nvSpPr>
          <p:spPr>
            <a:xfrm>
              <a:off x="3124080" y="4724280"/>
              <a:ext cx="35816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8" name="Oval 14"/>
            <p:cNvSpPr/>
            <p:nvPr/>
          </p:nvSpPr>
          <p:spPr>
            <a:xfrm>
              <a:off x="66294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9" name="Oval 15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0" name="Text Box 16"/>
          <p:cNvSpPr/>
          <p:nvPr/>
        </p:nvSpPr>
        <p:spPr>
          <a:xfrm>
            <a:off x="4077720" y="4800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有限长，有两个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直线的一部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2895480" y="2286000"/>
            <a:ext cx="3581640" cy="152280"/>
            <a:chOff x="2895480" y="2286000"/>
            <a:chExt cx="3581640" cy="152280"/>
          </a:xfrm>
        </p:grpSpPr>
        <p:sp>
          <p:nvSpPr>
            <p:cNvPr id="53" name="Line 4"/>
            <p:cNvSpPr/>
            <p:nvPr/>
          </p:nvSpPr>
          <p:spPr>
            <a:xfrm>
              <a:off x="2971800" y="2362320"/>
              <a:ext cx="35053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4" name="Oval 5"/>
            <p:cNvSpPr/>
            <p:nvPr/>
          </p:nvSpPr>
          <p:spPr>
            <a:xfrm>
              <a:off x="2895480" y="2286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2629080" y="3048120"/>
            <a:ext cx="389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无限长，一个端点，是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的一部分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6" name="Picture 8" descr="a8"/>
          <p:cNvPicPr/>
          <p:nvPr/>
        </p:nvPicPr>
        <p:blipFill>
          <a:blip r:embed="rId2"/>
          <a:stretch/>
        </p:blipFill>
        <p:spPr>
          <a:xfrm>
            <a:off x="914400" y="358128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6"/>
          <p:cNvGrpSpPr/>
          <p:nvPr/>
        </p:nvGrpSpPr>
        <p:grpSpPr>
          <a:xfrm>
            <a:off x="1143000" y="1905120"/>
            <a:ext cx="6858000" cy="1753920"/>
            <a:chOff x="1143000" y="1905120"/>
            <a:chExt cx="6858000" cy="1753920"/>
          </a:xfrm>
        </p:grpSpPr>
        <p:grpSp>
          <p:nvGrpSpPr>
            <p:cNvPr id="59" name="Group 27"/>
            <p:cNvGrpSpPr/>
            <p:nvPr/>
          </p:nvGrpSpPr>
          <p:grpSpPr>
            <a:xfrm>
              <a:off x="1143000" y="1981080"/>
              <a:ext cx="760320" cy="1663560"/>
              <a:chOff x="1143000" y="1981080"/>
              <a:chExt cx="760320" cy="1663560"/>
            </a:xfrm>
          </p:grpSpPr>
          <p:sp>
            <p:nvSpPr>
              <p:cNvPr id="60" name="Line 3"/>
              <p:cNvSpPr/>
              <p:nvPr/>
            </p:nvSpPr>
            <p:spPr>
              <a:xfrm>
                <a:off x="1143000" y="1981080"/>
                <a:ext cx="685800" cy="76212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1" name="Text Box 21"/>
              <p:cNvSpPr/>
              <p:nvPr/>
            </p:nvSpPr>
            <p:spPr>
              <a:xfrm>
                <a:off x="13064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1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8"/>
            <p:cNvGrpSpPr/>
            <p:nvPr/>
          </p:nvGrpSpPr>
          <p:grpSpPr>
            <a:xfrm>
              <a:off x="2362320" y="1905120"/>
              <a:ext cx="838080" cy="1739520"/>
              <a:chOff x="2362320" y="1905120"/>
              <a:chExt cx="838080" cy="1739520"/>
            </a:xfrm>
          </p:grpSpPr>
          <p:sp>
            <p:nvSpPr>
              <p:cNvPr id="63" name="Line 4"/>
              <p:cNvSpPr/>
              <p:nvPr/>
            </p:nvSpPr>
            <p:spPr>
              <a:xfrm flipV="1">
                <a:off x="2438280" y="1905120"/>
                <a:ext cx="762120" cy="91440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4" name="Oval 13"/>
              <p:cNvSpPr/>
              <p:nvPr/>
            </p:nvSpPr>
            <p:spPr>
              <a:xfrm>
                <a:off x="23623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5" name="Text Box 22"/>
              <p:cNvSpPr/>
              <p:nvPr/>
            </p:nvSpPr>
            <p:spPr>
              <a:xfrm>
                <a:off x="260172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2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9"/>
            <p:cNvGrpSpPr/>
            <p:nvPr/>
          </p:nvGrpSpPr>
          <p:grpSpPr>
            <a:xfrm>
              <a:off x="3733920" y="1905120"/>
              <a:ext cx="761760" cy="1739520"/>
              <a:chOff x="3733920" y="1905120"/>
              <a:chExt cx="761760" cy="1739520"/>
            </a:xfrm>
          </p:grpSpPr>
          <p:sp>
            <p:nvSpPr>
              <p:cNvPr id="67" name="Line 5"/>
              <p:cNvSpPr/>
              <p:nvPr/>
            </p:nvSpPr>
            <p:spPr>
              <a:xfrm>
                <a:off x="3809880" y="1981080"/>
                <a:ext cx="609840" cy="83844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8" name="Oval 14"/>
              <p:cNvSpPr/>
              <p:nvPr/>
            </p:nvSpPr>
            <p:spPr>
              <a:xfrm>
                <a:off x="434340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9" name="Oval 15"/>
              <p:cNvSpPr/>
              <p:nvPr/>
            </p:nvSpPr>
            <p:spPr>
              <a:xfrm>
                <a:off x="3733920" y="190512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0" name="Text Box 23"/>
              <p:cNvSpPr/>
              <p:nvPr/>
            </p:nvSpPr>
            <p:spPr>
              <a:xfrm>
                <a:off x="3887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3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30"/>
            <p:cNvGrpSpPr/>
            <p:nvPr/>
          </p:nvGrpSpPr>
          <p:grpSpPr>
            <a:xfrm>
              <a:off x="5030640" y="1980720"/>
              <a:ext cx="608040" cy="1663920"/>
              <a:chOff x="5030640" y="1980720"/>
              <a:chExt cx="608040" cy="1663920"/>
            </a:xfrm>
          </p:grpSpPr>
          <p:cxnSp>
            <p:nvCxnSpPr>
              <p:cNvPr id="72" name="AutoShape 6"/>
              <p:cNvCxnSpPr/>
              <p:nvPr/>
            </p:nvCxnSpPr>
            <p:spPr>
              <a:xfrm rot="5400000">
                <a:off x="4990320" y="2171520"/>
                <a:ext cx="839160" cy="457920"/>
              </a:xfrm>
              <a:prstGeom prst="curvedConnector5">
                <a:avLst>
                  <a:gd name="adj1" fmla="val 50000"/>
                  <a:gd name="adj2" fmla="val 49960"/>
                  <a:gd name="adj3" fmla="val 50000"/>
                </a:avLst>
              </a:prstGeom>
              <a:ln w="28440">
                <a:solidFill>
                  <a:srgbClr val="002ec2"/>
                </a:solidFill>
                <a:miter/>
              </a:ln>
            </p:spPr>
          </p:cxnSp>
          <p:sp>
            <p:nvSpPr>
              <p:cNvPr id="73" name="Oval 16"/>
              <p:cNvSpPr/>
              <p:nvPr/>
            </p:nvSpPr>
            <p:spPr>
              <a:xfrm>
                <a:off x="51055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4" name="Text Box 24"/>
              <p:cNvSpPr/>
              <p:nvPr/>
            </p:nvSpPr>
            <p:spPr>
              <a:xfrm>
                <a:off x="5030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4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1"/>
            <p:cNvGrpSpPr/>
            <p:nvPr/>
          </p:nvGrpSpPr>
          <p:grpSpPr>
            <a:xfrm>
              <a:off x="6249960" y="1905120"/>
              <a:ext cx="596880" cy="1739520"/>
              <a:chOff x="6249960" y="1905120"/>
              <a:chExt cx="596880" cy="1739520"/>
            </a:xfrm>
          </p:grpSpPr>
          <p:sp>
            <p:nvSpPr>
              <p:cNvPr id="76" name="Line 7"/>
              <p:cNvSpPr/>
              <p:nvPr/>
            </p:nvSpPr>
            <p:spPr>
              <a:xfrm>
                <a:off x="6477120" y="1905120"/>
                <a:ext cx="0" cy="106668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24996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5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2"/>
            <p:cNvGrpSpPr/>
            <p:nvPr/>
          </p:nvGrpSpPr>
          <p:grpSpPr>
            <a:xfrm>
              <a:off x="7086600" y="2286000"/>
              <a:ext cx="914400" cy="1373040"/>
              <a:chOff x="7086600" y="2286000"/>
              <a:chExt cx="914400" cy="137304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7162920" y="2362320"/>
                <a:ext cx="83808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0" name="Oval 19"/>
              <p:cNvSpPr/>
              <p:nvPr/>
            </p:nvSpPr>
            <p:spPr>
              <a:xfrm>
                <a:off x="7086600" y="22860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1" name="Text Box 26"/>
              <p:cNvSpPr/>
              <p:nvPr/>
            </p:nvSpPr>
            <p:spPr>
              <a:xfrm>
                <a:off x="7392960" y="31384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6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Text Box 33"/>
          <p:cNvSpPr/>
          <p:nvPr/>
        </p:nvSpPr>
        <p:spPr>
          <a:xfrm>
            <a:off x="2407320" y="402912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2419200" y="464832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2413800" y="525780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3634200" y="1981080"/>
            <a:ext cx="23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从一点引出两条射线所组成的图形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叫做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3581280" y="2895480"/>
            <a:ext cx="3048120" cy="2057400"/>
            <a:chOff x="3581280" y="2895480"/>
            <a:chExt cx="3048120" cy="2057400"/>
          </a:xfrm>
        </p:grpSpPr>
        <p:sp>
          <p:nvSpPr>
            <p:cNvPr id="88" name="Line 11"/>
            <p:cNvSpPr/>
            <p:nvPr/>
          </p:nvSpPr>
          <p:spPr>
            <a:xfrm>
              <a:off x="3581280" y="4876920"/>
              <a:ext cx="30481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3581280" y="2895480"/>
              <a:ext cx="1981440" cy="198144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3581280" y="4800600"/>
              <a:ext cx="152640" cy="152280"/>
            </a:xfrm>
            <a:prstGeom prst="ellipse">
              <a:avLst/>
            </a:prstGeom>
            <a:solidFill>
              <a:srgbClr val="002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2843280" y="31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2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Object 23"/>
          <p:cNvGraphicFramePr/>
          <p:nvPr/>
        </p:nvGraphicFramePr>
        <p:xfrm>
          <a:off x="1905120" y="1752480"/>
          <a:ext cx="5790960" cy="40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23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752480"/>
                    <a:ext cx="57909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7"/>
          <p:cNvGrpSpPr/>
          <p:nvPr/>
        </p:nvGrpSpPr>
        <p:grpSpPr>
          <a:xfrm>
            <a:off x="3352680" y="1676160"/>
            <a:ext cx="2819520" cy="1524240"/>
            <a:chOff x="3352680" y="1676160"/>
            <a:chExt cx="2819520" cy="1524240"/>
          </a:xfrm>
        </p:grpSpPr>
        <p:sp>
          <p:nvSpPr>
            <p:cNvPr id="97" name="Line 29"/>
            <p:cNvSpPr/>
            <p:nvPr/>
          </p:nvSpPr>
          <p:spPr>
            <a:xfrm>
              <a:off x="3352680" y="3200400"/>
              <a:ext cx="28195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Line 30"/>
            <p:cNvSpPr/>
            <p:nvPr/>
          </p:nvSpPr>
          <p:spPr>
            <a:xfrm flipV="1">
              <a:off x="480060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Line 31"/>
            <p:cNvSpPr/>
            <p:nvPr/>
          </p:nvSpPr>
          <p:spPr>
            <a:xfrm flipV="1">
              <a:off x="4800600" y="1676160"/>
              <a:ext cx="0" cy="152388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 flipH="1" flipV="1">
              <a:off x="358092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Arc 33"/>
            <p:cNvSpPr/>
            <p:nvPr/>
          </p:nvSpPr>
          <p:spPr>
            <a:xfrm>
              <a:off x="5029200" y="2973240"/>
              <a:ext cx="152280" cy="22068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Arc 34"/>
            <p:cNvSpPr/>
            <p:nvPr/>
          </p:nvSpPr>
          <p:spPr>
            <a:xfrm>
              <a:off x="4494240" y="2743200"/>
              <a:ext cx="920880" cy="42552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5472000" y="265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487836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5" name="Text Box 38"/>
          <p:cNvSpPr/>
          <p:nvPr/>
        </p:nvSpPr>
        <p:spPr>
          <a:xfrm>
            <a:off x="2769480" y="367200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锐角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3004200" y="4510080"/>
            <a:ext cx="39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钝角大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0 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7" name="Picture 40" descr="a11"/>
          <p:cNvPicPr/>
          <p:nvPr/>
        </p:nvPicPr>
        <p:blipFill>
          <a:blip r:embed="rId2"/>
          <a:stretch/>
        </p:blipFill>
        <p:spPr>
          <a:xfrm>
            <a:off x="7238880" y="2362320"/>
            <a:ext cx="12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1517760" y="2771640"/>
            <a:ext cx="2749320" cy="533520"/>
            <a:chOff x="1517760" y="2771640"/>
            <a:chExt cx="2749320" cy="533520"/>
          </a:xfrm>
        </p:grpSpPr>
        <p:sp>
          <p:nvSpPr>
            <p:cNvPr id="110" name="Oval 4"/>
            <p:cNvSpPr/>
            <p:nvPr/>
          </p:nvSpPr>
          <p:spPr>
            <a:xfrm>
              <a:off x="1517760" y="277164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V="1">
              <a:off x="2050920" y="3044880"/>
              <a:ext cx="9720" cy="237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2" name="Line 3"/>
            <p:cNvSpPr/>
            <p:nvPr/>
          </p:nvSpPr>
          <p:spPr>
            <a:xfrm>
              <a:off x="1828800" y="3040200"/>
              <a:ext cx="243828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3" name="Text Box 5"/>
          <p:cNvSpPr/>
          <p:nvPr/>
        </p:nvSpPr>
        <p:spPr>
          <a:xfrm>
            <a:off x="1333800" y="3505320"/>
            <a:ext cx="452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6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一条射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绕它的端点旋转一周所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角叫做周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4" name="Picture 6" descr="a10"/>
          <p:cNvPicPr/>
          <p:nvPr/>
        </p:nvPicPr>
        <p:blipFill>
          <a:blip r:embed="rId2"/>
          <a:stretch/>
        </p:blipFill>
        <p:spPr>
          <a:xfrm>
            <a:off x="6324480" y="2438280"/>
            <a:ext cx="1306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226320" y="1600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、平角、钝角、直角、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7" name="Group 42"/>
          <p:cNvGrpSpPr/>
          <p:nvPr/>
        </p:nvGrpSpPr>
        <p:grpSpPr>
          <a:xfrm>
            <a:off x="1908000" y="1916280"/>
            <a:ext cx="5943600" cy="1815840"/>
            <a:chOff x="1908000" y="1916280"/>
            <a:chExt cx="5943600" cy="1815840"/>
          </a:xfrm>
        </p:grpSpPr>
        <p:sp>
          <p:nvSpPr>
            <p:cNvPr id="118" name="Line 41"/>
            <p:cNvSpPr/>
            <p:nvPr/>
          </p:nvSpPr>
          <p:spPr>
            <a:xfrm flipV="1">
              <a:off x="7093080" y="2900520"/>
              <a:ext cx="9360" cy="7128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119" name="Group 40"/>
            <p:cNvGrpSpPr/>
            <p:nvPr/>
          </p:nvGrpSpPr>
          <p:grpSpPr>
            <a:xfrm>
              <a:off x="1908000" y="1916280"/>
              <a:ext cx="5943600" cy="1815840"/>
              <a:chOff x="1908000" y="1916280"/>
              <a:chExt cx="5943600" cy="1815840"/>
            </a:xfrm>
          </p:grpSpPr>
          <p:sp>
            <p:nvSpPr>
              <p:cNvPr id="120" name="Line 39"/>
              <p:cNvSpPr/>
              <p:nvPr/>
            </p:nvSpPr>
            <p:spPr>
              <a:xfrm flipH="1">
                <a:off x="7480080" y="3068640"/>
                <a:ext cx="44280" cy="6192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21" name="Line 38"/>
              <p:cNvSpPr/>
              <p:nvPr/>
            </p:nvSpPr>
            <p:spPr>
              <a:xfrm>
                <a:off x="4683240" y="2689200"/>
                <a:ext cx="71280" cy="7308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grpSp>
            <p:nvGrpSpPr>
              <p:cNvPr id="122" name="Group 22"/>
              <p:cNvGrpSpPr/>
              <p:nvPr/>
            </p:nvGrpSpPr>
            <p:grpSpPr>
              <a:xfrm>
                <a:off x="1908000" y="1916280"/>
                <a:ext cx="5943600" cy="1815840"/>
                <a:chOff x="1908000" y="1916280"/>
                <a:chExt cx="5943600" cy="1815840"/>
              </a:xfrm>
            </p:grpSpPr>
            <p:sp>
              <p:nvSpPr>
                <p:cNvPr id="123" name="Line 5"/>
                <p:cNvSpPr/>
                <p:nvPr/>
              </p:nvSpPr>
              <p:spPr>
                <a:xfrm>
                  <a:off x="1908000" y="1916280"/>
                  <a:ext cx="0" cy="17524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6"/>
                <p:cNvSpPr/>
                <p:nvPr/>
              </p:nvSpPr>
              <p:spPr>
                <a:xfrm>
                  <a:off x="1908000" y="3668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7"/>
                <p:cNvSpPr/>
                <p:nvPr/>
              </p:nvSpPr>
              <p:spPr>
                <a:xfrm flipH="1" flipV="1">
                  <a:off x="1908000" y="2601360"/>
                  <a:ext cx="1371600" cy="10666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8"/>
                <p:cNvSpPr/>
                <p:nvPr/>
              </p:nvSpPr>
              <p:spPr>
                <a:xfrm>
                  <a:off x="4574880" y="2906640"/>
                  <a:ext cx="27432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9"/>
                <p:cNvSpPr/>
                <p:nvPr/>
              </p:nvSpPr>
              <p:spPr>
                <a:xfrm>
                  <a:off x="6860880" y="2220840"/>
                  <a:ext cx="990720" cy="144756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rc 11"/>
                <p:cNvSpPr/>
                <p:nvPr/>
              </p:nvSpPr>
              <p:spPr>
                <a:xfrm>
                  <a:off x="4349520" y="2682720"/>
                  <a:ext cx="457200" cy="4568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</a:path>
                    <a:path stroke="0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  <a:lnTo>
                        <a:pt x="21600" y="21600"/>
                      </a:lnTo>
                      <a:lnTo>
                        <a:pt x="43165" y="2037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rc 12"/>
                <p:cNvSpPr/>
                <p:nvPr/>
              </p:nvSpPr>
              <p:spPr>
                <a:xfrm>
                  <a:off x="7089480" y="2906640"/>
                  <a:ext cx="370080" cy="23148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fill="none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</a:path>
                    <a:path stroke="0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  <a:lnTo>
                        <a:pt x="21600" y="5239"/>
                      </a:lnTo>
                      <a:lnTo>
                        <a:pt x="34849" y="2229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rc 13"/>
                <p:cNvSpPr/>
                <p:nvPr/>
              </p:nvSpPr>
              <p:spPr>
                <a:xfrm>
                  <a:off x="7194240" y="2682720"/>
                  <a:ext cx="335160" cy="43956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</a:path>
                    <a:path stroke="0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  <a:lnTo>
                        <a:pt x="3546" y="21600"/>
                      </a:lnTo>
                      <a:lnTo>
                        <a:pt x="0" y="293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Text Box 15"/>
                <p:cNvSpPr/>
                <p:nvPr/>
              </p:nvSpPr>
              <p:spPr>
                <a:xfrm>
                  <a:off x="1909440" y="22208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1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16"/>
                <p:cNvSpPr/>
                <p:nvPr/>
              </p:nvSpPr>
              <p:spPr>
                <a:xfrm>
                  <a:off x="1909440" y="31352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Text Box 17"/>
                <p:cNvSpPr/>
                <p:nvPr/>
              </p:nvSpPr>
              <p:spPr>
                <a:xfrm>
                  <a:off x="2538000" y="32115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3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Text Box 18"/>
                <p:cNvSpPr/>
                <p:nvPr/>
              </p:nvSpPr>
              <p:spPr>
                <a:xfrm>
                  <a:off x="4804920" y="23731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4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Text Box 19"/>
                <p:cNvSpPr/>
                <p:nvPr/>
              </p:nvSpPr>
              <p:spPr>
                <a:xfrm>
                  <a:off x="6786360" y="24494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20"/>
                <p:cNvSpPr/>
                <p:nvPr/>
              </p:nvSpPr>
              <p:spPr>
                <a:xfrm>
                  <a:off x="6938640" y="2982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6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21"/>
                <p:cNvSpPr/>
                <p:nvPr/>
              </p:nvSpPr>
              <p:spPr>
                <a:xfrm>
                  <a:off x="7472160" y="2525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7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" name="Group 30"/>
          <p:cNvGrpSpPr/>
          <p:nvPr/>
        </p:nvGrpSpPr>
        <p:grpSpPr>
          <a:xfrm>
            <a:off x="1310760" y="3900600"/>
            <a:ext cx="7021080" cy="2120760"/>
            <a:chOff x="1310760" y="3900600"/>
            <a:chExt cx="7021080" cy="2120760"/>
          </a:xfrm>
        </p:grpSpPr>
        <p:sp>
          <p:nvSpPr>
            <p:cNvPr id="139" name="Text Box 23"/>
            <p:cNvSpPr/>
            <p:nvPr/>
          </p:nvSpPr>
          <p:spPr>
            <a:xfrm>
              <a:off x="1310760" y="397656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0" name="Text Box 24"/>
            <p:cNvSpPr/>
            <p:nvPr/>
          </p:nvSpPr>
          <p:spPr>
            <a:xfrm>
              <a:off x="1326600" y="47242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132660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4587480" y="39006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4603320" y="44434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4603320" y="49816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460332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46" name="Text Box 31"/>
          <p:cNvSpPr/>
          <p:nvPr/>
        </p:nvSpPr>
        <p:spPr>
          <a:xfrm>
            <a:off x="334440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336348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3344400" y="4662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直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6211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平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662112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周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6621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621120" y="49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00:53Z</dcterms:modified>
  <cp:revision>49</cp:revision>
  <dc:subject>第一PPT模板网-WWW.1PPT.COM</dc:subject>
  <dc:title>第一PPT模板网-WWW.1PPT.COM</dc:title>
</cp:coreProperties>
</file>