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type.wav" ContentType="audio/x-wav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D8D-45F7-422A-9322-CBDFC877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C95-9682-4F38-98DE-F2908D4F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4CA-1DC6-4073-BF08-2621BFF5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DF9-3BD3-4E9F-8CD8-E05D404A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ECF-0FD4-4DB9-8875-A1BABA3A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B52-66BA-477B-B16C-786C66CA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133-4578-4BA2-AB31-F9E38E03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F8F-7323-4E1F-9AB0-413F3464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CB8-4A5E-4CD5-BFB3-1AA555FB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4AA-A146-4788-B32E-AC82347D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274-649D-40CB-9F86-6094C558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37C-7B7B-446D-A12F-59CE3DEC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618-9C85-429D-A8D3-D669AFE8C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画家和牧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7238880" y="3124080"/>
          <a:ext cx="190512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124080"/>
                    <a:ext cx="19051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5"/>
          <p:cNvSpPr/>
          <p:nvPr/>
        </p:nvSpPr>
        <p:spPr>
          <a:xfrm>
            <a:off x="3200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581280" y="457200"/>
            <a:ext cx="3124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画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562720" y="4495680"/>
            <a:ext cx="1676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牧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638680" y="2819520"/>
            <a:ext cx="12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38920" y="381600"/>
            <a:ext cx="254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85800" y="685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斗牛图 拷贝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>
            <a:off x="6324480" y="17524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838080" y="17524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68360" y="1700280"/>
            <a:ext cx="468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灵活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来之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笔生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栩栩如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79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小女孩2"/>
          <p:cNvPicPr/>
          <p:nvPr/>
        </p:nvPicPr>
        <p:blipFill>
          <a:blip r:embed="rId2"/>
          <a:stretch/>
        </p:blipFill>
        <p:spPr>
          <a:xfrm>
            <a:off x="179280" y="11592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887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2360" y="404640"/>
            <a:ext cx="5184720" cy="1297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词语加油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532720" y="6524640"/>
            <a:ext cx="501840" cy="30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419720"/>
            <a:ext cx="9468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47628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观的人看了，   纷纷夸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得太像了，画得太像了，这真是绝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作！” 一位商人称赞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活了，画活了，只有神笔才能画出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画！”  一位教书先生赞扬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082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3984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24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5584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020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80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021200" y="209232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78600" y="38019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5270400"/>
            <a:ext cx="825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这里有三个表示同一个意思的词语，你发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斗牛图 拷贝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-152280" y="5022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638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活了，画活了，只有神笔才能画出这样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《画家和牧童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103480" y="148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42670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画错啦，画错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牧童挤进来喊着。这声音好像炸雷一样，大家一下子都呆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588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540400" y="1216080"/>
            <a:ext cx="219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牛尾巴画错了。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相斗的时候，全身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气都用在角上，尾巴是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后腿中间的。您画的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尾巴是翘起来的，那是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尾巴驱赶牛蝇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没见过两牛相斗的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3716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8960" y="373392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170028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嵩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0360" y="43657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心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名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042920" y="90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牧童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19280" y="4365720"/>
            <a:ext cx="75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于挑战权威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51280" y="17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观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97"/>
          <p:cNvPicPr/>
          <p:nvPr/>
        </p:nvPicPr>
        <p:blipFill>
          <a:blip r:embed="rId1"/>
          <a:srcRect l="0" t="48985" r="0" b="27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2133720" y="380880"/>
            <a:ext cx="6629400" cy="2210040"/>
          </a:xfrm>
          <a:prstGeom prst="cloudCallout">
            <a:avLst>
              <a:gd name="adj1" fmla="val -48944"/>
              <a:gd name="adj2" fmla="val 237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对戴嵩说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H="1" flipV="1">
            <a:off x="-720" y="2895480"/>
            <a:ext cx="6705720" cy="3657600"/>
          </a:xfrm>
          <a:prstGeom prst="cloudCallout">
            <a:avLst>
              <a:gd name="adj1" fmla="val -41810"/>
              <a:gd name="adj2" fmla="val 10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我想对牧童说</a:t>
            </a:r>
            <a:r>
              <a:rPr b="1" lang="en-US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8532720" y="6372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6320" y="15890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16002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戴嵩作为一名有名的大画家，仍能虚心接受别人的意见，小牧童虽小，却敢于向大画家提出意见，我们应该向他们学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7632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9480" y="1143000"/>
            <a:ext cx="6749640" cy="4572720"/>
            <a:chOff x="609480" y="1143000"/>
            <a:chExt cx="6749640" cy="4572720"/>
          </a:xfrm>
        </p:grpSpPr>
        <p:sp>
          <p:nvSpPr>
            <p:cNvPr id="141" name="WordArt 4"/>
            <p:cNvSpPr txBox="1"/>
            <p:nvPr/>
          </p:nvSpPr>
          <p:spPr>
            <a:xfrm>
              <a:off x="609480" y="1143000"/>
              <a:ext cx="1447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小知识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2210400" y="2209680"/>
              <a:ext cx="5148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我知道戴嵩特别喜欢牛，他画的牛跟真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样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牛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归牧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两幅名画，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戴嵩画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在我国现代画家中，不少人以画动物而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名，如，齐白石画虾，徐悲鸿画马，李苦蝉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他们画的动物栩栩如生，人们特别喜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6"/>
          <p:cNvSpPr txBox="1"/>
          <p:nvPr/>
        </p:nvSpPr>
        <p:spPr>
          <a:xfrm>
            <a:off x="3276720" y="69228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家和牧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jw_20064516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8600" y="5334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三牛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6162615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2280" y="53341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归牧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齐白石《虾趣图》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6004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齐白石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863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957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书法家，篆刻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徐悲鸿1940年的国画《群马》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8600" y="5911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悲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中国现代美术的奠基者，杰出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画家和美术教育家。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李苦禅的鹰10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2280" y="5791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李苦禅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生从事美术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和美术教育六十余载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黄胄《牧驴图》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28600" y="5715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黄胄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曾任中国画研究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副院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无标题4"/>
          <p:cNvPicPr/>
          <p:nvPr/>
        </p:nvPicPr>
        <p:blipFill>
          <a:blip r:embed="rId1"/>
          <a:stretch/>
        </p:blipFill>
        <p:spPr>
          <a:xfrm>
            <a:off x="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35760" y="654120"/>
            <a:ext cx="676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价钱  购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批评  惭愧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起  驱赶  牛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   惭    愧    抹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批    拱    购    翘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驱　蔼    蝇    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20145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的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挂出来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许多人观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08200" y="501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3760" y="3505320"/>
            <a:ext cx="83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画的人没有不点头称赞的，有钱的人还争着花大价钱购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mzxx101</cp:lastModifiedBy>
  <dcterms:modified xsi:type="dcterms:W3CDTF">2013-04-10T05:57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