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type.wav" ContentType="audio/x-wav"/>
  <Override PartName="/ppt/media/image10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8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76DE-0E28-41C0-BBC8-5DFE8887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C9A8-6020-494B-A4A4-96F6E1C1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8877-E770-4D9B-8F51-AB076CD1C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7950-31F0-4B76-ACF2-1F2554A66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6973-9804-439E-AB25-5409CB76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E248-EF8A-4BEE-ACD1-210AA812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85CF-BCC5-4B62-B82D-541485B2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21F2-3C1B-4E3A-9294-1DB78744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9304-5AB8-44E0-B5F1-6F0C632E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3EDE-9279-4467-9E6B-CF8EB412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7E34-C54A-4D08-9229-1C0247CA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70E4-D37F-4063-88F1-181324CC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5B3F-56EF-4AA5-B970-A3035B850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画家和牧童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Object 4"/>
          <p:cNvGraphicFramePr/>
          <p:nvPr/>
        </p:nvGraphicFramePr>
        <p:xfrm>
          <a:off x="7238880" y="3124080"/>
          <a:ext cx="1905120" cy="337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3124080"/>
                    <a:ext cx="1905120" cy="33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Text Box 5"/>
          <p:cNvSpPr/>
          <p:nvPr/>
        </p:nvSpPr>
        <p:spPr>
          <a:xfrm>
            <a:off x="3200400" y="7621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3581280" y="457200"/>
            <a:ext cx="31244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画家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5562720" y="4495680"/>
            <a:ext cx="167616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牧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7" name="WordArt 8"/>
          <p:cNvSpPr txBox="1"/>
          <p:nvPr/>
        </p:nvSpPr>
        <p:spPr>
          <a:xfrm>
            <a:off x="5638680" y="2819520"/>
            <a:ext cx="129564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和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3238920" y="381600"/>
            <a:ext cx="25455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一会儿浓墨涂抹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会儿轻笔细描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快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成了。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2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5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2422080" y="381600"/>
            <a:ext cx="41792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一会儿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浓墨涂抹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会儿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笔细描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快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成了。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685800" y="685080"/>
            <a:ext cx="34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浓墨涂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859280" y="692280"/>
            <a:ext cx="367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轻笔细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斗牛图 拷贝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81" name="Line 7"/>
          <p:cNvSpPr/>
          <p:nvPr/>
        </p:nvSpPr>
        <p:spPr>
          <a:xfrm flipH="1">
            <a:off x="6324480" y="1752480"/>
            <a:ext cx="76320" cy="838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9"/>
          <p:cNvSpPr/>
          <p:nvPr/>
        </p:nvSpPr>
        <p:spPr>
          <a:xfrm flipH="1">
            <a:off x="838080" y="1752480"/>
            <a:ext cx="137160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2268360" y="1700280"/>
            <a:ext cx="4680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灵活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来之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妙笔生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惟妙惟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栩栩如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879480" y="843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小女孩2"/>
          <p:cNvPicPr/>
          <p:nvPr/>
        </p:nvPicPr>
        <p:blipFill>
          <a:blip r:embed="rId2"/>
          <a:stretch/>
        </p:blipFill>
        <p:spPr>
          <a:xfrm>
            <a:off x="179280" y="115920"/>
            <a:ext cx="1343160" cy="1714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188748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1692360" y="404640"/>
            <a:ext cx="5184720" cy="12970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词语加油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8532720" y="6524640"/>
            <a:ext cx="501840" cy="3078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2422080" y="381600"/>
            <a:ext cx="41792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一会儿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浓墨涂抹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会儿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笔细描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快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成了。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4419720"/>
            <a:ext cx="946800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3480" indent="-663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一会儿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一会儿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1762560" y="692280"/>
            <a:ext cx="536760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画图画时，我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语文课上，我们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感冒了，妈妈很着急，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258920" y="476280"/>
            <a:ext cx="691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围观的人看了，   纷纷夸赞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得太像了，画得太像了，这真是绝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作！” 一位商人称赞道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活了，画活了，只有神笔才能画出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样的画！”  一位教书先生赞扬道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608200" y="465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239840" y="5156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824200" y="4869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455840" y="50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040200" y="50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4788000" y="38088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夸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4021200" y="2092320"/>
            <a:ext cx="11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称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5178600" y="3801960"/>
            <a:ext cx="12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赞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539640" y="5270400"/>
            <a:ext cx="82519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这里有三个表示同一个意思的词语，你发现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斗牛图 拷贝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-152280" y="502200"/>
            <a:ext cx="975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画得太像了，画得太像了，这真是绝妙之作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0" y="56386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画活了，画活了，只有神笔才能画出这样的画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《画家和牧童》插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"/>
          <p:cNvSpPr/>
          <p:nvPr/>
        </p:nvSpPr>
        <p:spPr>
          <a:xfrm>
            <a:off x="2103480" y="148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762120" y="4267080"/>
            <a:ext cx="77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隶书"/>
                <a:ea typeface="隶书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画错啦，画错啦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一个牧童挤进来喊着。这声音好像炸雷一样，大家一下子都呆住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3"/>
          <p:cNvPicPr/>
          <p:nvPr/>
        </p:nvPicPr>
        <p:blipFill>
          <a:blip r:embed="rId1"/>
          <a:stretch/>
        </p:blipFill>
        <p:spPr>
          <a:xfrm>
            <a:off x="0" y="476280"/>
            <a:ext cx="4716360" cy="5884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5540400" y="1216080"/>
            <a:ext cx="21924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这牛尾巴画错了。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牛相斗的时候，全身的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气都用在角上，尾巴是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在后腿中间的。您画的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尾巴是翘起来的，那是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用尾巴驱赶牛蝇的样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您没见过两牛相斗的情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吧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4481640" y="1556640"/>
            <a:ext cx="18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910080" y="203040"/>
            <a:ext cx="472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sōnɡ      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ku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ì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戴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嵩     惭 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1258920" y="5084640"/>
            <a:ext cx="62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yí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ɡ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      ǎi      ji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蝇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蔼     价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1258920" y="3573360"/>
            <a:ext cx="6121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ɡòu        qiào        q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购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买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翘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来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1258920" y="1773360"/>
            <a:ext cx="619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ò   mǒ     pī     ɡǒn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墨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涂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抹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批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2351880" y="1371600"/>
            <a:ext cx="459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和蔼地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很愿意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2351880" y="1371600"/>
            <a:ext cx="459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和蔼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很愿意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2351880" y="1371600"/>
            <a:ext cx="459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和蔼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很愿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2328120" y="476280"/>
            <a:ext cx="459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和蔼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很愿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990720" y="3716280"/>
            <a:ext cx="7696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戴嵩听了，感到非常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愧。他连连拱手说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多谢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的指教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2328120" y="476280"/>
            <a:ext cx="459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和蔼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很愿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118960" y="3733920"/>
            <a:ext cx="4658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戴嵩听了，感到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非常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愧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。他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连连拱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多谢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的指教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1258920" y="170028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戴嵩是一个（            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700360" y="4365720"/>
            <a:ext cx="554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虚心的画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471840" y="292428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著名的画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1042920" y="90792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牧童是一个（            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619280" y="4365720"/>
            <a:ext cx="75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敢于挑战权威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孩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3471840" y="292428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勇敢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孩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851280" y="177336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善于观察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孩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0097"/>
          <p:cNvPicPr/>
          <p:nvPr/>
        </p:nvPicPr>
        <p:blipFill>
          <a:blip r:embed="rId1"/>
          <a:srcRect l="0" t="48985" r="0" b="276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3"/>
          <p:cNvSpPr/>
          <p:nvPr/>
        </p:nvSpPr>
        <p:spPr>
          <a:xfrm>
            <a:off x="2133720" y="380880"/>
            <a:ext cx="6629400" cy="2210040"/>
          </a:xfrm>
          <a:prstGeom prst="cloudCallout">
            <a:avLst>
              <a:gd name="adj1" fmla="val -48944"/>
              <a:gd name="adj2" fmla="val 2377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我想对戴嵩说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 flipH="1" flipV="1">
            <a:off x="-720" y="2895480"/>
            <a:ext cx="6705720" cy="3657600"/>
          </a:xfrm>
          <a:prstGeom prst="cloudCallout">
            <a:avLst>
              <a:gd name="adj1" fmla="val -41810"/>
              <a:gd name="adj2" fmla="val 1002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0033"/>
                </a:solidFill>
                <a:latin typeface="华文新魏"/>
                <a:ea typeface="华文新魏"/>
              </a:rPr>
              <a:t>我想对牧童说</a:t>
            </a:r>
            <a:r>
              <a:rPr b="1" lang="en-US" sz="72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…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8532720" y="6372360"/>
            <a:ext cx="36036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0" y="69840"/>
            <a:ext cx="9144000" cy="67881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976320" y="158904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066680" y="1600200"/>
            <a:ext cx="741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戴嵩作为一名有名的大画家，仍能虚心接受别人的意见，小牧童虽小，却敢于向大画家提出意见，我们应该向他们学习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-76320" y="11160"/>
            <a:ext cx="9144000" cy="684684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3"/>
          <p:cNvGrpSpPr/>
          <p:nvPr/>
        </p:nvGrpSpPr>
        <p:grpSpPr>
          <a:xfrm>
            <a:off x="609480" y="1143000"/>
            <a:ext cx="6749640" cy="4572720"/>
            <a:chOff x="609480" y="1143000"/>
            <a:chExt cx="6749640" cy="4572720"/>
          </a:xfrm>
        </p:grpSpPr>
        <p:sp>
          <p:nvSpPr>
            <p:cNvPr id="141" name="WordArt 4"/>
            <p:cNvSpPr txBox="1"/>
            <p:nvPr/>
          </p:nvSpPr>
          <p:spPr>
            <a:xfrm>
              <a:off x="609480" y="1143000"/>
              <a:ext cx="14479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宋体"/>
                </a:rPr>
                <a:t>小知识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  <p:sp>
          <p:nvSpPr>
            <p:cNvPr id="142" name="Text Box 5"/>
            <p:cNvSpPr/>
            <p:nvPr/>
          </p:nvSpPr>
          <p:spPr>
            <a:xfrm>
              <a:off x="2210400" y="2209680"/>
              <a:ext cx="51487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我知道戴嵩特别喜欢牛，他画的牛跟真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一样。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《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三牛图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》《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归牧图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》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这两幅名画，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是戴嵩画的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在我国现代画家中，不少人以画动物而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名，如，齐白石画虾，徐悲鸿画马，李苦蝉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鹰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…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他们画的动物栩栩如生，人们特别喜爱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WordArt 6"/>
          <p:cNvSpPr txBox="1"/>
          <p:nvPr/>
        </p:nvSpPr>
        <p:spPr>
          <a:xfrm>
            <a:off x="3276720" y="692280"/>
            <a:ext cx="2819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画家和牧童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481640" y="1556640"/>
            <a:ext cx="18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910080" y="203040"/>
            <a:ext cx="472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sōnɡ      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ku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ì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戴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嵩     惭 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258920" y="5084640"/>
            <a:ext cx="62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yí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ɡ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      ǎi      ji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蝇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蔼     价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258920" y="3573360"/>
            <a:ext cx="6121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ɡòu        qiào        q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购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买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翘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来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258920" y="1773360"/>
            <a:ext cx="619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ò   mǒ     pī     ɡǒn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墨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涂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抹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批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shjw_20064516352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228600" y="53341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三牛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2005616162615989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152280" y="533412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归牧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齐白石《虾趣图》4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152280" y="60040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齐白石：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  <a:ea typeface="幼圆"/>
              </a:rPr>
              <a:t>1863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  <a:ea typeface="幼圆"/>
              </a:rPr>
              <a:t>1957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。现代杰出画家，书法家，篆刻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徐悲鸿1940年的国画《群马》"/>
          <p:cNvPicPr/>
          <p:nvPr/>
        </p:nvPicPr>
        <p:blipFill>
          <a:blip r:embed="rId1"/>
          <a:stretch/>
        </p:blipFill>
        <p:spPr>
          <a:xfrm>
            <a:off x="1523880" y="0"/>
            <a:ext cx="6019920" cy="5867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228600" y="59119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徐悲鸿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</a:rPr>
              <a:t>：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</a:rPr>
              <a:t>1895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</a:rPr>
              <a:t>195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。中国现代美术的奠基者，杰出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画家和美术教育家。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李苦禅的鹰10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152280" y="57913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李苦禅：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</a:rPr>
              <a:t>1898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</a:rPr>
              <a:t>198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现代杰出画家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生从事美术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作和美术教育六十余载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 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黄胄《牧驴图》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228600" y="5715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黄胄：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92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997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。现代杰出画家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曾任中国画研究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副院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无标题4"/>
          <p:cNvPicPr/>
          <p:nvPr/>
        </p:nvPicPr>
        <p:blipFill>
          <a:blip r:embed="rId1"/>
          <a:stretch/>
        </p:blipFill>
        <p:spPr>
          <a:xfrm>
            <a:off x="0" y="-3160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4481640" y="1556640"/>
            <a:ext cx="18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535760" y="654120"/>
            <a:ext cx="6764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著名  价钱  购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蔼  批评  惭愧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翘起  驱赶  牛蝇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戴    惭    愧    抹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批    拱    购    翘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驱　蔼    蝇    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2313360" y="76500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戴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443320" y="37893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4923360" y="3429000"/>
            <a:ext cx="1643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带雨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带水彩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4996440" y="333360"/>
            <a:ext cx="1643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戴帽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戴红领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 flipV="1">
            <a:off x="3708360" y="838080"/>
            <a:ext cx="72072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>
            <a:off x="3708360" y="1557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 flipV="1">
            <a:off x="3780000" y="3862080"/>
            <a:ext cx="72072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3780000" y="4581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7983360" y="60260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914400" y="201456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唐朝有一位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著名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的画家叫戴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0" y="6858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Times New Roman"/>
                <a:ea typeface="隶书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他的画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挂出来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就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有许多人观赏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808200" y="501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83760" y="3505320"/>
            <a:ext cx="839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　　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　　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就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　　　　　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看画的人没有不点头称赞的，有钱的人还争着花大价钱购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mzxx101</cp:lastModifiedBy>
  <dcterms:modified xsi:type="dcterms:W3CDTF">2013-04-10T05:57:3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